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63F4-A537-426D-8DF0-D275EC589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E91C-924E-4076-8E5B-7B9462FC7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8FEF-FE57-4C69-9BAB-E21DF00CE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2B20-B0BF-44ED-B4C8-0958FEEA1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08699-D84F-4AA0-BF0D-62AC21372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DB91A-6B47-4B52-A581-4E95A3E47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13D7B-9BB5-40E1-8611-145A59C75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16569-16DB-4BF0-9DE2-924972616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B81BE-A6CE-4F3E-9803-4E33AFDB6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81EA2-FF66-4E2E-93F1-46886D9E4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FFB86-F95C-4023-95A5-4C4A2D2B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E4C1-2B55-46F9-BF92-FD557C350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6566B-8878-499D-BEDD-946DBF90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CE6CE-2A85-4C7F-9660-FA39B3BA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5C8BA-4FCB-448D-9BF2-1946EF4BB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56114-A56D-4503-B488-A286E6E33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7C9C1-41D9-48C8-BBEB-6FACEC8A7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3BC0-0815-4990-AEFD-4694D8E3A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50EC-FCEB-442A-8981-A40C69F11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34A8-9EB2-4AAC-8646-50D2FB355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B02C-4C5E-41C7-BDC4-9E3912C08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F1B3-84B4-434E-9FBD-CFC76A4D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0639-D40C-4BB1-BAC1-644E44A1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8DD3-16BE-4062-BDAC-A44AF6AD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14AFB-1093-4ABB-B6E1-8DE81D8D41D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234A7-4CD3-4841-8148-85365E0B3C4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10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slide" Target="slide11.xml"/><Relationship Id="rId9" Type="http://schemas.openxmlformats.org/officeDocument/2006/relationships/slide" Target="slide11.xml"/><Relationship Id="rId10" Type="http://schemas.openxmlformats.org/officeDocument/2006/relationships/slide" Target="slide13.xml"/><Relationship Id="rId11" Type="http://schemas.openxmlformats.org/officeDocument/2006/relationships/slide" Target="slide16.xml"/><Relationship Id="rId12" Type="http://schemas.openxmlformats.org/officeDocument/2006/relationships/image" Target="../media/image22.png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1.xml"/><Relationship Id="rId5" Type="http://schemas.openxmlformats.org/officeDocument/2006/relationships/slide" Target="slide11.xml"/><Relationship Id="rId6" Type="http://schemas.openxmlformats.org/officeDocument/2006/relationships/slide" Target="slide12.xml"/><Relationship Id="rId7" Type="http://schemas.openxmlformats.org/officeDocument/2006/relationships/slide" Target="slide12.xml"/><Relationship Id="rId8" Type="http://schemas.openxmlformats.org/officeDocument/2006/relationships/slide" Target="slide12.xml"/><Relationship Id="rId9" Type="http://schemas.openxmlformats.org/officeDocument/2006/relationships/hyperlink" Target="http://www.21ph.com/plants/h2/049.htm" TargetMode="External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www.21ph.com/plants/h2/049.htm" TargetMode="External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038" descr=""/>
          <p:cNvPicPr/>
          <p:nvPr/>
        </p:nvPicPr>
        <p:blipFill>
          <a:blip r:embed="rId1"/>
          <a:stretch/>
        </p:blipFill>
        <p:spPr>
          <a:xfrm>
            <a:off x="-304920" y="-22320"/>
            <a:ext cx="9448920" cy="68724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828800" y="1600200"/>
            <a:ext cx="6781680" cy="23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</a:rPr>
              <a:t>豪杰交游满天下，逢凶化吉天生成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</a:rPr>
              <a:t>————</a:t>
            </a:r>
            <a:r>
              <a:rPr b="0" lang="zh-CN" sz="6000" spc="-1" strike="noStrike">
                <a:solidFill>
                  <a:srgbClr val="ffffff"/>
                </a:solidFill>
                <a:latin typeface="Times New Roman"/>
              </a:rPr>
              <a:t>《水浒传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你好，山泉姐姐！你捧一面明镜照我，是要照出我的浑浊吗？你好，溪流妹妹！你吟着一首小诗，是邀我与你唱和吗？你好，白云大嫂！月亮的好女儿，天空的好护士，你洁白的身影，让憔悴的天空返老还童，露出湛蓝的笑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F143" descr=""/>
          <p:cNvPicPr/>
          <p:nvPr/>
        </p:nvPicPr>
        <p:blipFill>
          <a:blip r:embed="rId1"/>
          <a:stretch/>
        </p:blipFill>
        <p:spPr>
          <a:xfrm>
            <a:off x="5587920" y="2057400"/>
            <a:ext cx="3556080" cy="4800600"/>
          </a:xfrm>
          <a:prstGeom prst="rect">
            <a:avLst/>
          </a:prstGeom>
          <a:ln w="0">
            <a:noFill/>
          </a:ln>
        </p:spPr>
      </p:pic>
      <p:pic>
        <p:nvPicPr>
          <p:cNvPr id="121" name="F146" descr=""/>
          <p:cNvPicPr/>
          <p:nvPr/>
        </p:nvPicPr>
        <p:blipFill>
          <a:blip r:embed="rId2"/>
          <a:stretch/>
        </p:blipFill>
        <p:spPr>
          <a:xfrm>
            <a:off x="0" y="2209680"/>
            <a:ext cx="5638680" cy="16002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042" descr=""/>
          <p:cNvPicPr/>
          <p:nvPr/>
        </p:nvPicPr>
        <p:blipFill>
          <a:blip r:embed="rId3"/>
          <a:stretch/>
        </p:blipFill>
        <p:spPr>
          <a:xfrm>
            <a:off x="0" y="3809880"/>
            <a:ext cx="5649840" cy="30481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fengjing189" descr=""/>
          <p:cNvPicPr/>
          <p:nvPr/>
        </p:nvPicPr>
        <p:blipFill>
          <a:blip r:embed="rId1"/>
          <a:stretch/>
        </p:blipFill>
        <p:spPr>
          <a:xfrm>
            <a:off x="6705720" y="0"/>
            <a:ext cx="243828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057400" y="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你好，瀑布大哥！雄浑的男高音，纯粹的歌唱家，不拉赞助，不收门票，天生的金嗓子，从古唱到今。你好呀，悬崖爷爷！高高的额头，刻着玄奥的智慧，深深的峡谷漾着清澈的禅心，抬头望你，我就想起了历代的隐士和高僧，你也是一位无言的禅者，云雾携来一卷卷天书，可是出自你的手笔？喂，云雀弟弟，叽叽喳喳说些什么。我知道你们是些纯洁少年，从来不说是非，你们津津乐道的，都是飞行中看到的好风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F267" descr=""/>
          <p:cNvPicPr/>
          <p:nvPr/>
        </p:nvPicPr>
        <p:blipFill>
          <a:blip r:embed="rId2"/>
          <a:stretch/>
        </p:blipFill>
        <p:spPr>
          <a:xfrm>
            <a:off x="0" y="0"/>
            <a:ext cx="198108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4572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捧起一块石头，轻轻敲击，我听见远古火山爆发的声浪，我听见时间的隆隆回声，拾一片落叶，细数精致的纹理，那都是命运神秘的手相，在它走向泥土的途中，我加入了这短暂而别有深意的仪式，采一朵小花，插上我的头发，此刻就我一人，花不会笑我，鸟不会羞我，在无人的山谷，我头戴鲜花，眼含柔情，悄悄地做了一会儿女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067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886200" y="23842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忽然下起雷阵雨，像有一千个侠客在天上吼叫，又像有一千个喝醉了酒的诗人在云头朗诵，又感动人又有些吓人。赶快跑到一棵老柏树下，慈祥的老柏树立即撑起了大伞。满世界都是雨，惟站立的地方没有雨，却成看雨的好地方，谁能说这不是天地给我的恩泽？俯身凝神，才发现许多蚂蚁也在树下避雨，用手捧起几只蚂蚁，好不动情，蚂蚁，我的小弟弟，茫茫天地间，我们有缘分，也做了一回患难兄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073" descr=""/>
          <p:cNvPicPr/>
          <p:nvPr/>
        </p:nvPicPr>
        <p:blipFill>
          <a:blip r:embed="rId1"/>
          <a:stretch/>
        </p:blipFill>
        <p:spPr>
          <a:xfrm>
            <a:off x="0" y="2286000"/>
            <a:ext cx="3809880" cy="4572000"/>
          </a:xfrm>
          <a:prstGeom prst="rect">
            <a:avLst/>
          </a:prstGeom>
          <a:ln w="0">
            <a:noFill/>
          </a:ln>
        </p:spPr>
      </p:pic>
      <p:pic>
        <p:nvPicPr>
          <p:cNvPr id="132" name="F259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2813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nk12-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0" y="260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260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60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88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288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362320" y="0"/>
            <a:ext cx="64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雨停了，幽谷里传出几声犬吠，云岭上掠过一群归鸟，我也该回家了，于是，我轻轻地招手，告别了山里的众朋友，带回了满怀的好心情，好记忆，顺便还带回了一路的月色…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Z170" descr=""/>
          <p:cNvPicPr/>
          <p:nvPr/>
        </p:nvPicPr>
        <p:blipFill>
          <a:blip r:embed="rId2"/>
          <a:stretch/>
        </p:blipFill>
        <p:spPr>
          <a:xfrm>
            <a:off x="0" y="0"/>
            <a:ext cx="2286000" cy="18288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-1603440" y="45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-1603440" y="45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61920" y="449280"/>
            <a:ext cx="5813280" cy="5922720"/>
            <a:chOff x="61920" y="449280"/>
            <a:chExt cx="5813280" cy="5922720"/>
          </a:xfrm>
        </p:grpSpPr>
        <p:grpSp>
          <p:nvGrpSpPr>
            <p:cNvPr id="144" name=""/>
            <p:cNvGrpSpPr/>
            <p:nvPr/>
          </p:nvGrpSpPr>
          <p:grpSpPr>
            <a:xfrm>
              <a:off x="66600" y="453960"/>
              <a:ext cx="5803920" cy="5913360"/>
              <a:chOff x="66600" y="453960"/>
              <a:chExt cx="5803920" cy="5913360"/>
            </a:xfrm>
          </p:grpSpPr>
          <p:sp>
            <p:nvSpPr>
              <p:cNvPr id="145" name=""/>
              <p:cNvSpPr/>
              <p:nvPr/>
            </p:nvSpPr>
            <p:spPr>
              <a:xfrm>
                <a:off x="66600" y="453960"/>
                <a:ext cx="5803920" cy="591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zh-CN" sz="372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zh-CN" sz="10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6600" y="453960"/>
                <a:ext cx="5803920" cy="591336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61920" y="449280"/>
              <a:ext cx="5813280" cy="5922720"/>
            </a:xfrm>
            <a:prstGeom prst="rect">
              <a:avLst/>
            </a:prstGeom>
            <a:noFill/>
            <a:ln cap="sq"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8" name="05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zrfj0030" descr="zrfj003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作者在山中拜访了哪些“朋友”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?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古桥——树林——山泉——小溪——白云——瀑布——悬崖——云雀——石头——落叶——小花——阵雨——老柏树——蚂蚁——归鸟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164_jpg" descr=""/>
          <p:cNvPicPr/>
          <p:nvPr/>
        </p:nvPicPr>
        <p:blipFill>
          <a:blip r:embed="rId2"/>
          <a:stretch/>
        </p:blipFill>
        <p:spPr>
          <a:xfrm>
            <a:off x="8286840" y="5715000"/>
            <a:ext cx="857160" cy="1143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zrfj0030" descr="zrfj003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057400" y="1828800"/>
            <a:ext cx="4952880" cy="62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ff0000"/>
                </a:solidFill>
                <a:uFillTx/>
                <a:latin typeface="Times New Roman"/>
                <a:hlinkClick r:id="rId2" action="ppaction://hlinksldjump"/>
              </a:rPr>
              <a:t>老桥</a:t>
            </a:r>
            <a:r>
              <a:rPr b="0" lang="zh-CN" sz="3600" spc="-1" strike="noStrike">
                <a:solidFill>
                  <a:srgbClr val="ffcc00"/>
                </a:solidFill>
                <a:latin typeface="Times New Roman"/>
              </a:rPr>
              <a:t>——老朋友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ff0000"/>
                </a:solidFill>
                <a:uFillTx/>
                <a:latin typeface="Times New Roman"/>
                <a:hlinkClick r:id="rId3" action="ppaction://hlinksldjump"/>
              </a:rPr>
              <a:t>树</a:t>
            </a:r>
            <a:r>
              <a:rPr b="0" lang="zh-CN" sz="3600" spc="-1" strike="noStrike">
                <a:solidFill>
                  <a:srgbClr val="ffcc00"/>
                </a:solidFill>
                <a:latin typeface="Times New Roman"/>
              </a:rPr>
              <a:t>——知己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ff0000"/>
                </a:solidFill>
                <a:uFillTx/>
                <a:latin typeface="Times New Roman"/>
                <a:hlinkClick r:id="rId4" action="ppaction://hlinksldjump"/>
              </a:rPr>
              <a:t>山泉</a:t>
            </a:r>
            <a:r>
              <a:rPr b="0" lang="zh-CN" sz="3600" spc="-1" strike="noStrike">
                <a:solidFill>
                  <a:srgbClr val="ffcc00"/>
                </a:solidFill>
                <a:latin typeface="Times New Roman"/>
              </a:rPr>
              <a:t>——姐姐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ff0000"/>
                </a:solidFill>
                <a:uFillTx/>
                <a:latin typeface="Times New Roman"/>
                <a:hlinkClick r:id="rId5" action="ppaction://hlinksldjump"/>
              </a:rPr>
              <a:t>溪流</a:t>
            </a:r>
            <a:r>
              <a:rPr b="0" lang="zh-CN" sz="3600" spc="-1" strike="noStrike">
                <a:solidFill>
                  <a:srgbClr val="ffcc00"/>
                </a:solidFill>
                <a:latin typeface="Times New Roman"/>
              </a:rPr>
              <a:t>——妹妹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ff0000"/>
                </a:solidFill>
                <a:uFillTx/>
                <a:latin typeface="Times New Roman"/>
                <a:hlinkClick r:id="rId6" action="ppaction://hlinksldjump"/>
              </a:rPr>
              <a:t>白云</a:t>
            </a:r>
            <a:r>
              <a:rPr b="0" lang="zh-CN" sz="3600" spc="-1" strike="noStrike">
                <a:solidFill>
                  <a:srgbClr val="ffcc00"/>
                </a:solidFill>
                <a:latin typeface="Times New Roman"/>
              </a:rPr>
              <a:t>——大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ff0000"/>
                </a:solidFill>
                <a:uFillTx/>
                <a:latin typeface="Times New Roman"/>
                <a:hlinkClick r:id="rId7" action="ppaction://hlinksldjump"/>
              </a:rPr>
              <a:t>瀑布</a:t>
            </a:r>
            <a:r>
              <a:rPr b="0" lang="zh-CN" sz="3600" spc="-1" strike="noStrike">
                <a:solidFill>
                  <a:srgbClr val="ffcc00"/>
                </a:solidFill>
                <a:latin typeface="Times New Roman"/>
              </a:rPr>
              <a:t>——大哥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ff0000"/>
                </a:solidFill>
                <a:uFillTx/>
                <a:latin typeface="Times New Roman"/>
                <a:hlinkClick r:id="rId8" action="ppaction://hlinksldjump"/>
              </a:rPr>
              <a:t>悬崖</a:t>
            </a:r>
            <a:r>
              <a:rPr b="0" lang="zh-CN" sz="3600" spc="-1" strike="noStrike">
                <a:solidFill>
                  <a:srgbClr val="ffcc00"/>
                </a:solidFill>
                <a:latin typeface="Times New Roman"/>
              </a:rPr>
              <a:t>——爷爷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ff0000"/>
                </a:solidFill>
                <a:uFillTx/>
                <a:latin typeface="Times New Roman"/>
                <a:hlinkClick r:id="rId9" action="ppaction://hlinksldjump"/>
              </a:rPr>
              <a:t>云雀</a:t>
            </a:r>
            <a:r>
              <a:rPr b="0" lang="zh-CN" sz="3600" spc="-1" strike="noStrike">
                <a:solidFill>
                  <a:srgbClr val="ffcc00"/>
                </a:solidFill>
                <a:latin typeface="Times New Roman"/>
              </a:rPr>
              <a:t>——弟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ff0000"/>
                </a:solidFill>
                <a:uFillTx/>
                <a:latin typeface="Times New Roman"/>
                <a:hlinkClick r:id="rId10" action="ppaction://hlinksldjump"/>
              </a:rPr>
              <a:t>蚂蚁</a:t>
            </a:r>
            <a:r>
              <a:rPr b="0" lang="zh-CN" sz="3600" spc="-1" strike="noStrike">
                <a:solidFill>
                  <a:srgbClr val="ffcc00"/>
                </a:solidFill>
                <a:latin typeface="Times New Roman"/>
              </a:rPr>
              <a:t>——小弟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151_jpg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7391520" y="5686560"/>
            <a:ext cx="1562040" cy="11714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037600" y="720720"/>
            <a:ext cx="458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作者是如何称呼这些朋友的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304920"/>
            <a:ext cx="9144000" cy="70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古桥——德高望重——古老而坚韧的灵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树林——知己——我变成了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Times New Roman"/>
                <a:hlinkClick r:id="rId1" action="ppaction://hlinksldjump"/>
              </a:rPr>
              <a:t>山泉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——姐姐——照出我的浑浊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Times New Roman"/>
                <a:hlinkClick r:id="rId2" action="ppaction://hlinksldjump"/>
              </a:rPr>
              <a:t>小溪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——妹妹—一唱和小诗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白云——大嫂——天空的护士，使天空返老还童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Times New Roman"/>
                <a:hlinkClick r:id="rId3" action="ppaction://hlinksldjump"/>
              </a:rPr>
              <a:t>瀑布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—一—大哥一一天生金嗓子，无回报地从古唱到今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Times New Roman"/>
                <a:hlinkClick r:id="rId4" action="ppaction://hlinksldjump"/>
              </a:rPr>
              <a:t>悬崖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—一爷爷一一给人清净、无杂念的心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Times New Roman"/>
                <a:hlinkClick r:id="rId5" action="ppaction://hlinksldjump"/>
              </a:rPr>
              <a:t>云雀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——弟弟——纯洁少年，从不说是非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Times New Roman"/>
                <a:hlinkClick r:id="rId6" action="ppaction://hlinksldjump"/>
              </a:rPr>
              <a:t>石头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——敲击——时间的回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Times New Roman"/>
                <a:hlinkClick r:id="rId7" action="ppaction://hlinksldjump"/>
              </a:rPr>
              <a:t>落叶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——纹理——命运的手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Times New Roman"/>
                <a:hlinkClick r:id="rId8" action="ppaction://hlinksldjump"/>
              </a:rPr>
              <a:t>小花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——采一朵插头上——悄悄做一会儿女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阵雨——侠客吼叫，醉酒的诗人朗诵——感动又吓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老柏树——慈祥——恩泽、遮雨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蚂蚁———小弟弟——患难兄弟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归鹤——伴我披月回家女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imes New Roman"/>
                <a:hlinkClick r:id="rId9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00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0" y="990720"/>
            <a:ext cx="914400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作者从山中的众朋友身上悟到并得到了这样的启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做人要有持久而不变的坚韧的灵魂；要深深扎根于人民大众当中；要爱护大自然，保护人类的朋友——鸟类；要淳朴善良用爱心待人，不去搬弄是非；愉快地投身于工作和生活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-592200" y="115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-592200" y="115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r021" descr="tr021.jpg"/>
          <p:cNvPicPr/>
          <p:nvPr/>
        </p:nvPicPr>
        <p:blipFill>
          <a:blip r:embed="rId1"/>
          <a:stretch/>
        </p:blipFill>
        <p:spPr>
          <a:xfrm>
            <a:off x="0" y="0"/>
            <a:ext cx="1021068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523880" y="1676520"/>
            <a:ext cx="6705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山中访友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28600" y="0"/>
            <a:ext cx="891540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作者“带着满怀的好心情”走进山林，进山看了一路的美景，可作者为什么却说成“山中访友”</a:t>
            </a: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作者访问的是自然界的朋友，想像丰富、新奇，充满童心童趣，构思新奇。以这样的方式叙述，使读者也走进画面中，走进作者的心境中，仿佛这些自然界的朋友，不但是作者的，也是我们每一位读者的，于是感到更加亲切，似乎我们也随着作者把自己想像为一棵树，使树与我融为一体读者时时会被作者的童心打动，时时被流淌在字里行间的 激情感染，我们与大自然是这样的贴近，甚至会融为一体，又怎么能不热爱大自然，热爱生活呢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?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038" descr=""/>
          <p:cNvPicPr/>
          <p:nvPr/>
        </p:nvPicPr>
        <p:blipFill>
          <a:blip r:embed="rId1"/>
          <a:stretch/>
        </p:blipFill>
        <p:spPr>
          <a:xfrm>
            <a:off x="7467480" y="5638680"/>
            <a:ext cx="1676520" cy="12193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07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9144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作者为什么能写出如此优美的画面呢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zrfj0018" descr="zrfj0018.jpg"/>
          <p:cNvPicPr/>
          <p:nvPr/>
        </p:nvPicPr>
        <p:blipFill>
          <a:blip r:embed="rId1"/>
          <a:stretch/>
        </p:blipFill>
        <p:spPr>
          <a:xfrm>
            <a:off x="0" y="0"/>
            <a:ext cx="919008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252_jp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</a:rPr>
              <a:t>假如你是某一景物，面对来来去去不同身份、特点的游人，面对游人不同的心情，不同的神态，以及他们在你身边的不同表现，你想跟游人说说你的心里话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05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0" y="4648320"/>
            <a:ext cx="914400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我们随着作者“带着一路月色”“带回了满怀的好心情”回到了家中。你有哪些思考和体验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在日常生活中，我们应该怎样珍视我们自然界的朋友</a:t>
            </a:r>
            <a:r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?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720880" y="76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_31684" descr=""/>
          <p:cNvPicPr/>
          <p:nvPr/>
        </p:nvPicPr>
        <p:blipFill>
          <a:blip r:embed="rId1"/>
          <a:srcRect l="0" t="0" r="0" b="3338"/>
          <a:stretch/>
        </p:blipFill>
        <p:spPr>
          <a:xfrm>
            <a:off x="-990720" y="0"/>
            <a:ext cx="1013472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906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当你带着好奇和轻松愉快的心情读完这篇散文之后，在你被那美妙绝伦、如行云流水般的语言带进山中之后，你除了被童话般的意境陶醉外，你还会从字里行间透出的情愫里感受到作者对大自然、对生活的那种深切的热爱。并且，你还会感悟到作者对人生那种深邃的思考——做人要有持久而不变的的坚韧的灵魂；要深深扎根于人民大众当中；要爱护大自然，保护人类的朋友——鸟类；要淳朴善良；用爱心待人；不去搬弄是非；永远健康地、身心愉快地投身于工作和生活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144_jp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69696"/>
                </a:solidFill>
                <a:latin typeface="Times New Roman"/>
              </a:rPr>
              <a:t>学习目标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①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有感情地朗读课文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②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感知内容，了解作者所访之“友”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③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展开想像，感受作者的心境，体会作者所表达的感情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④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热爱自然，热爱生活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0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9900"/>
                </a:solidFill>
                <a:uFillTx/>
                <a:latin typeface="Times New Roman"/>
              </a:rPr>
              <a:t>幽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径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(      )     </a:t>
            </a:r>
            <a:r>
              <a:rPr b="0" lang="zh-CN" sz="4000" spc="-1" strike="noStrike" u="sng">
                <a:solidFill>
                  <a:srgbClr val="ff9900"/>
                </a:solidFill>
                <a:uFillTx/>
                <a:latin typeface="Times New Roman"/>
              </a:rPr>
              <a:t>逝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川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(      )  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青</a:t>
            </a:r>
            <a:r>
              <a:rPr b="0" lang="zh-CN" sz="4000" spc="-1" strike="noStrike" u="sng">
                <a:solidFill>
                  <a:srgbClr val="ff9900"/>
                </a:solidFill>
                <a:uFillTx/>
                <a:latin typeface="Times New Roman"/>
              </a:rPr>
              <a:t>翠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(       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0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唱</a:t>
            </a:r>
            <a:r>
              <a:rPr b="0" lang="zh-CN" sz="4000" spc="-1" strike="noStrike" u="sng">
                <a:solidFill>
                  <a:srgbClr val="ff9900"/>
                </a:solidFill>
                <a:uFillTx/>
                <a:latin typeface="Times New Roman"/>
              </a:rPr>
              <a:t>和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(      )     </a:t>
            </a:r>
            <a:r>
              <a:rPr b="0" lang="zh-CN" sz="4000" spc="-1" strike="noStrike" u="sng">
                <a:solidFill>
                  <a:srgbClr val="ff9900"/>
                </a:solidFill>
                <a:uFillTx/>
                <a:latin typeface="Times New Roman"/>
              </a:rPr>
              <a:t>湛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蓝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(      )       </a:t>
            </a:r>
            <a:r>
              <a:rPr b="0" lang="zh-CN" sz="4000" spc="-1" strike="noStrike" u="sng">
                <a:solidFill>
                  <a:srgbClr val="ff9900"/>
                </a:solidFill>
                <a:uFillTx/>
                <a:latin typeface="Times New Roman"/>
              </a:rPr>
              <a:t>赞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助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(     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0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9900"/>
                </a:solidFill>
                <a:uFillTx/>
                <a:latin typeface="Times New Roman"/>
              </a:rPr>
              <a:t>玄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奥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(      )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清</a:t>
            </a:r>
            <a:r>
              <a:rPr b="0" lang="zh-CN" sz="4000" spc="-1" strike="noStrike" u="sng">
                <a:solidFill>
                  <a:srgbClr val="ff9900"/>
                </a:solidFill>
                <a:uFillTx/>
                <a:latin typeface="Times New Roman"/>
              </a:rPr>
              <a:t>澈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(      )       </a:t>
            </a:r>
            <a:r>
              <a:rPr b="0" lang="zh-CN" sz="4000" spc="-1" strike="noStrike" u="sng">
                <a:solidFill>
                  <a:srgbClr val="ff9900"/>
                </a:solidFill>
                <a:uFillTx/>
                <a:latin typeface="Times New Roman"/>
              </a:rPr>
              <a:t>禅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心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(       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0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9900"/>
                </a:solidFill>
                <a:uFillTx/>
                <a:latin typeface="Times New Roman"/>
              </a:rPr>
              <a:t>凝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神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(      )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犬</a:t>
            </a:r>
            <a:r>
              <a:rPr b="0" lang="zh-CN" sz="4000" spc="-1" strike="noStrike" u="sng">
                <a:solidFill>
                  <a:srgbClr val="ff9900"/>
                </a:solidFill>
                <a:uFillTx/>
                <a:latin typeface="Times New Roman"/>
              </a:rPr>
              <a:t>吠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(      )   </a:t>
            </a:r>
            <a:r>
              <a:rPr b="0" lang="zh-CN" sz="4000" spc="-1" strike="noStrike" u="sng">
                <a:solidFill>
                  <a:srgbClr val="ff9900"/>
                </a:solidFill>
                <a:uFillTx/>
                <a:latin typeface="Times New Roman"/>
              </a:rPr>
              <a:t>栀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子花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(        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0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德高望</a:t>
            </a:r>
            <a:r>
              <a:rPr b="0" lang="zh-CN" sz="4000" spc="-1" strike="noStrike" u="sng">
                <a:solidFill>
                  <a:srgbClr val="ff9900"/>
                </a:solidFill>
                <a:uFillTx/>
                <a:latin typeface="Times New Roman"/>
              </a:rPr>
              <a:t>重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(          )        </a:t>
            </a:r>
            <a:r>
              <a:rPr b="0" lang="zh-CN" sz="4000" spc="-1" strike="noStrike" u="sng">
                <a:solidFill>
                  <a:srgbClr val="ff9900"/>
                </a:solidFill>
                <a:uFillTx/>
                <a:latin typeface="Times New Roman"/>
              </a:rPr>
              <a:t>波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光明灭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(       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0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9900"/>
                </a:solidFill>
                <a:uFillTx/>
                <a:latin typeface="Times New Roman"/>
              </a:rPr>
              <a:t>返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老还童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(          )         </a:t>
            </a:r>
            <a:r>
              <a:rPr b="0" lang="zh-CN" sz="4000" spc="-1" strike="noStrike" u="sng">
                <a:solidFill>
                  <a:srgbClr val="ff9900"/>
                </a:solidFill>
                <a:uFillTx/>
                <a:latin typeface="Times New Roman"/>
              </a:rPr>
              <a:t>津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津乐道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(        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3880" y="5335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ō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6094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sh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467480" y="53352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u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00200" y="13716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67080" y="13716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zh</a:t>
            </a:r>
            <a:r>
              <a:rPr b="0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4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315200" y="12952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4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47920" y="20574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xu</a:t>
            </a:r>
            <a:r>
              <a:rPr b="0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20574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h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15200" y="20574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</a:t>
            </a:r>
            <a:r>
              <a:rPr b="0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3880" y="28195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nín</a:t>
            </a:r>
            <a:r>
              <a:rPr b="0" lang="zh-CN" sz="3600" spc="-1" strike="noStrike">
                <a:solidFill>
                  <a:srgbClr val="ffffff"/>
                </a:solidFill>
                <a:latin typeface="zypyyb"/>
                <a:ea typeface="zypyyb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43400" y="28195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è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467480" y="426708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jī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315200" y="27432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zh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467480" y="35812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43200" y="42670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ǎ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90920" y="35053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zhòn</a:t>
            </a:r>
            <a:r>
              <a:rPr b="0" lang="zh-CN" sz="3600" spc="-1" strike="noStrike">
                <a:solidFill>
                  <a:srgbClr val="ffffff"/>
                </a:solidFill>
                <a:latin typeface="zypyyb"/>
                <a:ea typeface="zypyyb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F201" descr=""/>
          <p:cNvPicPr/>
          <p:nvPr/>
        </p:nvPicPr>
        <p:blipFill>
          <a:blip r:embed="rId1"/>
          <a:stretch/>
        </p:blipFill>
        <p:spPr>
          <a:xfrm>
            <a:off x="0" y="-7632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362320" y="1143000"/>
            <a:ext cx="4876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Times New Roman"/>
              </a:rPr>
              <a:t>山中访友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43600" y="30481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李汉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Z0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057400" y="38088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走出门，就与含着露水和栀子花气息的好风撞个满怀。早晨，好清爽！心里的感觉好清爽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F17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80880" y="5335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不骑车，不邀游伴，也不带什么礼物，就带着满怀的好心情，哼几段小曲，踏一条幽径，独自去访问我的朋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F163" descr=""/>
          <p:cNvPicPr/>
          <p:nvPr/>
        </p:nvPicPr>
        <p:blipFill>
          <a:blip r:embed="rId1"/>
          <a:stretch/>
        </p:blipFill>
        <p:spPr>
          <a:xfrm>
            <a:off x="4618080" y="0"/>
            <a:ext cx="452592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那座古桥，是我要拜访的第一个老朋友，德高望重的老桥，你在这涧水上站了几百年了？你累吗？你把多少人马渡过彼岸，你把滚滚流水送向远方，你躬着腰，俯身吻着水中的人影鱼影月影。波光明灭，泡沫聚散，岁月是一去不返的逝川，惟有你坚持着，你那从不改变的姿态，让我看到了一种古老而坚韧的灵魂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3349800"/>
            <a:ext cx="929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走进这片树林，每一株树都是我的知已，向我打着青翠的手势，有许多鸟唤我的名字，有许多露珠与我交换眼神。我靠在一棵树上，静静地，以树的眼睛看周围的树，我发现每一株树都在看我，我闭上眼睛，我真的变成了一株树，脚长出根须，深深扎进泥土和岩层，呼吸地层深处的元气，我的头发长成树冠，我的手变成树枝，我的思想变成树汁，在年轮里旋转、流淌，最后长出树籽，被鸟儿衔向远山远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00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276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12:54:31Z</dcterms:created>
  <dc:creator>wutao</dc:creator>
  <dc:description/>
  <dc:language>en-US</dc:language>
  <cp:lastModifiedBy>周璟</cp:lastModifiedBy>
  <dcterms:modified xsi:type="dcterms:W3CDTF">2004-11-02T08:38:01Z</dcterms:modified>
  <cp:revision>100</cp:revision>
  <dc:subject/>
  <dc:title>PowerPoint 演示文稿</dc:title>
</cp:coreProperties>
</file>