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6E34-8696-40E5-B53E-E72576B5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18AA-8946-4BB3-944C-2C0C0317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464C-1EEB-42EE-9978-C5DBD621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9104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1470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9104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1470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AAAC-660E-48AB-86CD-4FDED911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F20B-9B58-445F-972F-A3BC7F1F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60F9-E79A-43F9-B757-3E3B9001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0AEF-18E0-4CDE-A6BA-22D68324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45FF-EDDD-450E-A449-AAB895A2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0898-217A-49FA-A48F-4D63EBAB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36720" y="1425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8B08-A093-4E89-B9D5-8E33B729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A512-F41C-450B-8E15-E31934C3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B748-F04C-4259-BE06-935A0B12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42D8-02AB-4F94-BD16-ECF429C8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B6CF-357F-45BB-A801-A3EDA7F0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7F85-3339-446C-A4BA-739B891A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A29C-97A5-484E-A38A-69DCD4A3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104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470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59104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1470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AE35-B11D-4AE2-B0CD-8765C06C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DBC9-E644-4AD6-AB67-EF4B3ACD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F98D-CFBB-47DC-B30C-42CC86B6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AC5-AF62-464A-AC40-FED493ED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36720" y="1425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F387-4B0F-469A-9F8E-00C86435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49D-367E-424C-A97A-6CFCE7D6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40EC-07C0-4FC5-9BD2-864123F1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B83B-1865-49DC-849B-42F7DFBE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E3D2-414B-4B89-BB60-32FEA50A39D9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6369-83D7-4F68-89AC-69974D962C68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gzgsls.wav" TargetMode="External"/><Relationship Id="rId2" Type="http://schemas.microsoft.com/office/2007/relationships/media" Target="file:///tmp/home/.config/libreoffice/4/user/gallery/gzgsls.wav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3025" r="0" b="0"/>
          <a:stretch/>
        </p:blipFill>
        <p:spPr>
          <a:xfrm>
            <a:off x="762120" y="762120"/>
            <a:ext cx="7391160" cy="5715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38280" y="190512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1676520"/>
            <a:ext cx="420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36840" y="2001960"/>
            <a:ext cx="29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274320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华文行楷"/>
                <a:ea typeface="华文行楷"/>
              </a:rPr>
              <a:t>山   中    访   友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6483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9280" y="189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ff"/>
                </a:solidFill>
                <a:latin typeface="Times New Roman"/>
              </a:rPr>
              <a:t>展开想象，阅读标题，揣摩内容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360" y="1114560"/>
            <a:ext cx="83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ff"/>
                </a:solidFill>
                <a:latin typeface="Times New Roman"/>
              </a:rPr>
              <a:t>如果你没读过课文，猜测作者到山中访问一位怎样的朋友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38188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1880" y="5943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fjok25c" descr=""/>
          <p:cNvPicPr/>
          <p:nvPr/>
        </p:nvPicPr>
        <p:blipFill>
          <a:blip r:embed="rId4"/>
          <a:stretch/>
        </p:blipFill>
        <p:spPr>
          <a:xfrm>
            <a:off x="5105520" y="2438280"/>
            <a:ext cx="3733560" cy="3791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11430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ff"/>
                </a:solidFill>
                <a:latin typeface="Times New Roman"/>
              </a:rPr>
              <a:t>仔细聆听，感知课文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2590920"/>
            <a:ext cx="7086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、作者在山中拜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了哪些朋友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、作者从这些朋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中得到了那些启示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animal02071703_1" descr=""/>
          <p:cNvPicPr/>
          <p:nvPr/>
        </p:nvPicPr>
        <p:blipFill>
          <a:blip r:embed="rId1"/>
          <a:stretch/>
        </p:blipFill>
        <p:spPr>
          <a:xfrm>
            <a:off x="6019920" y="289548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90720" y="1143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作者从山中众朋友中获得的启示：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5812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666880"/>
            <a:ext cx="5486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１、做人要有持久不变的灵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２、要深深扎根人民大众中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３、要爱护人类的朋友——鸟类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４、要淳朴善良用心待人，不搬弄是非，愉快投身于工作和生活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46280" y="9684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280" y="24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360" y="630360"/>
            <a:ext cx="809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03480" y="630360"/>
            <a:ext cx="649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3160" y="189000"/>
            <a:ext cx="8305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99ff"/>
                </a:solidFill>
                <a:latin typeface="Times New Roman"/>
                <a:ea typeface="华文行楷"/>
              </a:rPr>
              <a:t>研读与赏析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ff"/>
                </a:solidFill>
                <a:latin typeface="Times New Roman"/>
              </a:rPr>
              <a:t>找找你最喜欢山中哪位朋友？说说你为什么喜欢他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7979" r="0" b="7979"/>
          <a:stretch/>
        </p:blipFill>
        <p:spPr>
          <a:xfrm>
            <a:off x="684360" y="2971800"/>
            <a:ext cx="8307360" cy="3530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020816qin02_2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3353040" cy="2516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47920" y="99072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问题探讨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3124080"/>
            <a:ext cx="426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如果是你，你还会拜访哪些朋友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6048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4360" y="1197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合作与探究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作者带着满怀的好心情，走进山林，看了一路的美景，可作者为什么说成是“山中访友”？而不是“林中观景”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1" descr=""/>
          <p:cNvPicPr/>
          <p:nvPr/>
        </p:nvPicPr>
        <p:blipFill>
          <a:blip r:embed="rId1"/>
          <a:stretch/>
        </p:blipFill>
        <p:spPr>
          <a:xfrm>
            <a:off x="-66600" y="-176040"/>
            <a:ext cx="9277200" cy="7210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3352680" y="2790720"/>
            <a:ext cx="243864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再见</a:t>
            </a:r>
            <a:endParaRPr b="0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2:29:28Z</dcterms:created>
  <dc:creator>wutao</dc:creator>
  <dc:description/>
  <dc:language>en-US</dc:language>
  <cp:lastModifiedBy>周璟</cp:lastModifiedBy>
  <dcterms:modified xsi:type="dcterms:W3CDTF">2004-11-02T08:31:44Z</dcterms:modified>
  <cp:revision>100</cp:revision>
  <dc:subject/>
  <dc:title>PowerPoint 演示文稿</dc:title>
</cp:coreProperties>
</file>