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6BE-6E4B-44CC-AF67-2E49C449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AA9-8DF6-4089-AF17-1AAA40DE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A68-0EED-42A4-B7BC-4424651D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3C1-C0BC-4372-A15C-2852366B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1910-6A0F-4CDC-BDFD-80E31532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D09B-9C1E-42CE-8E29-948D9304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A9B6-C188-4692-B9D1-25C4D38B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383B-48C2-4756-98C3-246B9491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56A7-09FD-49A2-90B7-A7FCA755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FB5D-4E15-47A0-A68F-A517B83E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BF0D-B72B-416F-A569-9F0A156A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572-9C81-47A0-9DA6-1A4D5D06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2041-73E2-4759-B0DC-5E93E379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4898-0EE1-430A-8EB3-992F9686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50CD-F515-406C-A6FD-97AF786E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DACB-DD41-447B-8816-3CEC6AD9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B955-9C59-4F0F-B312-1484EA5C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798-B760-4506-BBF3-4347666D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8AF-749B-4B90-A351-EF0A9094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D9D-047F-4ECF-829E-7903A3E9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AE90-401D-4089-8981-3E36F3AB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313-9CB8-439A-86E1-972713D8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850-6D05-4106-9EC7-7A880A42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6BF-0471-4334-95C7-66473BA9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58A7-8DAC-4637-86B7-6EF404D359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2EB1-E1E9-4956-B536-6DA8744967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3.xml"/><Relationship Id="rId11" Type="http://schemas.openxmlformats.org/officeDocument/2006/relationships/slide" Target="slide16.xml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hyperlink" Target="http://www.21ph.com/plants/h2/049.htm" TargetMode="External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21ph.com/plants/h2/049.htm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38" descr=""/>
          <p:cNvPicPr/>
          <p:nvPr/>
        </p:nvPicPr>
        <p:blipFill>
          <a:blip r:embed="rId1"/>
          <a:stretch/>
        </p:blipFill>
        <p:spPr>
          <a:xfrm>
            <a:off x="-304920" y="-22320"/>
            <a:ext cx="9448920" cy="6872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828800" y="1600200"/>
            <a:ext cx="6781680" cy="23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豪杰交游满天下，逢凶化吉天生成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————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《水浒传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好，山泉姐姐！你捧一面明镜照我，是要照出我的浑浊吗？你好，溪流妹妹！你吟着一首小诗，是邀我与你唱和吗？你好，白云大嫂！月亮的好女儿，天空的好护士，你洁白的身影，让憔悴的天空返老还童，露出湛蓝的笑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143" descr=""/>
          <p:cNvPicPr/>
          <p:nvPr/>
        </p:nvPicPr>
        <p:blipFill>
          <a:blip r:embed="rId1"/>
          <a:stretch/>
        </p:blipFill>
        <p:spPr>
          <a:xfrm>
            <a:off x="5587920" y="2057400"/>
            <a:ext cx="3556080" cy="4800600"/>
          </a:xfrm>
          <a:prstGeom prst="rect">
            <a:avLst/>
          </a:prstGeom>
          <a:ln w="0">
            <a:noFill/>
          </a:ln>
        </p:spPr>
      </p:pic>
      <p:pic>
        <p:nvPicPr>
          <p:cNvPr id="121" name="F146" descr=""/>
          <p:cNvPicPr/>
          <p:nvPr/>
        </p:nvPicPr>
        <p:blipFill>
          <a:blip r:embed="rId2"/>
          <a:stretch/>
        </p:blipFill>
        <p:spPr>
          <a:xfrm>
            <a:off x="0" y="2209680"/>
            <a:ext cx="5638680" cy="1600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042" descr=""/>
          <p:cNvPicPr/>
          <p:nvPr/>
        </p:nvPicPr>
        <p:blipFill>
          <a:blip r:embed="rId3"/>
          <a:stretch/>
        </p:blipFill>
        <p:spPr>
          <a:xfrm>
            <a:off x="0" y="3809880"/>
            <a:ext cx="5649840" cy="3048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fengjing189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057400" y="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好，瀑布大哥！雄浑的男高音，纯粹的歌唱家，不拉赞助，不收门票，天生的金嗓子，从古唱到今。你好呀，悬崖爷爷！高高的额头，刻着玄奥的智慧，深深的峡谷漾着清澈的禅心，抬头望你，我就想起了历代的隐士和高僧，你也是一位无言的禅者，云雾携来一卷卷天书，可是出自你的手笔？喂，云雀弟弟，叽叽喳喳说些什么。我知道你们是些纯洁少年，从来不说是非，你们津津乐道的，都是飞行中看到的好风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F267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57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捧起一块石头，轻轻敲击，我听见远古火山爆发的声浪，我听见时间的隆隆回声，拾一片落叶，细数精致的纹理，那都是命运神秘的手相，在它走向泥土的途中，我加入了这短暂而别有深意的仪式，采一朵小花，插上我的头发，此刻就我一人，花不会笑我，鸟不会羞我，在无人的山谷，我头戴鲜花，眼含柔情，悄悄地做了一会儿女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067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86200" y="2384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忽然下起雷阵雨，像有一千个侠客在天上吼叫，又像有一千个喝醉了酒的诗人在云头朗诵，又感动人又有些吓人。赶快跑到一棵老柏树下，慈祥的老柏树立即撑起了大伞。满世界都是雨，惟站立的地方没有雨，却成看雨的好地方，谁能说这不是天地给我的恩泽？俯身凝神，才发现许多蚂蚁也在树下避雨，用手捧起几只蚂蚁，好不动情，蚂蚁，我的小弟弟，茫茫天地间，我们有缘分，也做了一回患难兄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073" descr=""/>
          <p:cNvPicPr/>
          <p:nvPr/>
        </p:nvPicPr>
        <p:blipFill>
          <a:blip r:embed="rId1"/>
          <a:stretch/>
        </p:blipFill>
        <p:spPr>
          <a:xfrm>
            <a:off x="0" y="2286000"/>
            <a:ext cx="3809880" cy="4572000"/>
          </a:xfrm>
          <a:prstGeom prst="rect">
            <a:avLst/>
          </a:prstGeom>
          <a:ln w="0">
            <a:noFill/>
          </a:ln>
        </p:spPr>
      </p:pic>
      <p:pic>
        <p:nvPicPr>
          <p:cNvPr id="132" name="F25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281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nk12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260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60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60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8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8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雨停了，幽谷里传出几声犬吠，云岭上掠过一群归鸟，我也该回家了，于是，我轻轻地招手，告别了山里的众朋友，带回了满怀的好心情，好记忆，顺便还带回了一路的月色…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Z170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1603440" y="45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603440" y="45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1920" y="449280"/>
            <a:ext cx="5813280" cy="5922720"/>
            <a:chOff x="61920" y="449280"/>
            <a:chExt cx="5813280" cy="5922720"/>
          </a:xfrm>
        </p:grpSpPr>
        <p:grpSp>
          <p:nvGrpSpPr>
            <p:cNvPr id="144" name=""/>
            <p:cNvGrpSpPr/>
            <p:nvPr/>
          </p:nvGrpSpPr>
          <p:grpSpPr>
            <a:xfrm>
              <a:off x="66600" y="453960"/>
              <a:ext cx="5803920" cy="5913360"/>
              <a:chOff x="66600" y="453960"/>
              <a:chExt cx="5803920" cy="5913360"/>
            </a:xfrm>
          </p:grpSpPr>
          <p:sp>
            <p:nvSpPr>
              <p:cNvPr id="145" name=""/>
              <p:cNvSpPr/>
              <p:nvPr/>
            </p:nvSpPr>
            <p:spPr>
              <a:xfrm>
                <a:off x="66600" y="453960"/>
                <a:ext cx="5803920" cy="591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37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600" y="453960"/>
                <a:ext cx="5803920" cy="59133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61920" y="449280"/>
              <a:ext cx="5813280" cy="592272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0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zrfj0030" descr="zrfj00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作者在山中拜访了哪些“朋友”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古桥——树林——山泉——小溪——白云——瀑布——悬崖——云雀——石头——落叶——小花——阵雨——老柏树——蚂蚁——归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164_jpg" descr=""/>
          <p:cNvPicPr/>
          <p:nvPr/>
        </p:nvPicPr>
        <p:blipFill>
          <a:blip r:embed="rId2"/>
          <a:stretch/>
        </p:blipFill>
        <p:spPr>
          <a:xfrm>
            <a:off x="8286840" y="5715000"/>
            <a:ext cx="857160" cy="1143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zrfj0030" descr="zrfj00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057400" y="1828800"/>
            <a:ext cx="495288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老桥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——老朋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树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——知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山泉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——姐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溪流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——妹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白云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——大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7" action="ppaction://hlinksldjump"/>
              </a:rPr>
              <a:t>瀑布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——大哥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8" action="ppaction://hlinksldjump"/>
              </a:rPr>
              <a:t>悬崖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——爷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9" action="ppaction://hlinksldjump"/>
              </a:rPr>
              <a:t>云雀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——弟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10" action="ppaction://hlinksldjump"/>
              </a:rPr>
              <a:t>蚂蚁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——小弟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151_jpg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391520" y="5686560"/>
            <a:ext cx="1562040" cy="1171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037600" y="720720"/>
            <a:ext cx="45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作者是如何称呼这些朋友的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304920"/>
            <a:ext cx="914400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古桥——德高望重——古老而坚韧的灵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树林——知己——我变成了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山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姐姐——照出我的浑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小溪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妹妹—一唱和小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白云——大嫂——天空的护士，使天空返老还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瀑布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一—大哥一一天生金嗓子，无回报地从古唱到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悬崖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一爷爷一一给人清净、无杂念的心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云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弟弟——纯洁少年，从不说是非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石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敲击——时间的回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7" action="ppaction://hlinksldjump"/>
              </a:rPr>
              <a:t>落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纹理——命运的手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8" action="ppaction://hlinksldjump"/>
              </a:rPr>
              <a:t>小花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采一朵插头上——悄悄做一会儿女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阵雨——侠客吼叫，醉酒的诗人朗诵——感动又吓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老柏树——慈祥——恩泽、遮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蚂蚁———小弟弟——患难兄弟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归鹤——伴我披月回家女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99072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作者从山中的众朋友身上悟到并得到了这样的启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做人要有持久而不变的坚韧的灵魂；要深深扎根于人民大众当中；要爱护大自然，保护人类的朋友——鸟类；要淳朴善良用爱心待人，不去搬弄是非；愉快地投身于工作和生活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592200" y="115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592200" y="115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r021" descr="tr021.jpg"/>
          <p:cNvPicPr/>
          <p:nvPr/>
        </p:nvPicPr>
        <p:blipFill>
          <a:blip r:embed="rId1"/>
          <a:stretch/>
        </p:blipFill>
        <p:spPr>
          <a:xfrm>
            <a:off x="0" y="0"/>
            <a:ext cx="102106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3880" y="167652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山中访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" y="0"/>
            <a:ext cx="89154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作者“带着满怀的好心情”走进山林，进山看了一路的美景，可作者为什么却说成“山中访友”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作者访问的是自然界的朋友，想像丰富、新奇，充满童心童趣，构思新奇。以这样的方式叙述，使读者也走进画面中，走进作者的心境中，仿佛这些自然界的朋友，不但是作者的，也是我们每一位读者的，于是感到更加亲切，似乎我们也随着作者把自己想像为一棵树，使树与我融为一体读者时时会被作者的童心打动，时时被流淌在字里行间的 激情感染，我们与大自然是这样的贴近，甚至会融为一体，又怎么能不热爱大自然，热爱生活呢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038" descr=""/>
          <p:cNvPicPr/>
          <p:nvPr/>
        </p:nvPicPr>
        <p:blipFill>
          <a:blip r:embed="rId1"/>
          <a:stretch/>
        </p:blipFill>
        <p:spPr>
          <a:xfrm>
            <a:off x="7467480" y="5638680"/>
            <a:ext cx="1676520" cy="1219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07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作者为什么能写出如此优美的画面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zrfj0018" descr="zrfj0018.jpg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252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假如你是某一景物，面对来来去去不同身份、特点的游人，面对游人不同的心情，不同的神态，以及他们在你身边的不同表现，你想跟游人说说你的心里话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0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4648320"/>
            <a:ext cx="91440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我们随着作者“带着一路月色”“带回了满怀的好心情”回到了家中。你有哪些思考和体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在日常生活中，我们应该怎样珍视我们自然界的朋友</a:t>
            </a: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720880" y="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_31684" descr=""/>
          <p:cNvPicPr/>
          <p:nvPr/>
        </p:nvPicPr>
        <p:blipFill>
          <a:blip r:embed="rId1"/>
          <a:srcRect l="0" t="0" r="0" b="3338"/>
          <a:stretch/>
        </p:blipFill>
        <p:spPr>
          <a:xfrm>
            <a:off x="-990720" y="0"/>
            <a:ext cx="1013472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当你带着好奇和轻松愉快的心情读完这篇散文之后，在你被那美妙绝伦、如行云流水般的语言带进山中之后，你除了被童话般的意境陶醉外，你还会从字里行间透出的情愫里感受到作者对大自然、对生活的那种深切的热爱。并且，你还会感悟到作者对人生那种深邃的思考——做人要有持久而不变的的坚韧的灵魂；要深深扎根于人民大众当中；要爱护大自然，保护人类的朋友——鸟类；要淳朴善良；用爱心待人；不去搬弄是非；永远健康地、身心愉快地投身于工作和生活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144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69696"/>
                </a:solidFill>
                <a:latin typeface="Times New Roman"/>
              </a:rPr>
              <a:t>学习目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有感情地朗读课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感知内容，了解作者所访之“友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③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展开想像，感受作者的心境，体会作者所表达的感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④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热爱自然，热爱生活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幽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径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)     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逝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川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) 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青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翠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 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唱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和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)     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湛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蓝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)       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赞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助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玄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奥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)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清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澈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)       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禅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心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 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凝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神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)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犬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吠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)   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栀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子花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  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德高望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重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    )        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波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光明灭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返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老还童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    )         </a:t>
            </a:r>
            <a:r>
              <a:rPr b="0" lang="zh-CN" sz="4000" spc="-1" strike="noStrike" u="sng">
                <a:solidFill>
                  <a:srgbClr val="ff9900"/>
                </a:solidFill>
                <a:uFillTx/>
                <a:latin typeface="Times New Roman"/>
              </a:rPr>
              <a:t>津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津乐道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(   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533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ō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609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67480" y="5335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u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371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1371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h</a:t>
            </a:r>
            <a:r>
              <a:rPr b="0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1295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u</a:t>
            </a:r>
            <a:r>
              <a:rPr b="0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2057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05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nín</a:t>
            </a:r>
            <a:r>
              <a:rPr b="0" lang="zh-CN" sz="3600" spc="-1" strike="noStrike">
                <a:solidFill>
                  <a:srgbClr val="ffffff"/>
                </a:solidFill>
                <a:latin typeface="zypyyb"/>
                <a:ea typeface="zypyyb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2819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è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42670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ī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743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zh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67480" y="3581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42670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ǎ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3505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zhòn</a:t>
            </a:r>
            <a:r>
              <a:rPr b="0" lang="zh-CN" sz="3600" spc="-1" strike="noStrike">
                <a:solidFill>
                  <a:srgbClr val="ffffff"/>
                </a:solidFill>
                <a:latin typeface="zypyyb"/>
                <a:ea typeface="zypyyb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F201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62320" y="1143000"/>
            <a:ext cx="487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</a:rPr>
              <a:t>山中访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李汉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Z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57400" y="380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走出门，就与含着露水和栀子花气息的好风撞个满怀。早晨，好清爽！心里的感觉好清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F17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5335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不骑车，不邀游伴，也不带什么礼物，就带着满怀的好心情，哼几段小曲，踏一条幽径，独自去访问我的朋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163" descr=""/>
          <p:cNvPicPr/>
          <p:nvPr/>
        </p:nvPicPr>
        <p:blipFill>
          <a:blip r:embed="rId1"/>
          <a:stretch/>
        </p:blipFill>
        <p:spPr>
          <a:xfrm>
            <a:off x="4618080" y="0"/>
            <a:ext cx="45259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座古桥，是我要拜访的第一个老朋友，德高望重的老桥，你在这涧水上站了几百年了？你累吗？你把多少人马渡过彼岸，你把滚滚流水送向远方，你躬着腰，俯身吻着水中的人影鱼影月影。波光明灭，泡沫聚散，岁月是一去不返的逝川，惟有你坚持着，你那从不改变的姿态，让我看到了一种古老而坚韧的灵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34980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走进这片树林，每一株树都是我的知已，向我打着青翠的手势，有许多鸟唤我的名字，有许多露珠与我交换眼神。我靠在一棵树上，静静地，以树的眼睛看周围的树，我发现每一株树都在看我，我闭上眼睛，我真的变成了一株树，脚长出根须，深深扎进泥土和岩层，呼吸地层深处的元气，我的头发长成树冠，我的手变成树枝，我的思想变成树汁，在年轮里旋转、流淌，最后长出树籽，被鸟儿衔向远山远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0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2:54:31Z</dcterms:created>
  <dc:creator>wutao</dc:creator>
  <dc:description/>
  <dc:language>en-US</dc:language>
  <cp:lastModifiedBy>周璟</cp:lastModifiedBy>
  <dcterms:modified xsi:type="dcterms:W3CDTF">2004-11-02T08:38:01Z</dcterms:modified>
  <cp:revision>100</cp:revision>
  <dc:subject/>
  <dc:title>PowerPoint 演示文稿</dc:title>
</cp:coreProperties>
</file>