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005-98AF-43F3-AD61-1B460872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0F0-7AA1-4033-B271-8B4C7BE5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B1C-DBB6-4783-A8C9-F9D1E36F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13E-0F30-4EF6-A3FE-C27FEA90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9194-2B66-477C-B4C5-A7A03059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24BE-5BBA-4632-8476-BBEED032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E14F-48B8-4722-9DBB-7212CB0E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7FE9-FD4D-4D53-9804-45707E43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5B2-2BAA-4900-BB72-619E00F7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CF5F-F8FC-487C-AFE7-B814CD4E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6D5F-C8CB-4A8E-8047-8449533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5EE-B272-4B21-9F7B-85A221D3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E6D8-EC53-4FB9-A5F6-B98E98D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F23C-C707-445D-878A-877D53E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6B8F-FB3E-4734-8E9A-3B279365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915E-159B-452C-99AB-9027C548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863B-8C15-426C-A88E-5715B8FD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631-7660-4969-ADB8-A86553D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E1D-CABE-4579-B0F1-419FE5E3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EF0-383F-4BF7-8982-56CC3412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E5D-8270-4BE3-99B1-E8D1076C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934-B7AB-4DDB-9D51-3ACF5D94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908-E256-4FF7-ADFE-7329EF5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957-419A-4B1A-B5E7-5865A8C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3542-2621-472F-AB32-FAB31B35BCA5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44A-116D-472C-8339-884771475EEA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gzgsls.wav" TargetMode="External"/><Relationship Id="rId2" Type="http://schemas.microsoft.com/office/2007/relationships/media" Target="file:///tmp/home/.config/libreoffice/4/user/gallery/gzgsls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3025" r="0" b="0"/>
          <a:stretch/>
        </p:blipFill>
        <p:spPr>
          <a:xfrm>
            <a:off x="762120" y="76212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8280" y="190512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1676520"/>
            <a:ext cx="420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840" y="200196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7432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山   中    访   友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648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18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</a:rPr>
              <a:t>展开想象，阅读标题，揣摩内容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114560"/>
            <a:ext cx="83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Times New Roman"/>
              </a:rPr>
              <a:t>如果你没读过课文，猜测作者到山中访问一位怎样的朋友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38188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fjok25c" descr=""/>
          <p:cNvPicPr/>
          <p:nvPr/>
        </p:nvPicPr>
        <p:blipFill>
          <a:blip r:embed="rId4"/>
          <a:stretch/>
        </p:blipFill>
        <p:spPr>
          <a:xfrm>
            <a:off x="5105520" y="2438280"/>
            <a:ext cx="3733560" cy="3791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1143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</a:rPr>
              <a:t>仔细聆听，感知课文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5909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、作者在山中拜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了哪些朋友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、作者从这些朋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中得到了那些启示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nimal02071703_1" descr=""/>
          <p:cNvPicPr/>
          <p:nvPr/>
        </p:nvPicPr>
        <p:blipFill>
          <a:blip r:embed="rId1"/>
          <a:stretch/>
        </p:blipFill>
        <p:spPr>
          <a:xfrm>
            <a:off x="6019920" y="2895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90720" y="1143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作者从山中众朋友中获得的启示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581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666880"/>
            <a:ext cx="5486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、做人要有持久不变的灵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２、要深深扎根人民大众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３、要爱护人类的朋友——鸟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４、要淳朴善良用心待人，不搬弄是非，愉快投身于工作和生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46280" y="9684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360" y="630360"/>
            <a:ext cx="80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3480" y="630360"/>
            <a:ext cx="649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3160" y="189000"/>
            <a:ext cx="8305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ff"/>
                </a:solidFill>
                <a:latin typeface="Times New Roman"/>
                <a:ea typeface="华文行楷"/>
              </a:rPr>
              <a:t>研读与赏析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</a:rPr>
              <a:t>找找你最喜欢山中哪位朋友？说说你为什么喜欢他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7979" r="0" b="7979"/>
          <a:stretch/>
        </p:blipFill>
        <p:spPr>
          <a:xfrm>
            <a:off x="684360" y="2971800"/>
            <a:ext cx="8307360" cy="3530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20816qin02_2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353040" cy="251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920" y="9907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问题探讨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12408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如果是你，你还会拜访哪些朋友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048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360" y="1197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合作与探究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者带着满怀的好心情，走进山林，看了一路的美景，可作者为什么说成是“山中访友”？而不是“林中观景”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" descr=""/>
          <p:cNvPicPr/>
          <p:nvPr/>
        </p:nvPicPr>
        <p:blipFill>
          <a:blip r:embed="rId1"/>
          <a:stretch/>
        </p:blipFill>
        <p:spPr>
          <a:xfrm>
            <a:off x="-66600" y="-176040"/>
            <a:ext cx="9277200" cy="7210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352680" y="2790720"/>
            <a:ext cx="24386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再见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2:29:28Z</dcterms:created>
  <dc:creator>wutao</dc:creator>
  <dc:description/>
  <dc:language>en-US</dc:language>
  <cp:lastModifiedBy>周璟</cp:lastModifiedBy>
  <dcterms:modified xsi:type="dcterms:W3CDTF">2004-11-02T08:31:44Z</dcterms:modified>
  <cp:revision>100</cp:revision>
  <dc:subject/>
  <dc:title>PowerPoint 演示文稿</dc:title>
</cp:coreProperties>
</file>