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04E-BDD9-4D1F-B199-260281A2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BED-9BFB-4E31-A696-8696DE0D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559-036F-4BBF-9E95-6CD3CEAC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4EE-ABA5-48DA-9D49-C0F78DD6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8C8F-90E7-490F-84CA-11F194C8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CE76-4B8D-477E-8BE2-CDE18D85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1DA1-C68D-4853-A0F4-5650E51A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52B6-EA40-4430-9255-D6934AF8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BFEE-C6DE-4162-8C17-BAAC4D30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C792-8CB5-44F5-B5A7-65485404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CEF1-F908-4ACA-BEC0-FFCC0BF6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AD5-F362-481F-A2B9-C540C146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33D3-3C5D-4A84-887E-2B7CEF6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AEFE-0CD8-47A8-A7BB-7639A68D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0EBB-42F0-4563-8AD8-D0706F98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0D73-A7FA-4886-925B-BAC63442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DD25-51E5-4437-8417-715F10A3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220-9805-4FD3-8E0D-972833D5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00A-B48A-4BAA-83A1-F4743DAE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4F5-0C5E-41EF-B945-D9F0CE69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A55-08C1-4009-A44D-57C9AE05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8EF-4E83-42E5-9EDE-D6ADDC1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690-A6FA-4630-A86E-EEFB0FDE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D51-E26A-48FF-90B4-E69CF6E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D0B-5800-4B26-9FF7-C77F52D8AA9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863E-3C02-4D95-89FE-667FD85AF2B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99"/>
                </a:solidFill>
                <a:latin typeface="Arial"/>
                <a:ea typeface="黑体"/>
              </a:rPr>
              <a:t>秋   天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何其芳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79640" y="404640"/>
            <a:ext cx="6408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耳畔传来几声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是倦飞的乌鸦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是落叶在风中的颤抖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天边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夕阳吻着远山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如灯，如烛，如远古的红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7812000" y="5877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识文断字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丁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幽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肥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硕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栖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归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寥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枯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涸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清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梦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寐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    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916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zh</a:t>
            </a:r>
            <a:r>
              <a:rPr b="0" lang="en-US" sz="2800" spc="-1" strike="noStrike">
                <a:solidFill>
                  <a:srgbClr val="dc5900"/>
                </a:solidFill>
                <a:latin typeface="宋体"/>
              </a:rPr>
              <a:t>ēn</a:t>
            </a:r>
            <a:r>
              <a:rPr b="0" lang="en-US" sz="2800" spc="-1" strike="noStrike">
                <a:solidFill>
                  <a:srgbClr val="dc5900"/>
                </a:solidFill>
                <a:latin typeface="zypyyb"/>
                <a:ea typeface="zypyyb"/>
              </a:rPr>
              <a:t>g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伐木声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2060640"/>
            <a:ext cx="25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916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幽深的山谷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56536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:shuò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果实大而饱满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637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停留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休息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多指鸟类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213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ó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摇船回家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284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li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áokuò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高远空旷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933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:hé</a:t>
            </a:r>
            <a:r>
              <a:rPr b="1" lang="zh-CN" sz="2800" spc="-1" strike="noStrike">
                <a:solidFill>
                  <a:srgbClr val="dc5900"/>
                </a:solidFill>
                <a:latin typeface="宋体"/>
              </a:rPr>
              <a:t>干涸，没水了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4005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li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è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水清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581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mèi</a:t>
            </a:r>
            <a:r>
              <a:rPr b="1" lang="zh-CN" sz="2800" spc="-1" strike="noStrike">
                <a:solidFill>
                  <a:srgbClr val="dc5900"/>
                </a:solidFill>
                <a:latin typeface="宋体"/>
              </a:rPr>
              <a:t>睡梦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92720" y="465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bi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ān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300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dc5900"/>
                </a:solidFill>
                <a:latin typeface="宋体"/>
              </a:rPr>
              <a:t>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2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76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760"/>
                            </p:stCondLst>
                            <p:childTnLst>
                              <p:par>
                                <p:cTn id="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76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76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760"/>
                            </p:stCondLst>
                            <p:childTnLst>
                              <p:par>
                                <p:cTn id="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诗歌赏析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自读诗歌，想一想写了哪些场景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你能给每一节取一个名字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读一读你认为写得好的词语或句子，说说好在哪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7596360" y="2060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7956720" y="5877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方正舒体"/>
                <a:ea typeface="方正舒体"/>
              </a:rPr>
              <a:t>震落了清晨满披着的露珠</a:t>
            </a:r>
            <a:r>
              <a:rPr b="0" lang="en-US" sz="4000" spc="-1" strike="noStrike">
                <a:solidFill>
                  <a:srgbClr val="3333ff"/>
                </a:solidFill>
                <a:latin typeface="方正舒体"/>
                <a:ea typeface="方正舒体"/>
              </a:rPr>
              <a:t>,</a:t>
            </a:r>
            <a:br>
              <a:rPr sz="4000"/>
            </a:br>
            <a:r>
              <a:rPr b="0" lang="zh-CN" sz="4000" spc="-1" strike="noStrike">
                <a:solidFill>
                  <a:srgbClr val="3333ff"/>
                </a:solidFill>
                <a:latin typeface="方正舒体"/>
                <a:ea typeface="方正舒体"/>
              </a:rPr>
              <a:t>伐木声丁丁地飘出幽谷</a:t>
            </a:r>
            <a:r>
              <a:rPr b="0" lang="en-US" sz="4000" spc="-1" strike="noStrike">
                <a:solidFill>
                  <a:srgbClr val="3333ff"/>
                </a:solidFill>
                <a:latin typeface="方正舒体"/>
                <a:ea typeface="方正舒体"/>
              </a:rPr>
              <a:t>.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1" descr=""/>
          <p:cNvPicPr/>
          <p:nvPr/>
        </p:nvPicPr>
        <p:blipFill>
          <a:blip r:embed="rId2"/>
          <a:stretch/>
        </p:blipFill>
        <p:spPr>
          <a:xfrm>
            <a:off x="0" y="1914480"/>
            <a:ext cx="8763120" cy="4943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820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放下饱食过稻香的镰刀</a:t>
            </a:r>
            <a:r>
              <a:rPr b="0" lang="en-US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,</a:t>
            </a:r>
            <a:br>
              <a:rPr sz="3600"/>
            </a:b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用背篓来装竹篱间肥硕的瓜果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414480" y="981000"/>
            <a:ext cx="13993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方正舒体"/>
                <a:ea typeface="方正舒体"/>
              </a:rPr>
              <a:t>秋天游戏在渔船上</a:t>
            </a:r>
            <a:r>
              <a:rPr b="0" lang="en-US" sz="4000" spc="-1" strike="noStrike">
                <a:solidFill>
                  <a:srgbClr val="ffcc00"/>
                </a:solidFill>
                <a:latin typeface="方正舒体"/>
                <a:ea typeface="方正舒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1680" y="836640"/>
            <a:ext cx="1277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50476"/>
                </a:solidFill>
                <a:latin typeface="方正舒体"/>
                <a:ea typeface="方正舒体"/>
              </a:rPr>
              <a:t>秋天梦寐在牧羊女的眼里</a:t>
            </a:r>
            <a:r>
              <a:rPr b="0" lang="en-US" sz="3600" spc="-1" strike="noStrike">
                <a:solidFill>
                  <a:srgbClr val="250476"/>
                </a:solidFill>
                <a:latin typeface="方正舒体"/>
                <a:ea typeface="方正舒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459640" y="630864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10800"/>
                </a:moveTo>
                <a:lnTo>
                  <a:pt x="17850" y="3794"/>
                </a:lnTo>
                <a:lnTo>
                  <a:pt x="1785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牛刀小试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8459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诗歌翻译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天净沙</a:t>
            </a: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·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秋思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欣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试用诗歌的语言翻译一句或几句古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524720" y="263700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7301"/>
                </a:moveTo>
                <a:lnTo>
                  <a:pt x="15525" y="7301"/>
                </a:lnTo>
                <a:lnTo>
                  <a:pt x="15908" y="7667"/>
                </a:lnTo>
                <a:lnTo>
                  <a:pt x="25117" y="7667"/>
                </a:lnTo>
                <a:lnTo>
                  <a:pt x="25674" y="8224"/>
                </a:lnTo>
                <a:lnTo>
                  <a:pt x="25674" y="8772"/>
                </a:lnTo>
                <a:lnTo>
                  <a:pt x="27519" y="8772"/>
                </a:lnTo>
                <a:lnTo>
                  <a:pt x="27885" y="8224"/>
                </a:lnTo>
                <a:lnTo>
                  <a:pt x="28624" y="8224"/>
                </a:lnTo>
                <a:lnTo>
                  <a:pt x="28624" y="13376"/>
                </a:lnTo>
                <a:lnTo>
                  <a:pt x="27885" y="13376"/>
                </a:lnTo>
                <a:lnTo>
                  <a:pt x="27519" y="12828"/>
                </a:lnTo>
                <a:lnTo>
                  <a:pt x="25674" y="12828"/>
                </a:lnTo>
                <a:lnTo>
                  <a:pt x="25674" y="14107"/>
                </a:lnTo>
                <a:lnTo>
                  <a:pt x="16091" y="14107"/>
                </a:lnTo>
                <a:lnTo>
                  <a:pt x="16091" y="9877"/>
                </a:lnTo>
                <a:lnTo>
                  <a:pt x="15908" y="9877"/>
                </a:lnTo>
                <a:lnTo>
                  <a:pt x="15525" y="10243"/>
                </a:lnTo>
                <a:lnTo>
                  <a:pt x="14612" y="10243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秋思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63280" y="1197000"/>
            <a:ext cx="62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经历了无数春的萌芽，夏之繁茂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那棵老柏佝偻着枯干的身躯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任凭枯藤紧紧缠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古道悠悠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马蹄在青石路面洒落斑驳的音符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弹着一曲秋之变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一样的小溪石桥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一样的白墙青瓦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是谁在炊烟中匆匆行走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周璟</cp:lastModifiedBy>
  <dcterms:modified xsi:type="dcterms:W3CDTF">2004-11-04T07:45:53Z</dcterms:modified>
  <cp:revision>100</cp:revision>
  <dc:subject/>
  <dc:title>PowerPoint Presentation</dc:title>
</cp:coreProperties>
</file>