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741-129B-48CC-8E77-3A2B291B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F68-9DD7-4E21-8C10-5C87ED6D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ED0-92EC-47A2-B279-A64ADF51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5DA-A980-4F0D-95B6-30ACCD27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5E8A-FA20-479C-816F-DEFCD2A0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52E-3A25-49A2-B805-8C7E920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FF0F-11B6-4A8C-A293-D1C31FB9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B182-791D-4D4C-885B-F19AF3AB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705F-7304-4173-8F8F-C1434352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915C-F8F6-43D9-BD74-6F77791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45C-CFFE-4DD0-B207-F72934E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636-9119-4D52-A6B6-64B1F54D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D092-67D2-4BD4-8BCC-D8F8E57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803-658D-4D8A-AC48-193198C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EA70-A691-4DCB-97BB-472230D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ABB-A964-4EFE-A541-49E9C187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091-B373-4CC8-8017-6C801E2B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9E25-AC72-4CBE-A7F1-09CF4AD4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5B21-086E-4A5F-8D4E-7377F3DE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DF29-F3B9-4C87-B348-1F211B6E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6718-08A1-4429-BAF3-DDA0D0A9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32B0-D6CD-47AF-A66D-4D6E7F1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E78-5555-4A69-9EC8-5B72740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DB19-A301-4070-9491-0F30B2F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E20E-3946-42B4-88FA-53F0CB5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833E-5CFD-4D56-945B-80192F8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3BDC-5EC1-4478-B4D9-0A4D9BB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8C54-DF7C-4AD6-B4EB-1C51C278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F7E3-F52D-4435-99D0-A1953A1E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5A2A-02FD-4DB5-8A06-FC64FAD3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36F-4527-487B-A296-7FD2668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B50-8639-40F4-901D-EC86292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BAF-F15E-4EF5-8FAB-787FDC8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45A-C3D8-4732-BA9A-292F7BF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053-7DA3-47E3-8668-BB9B957E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936-BEFD-4DE1-B87A-4292F82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B32A-F6BF-4712-89AA-508F980AB2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2695-3652-42B6-8AC4-A3BAB7B1734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E0CA-FE62-4AD8-A9B3-4F6578B3EA8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024x768_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800x600_044" descr=""/>
          <p:cNvPicPr/>
          <p:nvPr/>
        </p:nvPicPr>
        <p:blipFill>
          <a:blip r:embed="rId2"/>
          <a:stretch/>
        </p:blipFill>
        <p:spPr>
          <a:xfrm>
            <a:off x="0" y="4514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700040" y="380880"/>
            <a:ext cx="1094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隶书"/>
              </a:rPr>
              <a:t>一叶知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稻田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685800" y="502920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农家丰收图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19720" y="609480"/>
            <a:ext cx="4114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晨朝露未唏的时候，有位农人来到幽谷，丁丁的伐木声震荡山谷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田野里发散出稻香的气息，金黄的波浪此起彼伏，稻田中有个身影在挥镰割稻，晶莹的汗珠湿透衣衫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林中还有采摘瓜果的人，瓜果飘香，沁人心脾，摘下这些沉甸甸的秋天的礼物，放进背篓，这份喜悦要与亲友一起分享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52160" y="552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农家丰收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92" descr=""/>
          <p:cNvPicPr/>
          <p:nvPr/>
        </p:nvPicPr>
        <p:blipFill>
          <a:blip r:embed="rId1"/>
          <a:stretch/>
        </p:blipFill>
        <p:spPr>
          <a:xfrm>
            <a:off x="152280" y="222264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3059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latin typeface="华文行楷"/>
              </a:rPr>
              <a:t>霜晨归渔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343400" y="304920"/>
            <a:ext cx="434340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晨的江面还弥漫着冷冷的雾气，可以感受到些许的凉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远地有个渔人摇着船桨向岸边驶来。依稀可见船篷上挂着层白霜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渔人熟练地撒下鱼网，网上的青鳊鱼就像乌桕叶，闪着银色的光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航了，江面上传来动人的渔歌，还有阵阵爽朗的笑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3560" y="7048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霜晨归渔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000100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羊" descr="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03680" y="457200"/>
            <a:ext cx="4540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隶书"/>
                <a:ea typeface="隶书"/>
              </a:rPr>
              <a:t>少女思恋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7600" y="762120"/>
            <a:ext cx="5334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野上一片蟋蟀的鸣叫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溪水清澈见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羊儿的咩咩声阵阵传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天的美景让人赏心悦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牧羊女却失去了往日的活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夏日里的笛声悠远、绵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不见了那吹笛的少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姑娘的心事谁能猜得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face_8" descr=""/>
          <p:cNvPicPr/>
          <p:nvPr/>
        </p:nvPicPr>
        <p:blipFill>
          <a:blip r:embed="rId1"/>
          <a:stretch/>
        </p:blipFill>
        <p:spPr>
          <a:xfrm>
            <a:off x="0" y="2133720"/>
            <a:ext cx="3454560" cy="4724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72440" y="83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少女思恋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228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伐木声飘出幽谷——从听觉的角度，写出了幽谷的深、静。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60020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放下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饱食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过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稻香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的镰刀——“饱食”运用了拟人的修辞写出了丰收之景；“稻香”从味觉角度，暗示稻子成熟，展示丰收的图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秋天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栖息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在农家里——“栖息”运用拟人的修辞，概括秋天在农人家里的状况，将虚无的东西具体化，写出了松弛、娴静的氛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0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优美语句赏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3808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轻轻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摇着归泊的小桨——“轻轻”显示出渔人悠闲与自得的心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秋天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游戏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在渔船上——“游戏”一词虚实相生，渔人是在渔船上游戏，并不在乎打了多少鱼，更是在感受秋天，游戏秋天，写出了那份闲适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秋天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梦寐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在牧羊女的眼里——“梦寐”是朦胧的意思，写出了少女的情怀，牧羊女的感情似喜似羞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0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优美语句赏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8080" y="21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比喻青鳊鱼像乌桕叶；另一层意思，江岸上乌桕树，树叶婆娑，倒映在江面，就好像网起的是乌桕叶的影子。用倒装句体现渔民悠闲的心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609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为什么“收起青鳊鱼似的乌桕叶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影子”这个比喻用得好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ROSE3" descr=""/>
          <p:cNvPicPr/>
          <p:nvPr/>
        </p:nvPicPr>
        <p:blipFill>
          <a:blip r:embed="rId1"/>
          <a:stretch/>
        </p:blipFill>
        <p:spPr>
          <a:xfrm rot="10800000">
            <a:off x="6324120" y="525780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86" name="ROSE3" descr=""/>
          <p:cNvPicPr/>
          <p:nvPr/>
        </p:nvPicPr>
        <p:blipFill>
          <a:blip r:embed="rId2"/>
          <a:stretch/>
        </p:blipFill>
        <p:spPr>
          <a:xfrm rot="10800000">
            <a:off x="4723920" y="518112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187" name="ROSE3" descr=""/>
          <p:cNvPicPr/>
          <p:nvPr/>
        </p:nvPicPr>
        <p:blipFill>
          <a:blip r:embed="rId3"/>
          <a:stretch/>
        </p:blipFill>
        <p:spPr>
          <a:xfrm rot="10800000">
            <a:off x="2743200" y="5181120"/>
            <a:ext cx="1085760" cy="1086120"/>
          </a:xfrm>
          <a:prstGeom prst="rect">
            <a:avLst/>
          </a:prstGeom>
          <a:ln w="0">
            <a:noFill/>
          </a:ln>
        </p:spPr>
      </p:pic>
      <p:pic>
        <p:nvPicPr>
          <p:cNvPr id="188" name="ROSE3" descr=""/>
          <p:cNvPicPr/>
          <p:nvPr/>
        </p:nvPicPr>
        <p:blipFill>
          <a:blip r:embed="rId4"/>
          <a:stretch/>
        </p:blipFill>
        <p:spPr>
          <a:xfrm rot="10800000">
            <a:off x="762120" y="5181120"/>
            <a:ext cx="1085760" cy="1086120"/>
          </a:xfrm>
          <a:prstGeom prst="rect">
            <a:avLst/>
          </a:prstGeom>
          <a:ln w="0">
            <a:noFill/>
          </a:ln>
        </p:spPr>
      </p:pic>
      <p:pic>
        <p:nvPicPr>
          <p:cNvPr id="189" name="ROSE3" descr=""/>
          <p:cNvPicPr/>
          <p:nvPr/>
        </p:nvPicPr>
        <p:blipFill>
          <a:blip r:embed="rId5"/>
          <a:stretch/>
        </p:blipFill>
        <p:spPr>
          <a:xfrm rot="10800000">
            <a:off x="7695720" y="5257800"/>
            <a:ext cx="10861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90720" y="762120"/>
            <a:ext cx="73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Verdana"/>
                <a:ea typeface="华文新魏"/>
              </a:rPr>
              <a:t>课堂小结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华文新魏"/>
              </a:rPr>
              <a:t>本诗从多种感官角度出发，运用比喻、拟人的修辞，写出夏忙后农闲的景象：农人世外桃源般的生活悠闲、惬意，少了些艰难苦恨，多的是清静、清甜。这是一个明媚、快乐的秋天，一个乐在其中的秋天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09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772920" cy="696960"/>
          </a:xfrm>
          <a:prstGeom prst="rect">
            <a:avLst/>
          </a:prstGeom>
          <a:ln w="0">
            <a:noFill/>
          </a:ln>
        </p:spPr>
      </p:pic>
      <p:pic>
        <p:nvPicPr>
          <p:cNvPr id="192" name="09" descr=""/>
          <p:cNvPicPr/>
          <p:nvPr/>
        </p:nvPicPr>
        <p:blipFill>
          <a:blip r:embed="rId2"/>
          <a:stretch/>
        </p:blipFill>
        <p:spPr>
          <a:xfrm>
            <a:off x="1600200" y="5791320"/>
            <a:ext cx="773280" cy="696960"/>
          </a:xfrm>
          <a:prstGeom prst="rect">
            <a:avLst/>
          </a:prstGeom>
          <a:ln w="0">
            <a:noFill/>
          </a:ln>
        </p:spPr>
      </p:pic>
      <p:pic>
        <p:nvPicPr>
          <p:cNvPr id="193" name="09" descr=""/>
          <p:cNvPicPr/>
          <p:nvPr/>
        </p:nvPicPr>
        <p:blipFill>
          <a:blip r:embed="rId3"/>
          <a:stretch/>
        </p:blipFill>
        <p:spPr>
          <a:xfrm>
            <a:off x="2971800" y="5867280"/>
            <a:ext cx="773280" cy="696960"/>
          </a:xfrm>
          <a:prstGeom prst="rect">
            <a:avLst/>
          </a:prstGeom>
          <a:ln w="0">
            <a:noFill/>
          </a:ln>
        </p:spPr>
      </p:pic>
      <p:pic>
        <p:nvPicPr>
          <p:cNvPr id="194" name="09" descr=""/>
          <p:cNvPicPr/>
          <p:nvPr/>
        </p:nvPicPr>
        <p:blipFill>
          <a:blip r:embed="rId4"/>
          <a:stretch/>
        </p:blipFill>
        <p:spPr>
          <a:xfrm>
            <a:off x="4267080" y="5867280"/>
            <a:ext cx="773280" cy="696960"/>
          </a:xfrm>
          <a:prstGeom prst="rect">
            <a:avLst/>
          </a:prstGeom>
          <a:ln w="0">
            <a:noFill/>
          </a:ln>
        </p:spPr>
      </p:pic>
      <p:pic>
        <p:nvPicPr>
          <p:cNvPr id="195" name="09" descr=""/>
          <p:cNvPicPr/>
          <p:nvPr/>
        </p:nvPicPr>
        <p:blipFill>
          <a:blip r:embed="rId5"/>
          <a:stretch/>
        </p:blipFill>
        <p:spPr>
          <a:xfrm>
            <a:off x="5562720" y="5867280"/>
            <a:ext cx="772920" cy="696960"/>
          </a:xfrm>
          <a:prstGeom prst="rect">
            <a:avLst/>
          </a:prstGeom>
          <a:ln w="0">
            <a:noFill/>
          </a:ln>
        </p:spPr>
      </p:pic>
      <p:pic>
        <p:nvPicPr>
          <p:cNvPr id="196" name="09" descr=""/>
          <p:cNvPicPr/>
          <p:nvPr/>
        </p:nvPicPr>
        <p:blipFill>
          <a:blip r:embed="rId6"/>
          <a:stretch/>
        </p:blipFill>
        <p:spPr>
          <a:xfrm>
            <a:off x="6705720" y="5791320"/>
            <a:ext cx="772920" cy="696960"/>
          </a:xfrm>
          <a:prstGeom prst="rect">
            <a:avLst/>
          </a:prstGeom>
          <a:ln w="0">
            <a:noFill/>
          </a:ln>
        </p:spPr>
      </p:pic>
      <p:pic>
        <p:nvPicPr>
          <p:cNvPr id="197" name="09" descr=""/>
          <p:cNvPicPr/>
          <p:nvPr/>
        </p:nvPicPr>
        <p:blipFill>
          <a:blip r:embed="rId7"/>
          <a:stretch/>
        </p:blipFill>
        <p:spPr>
          <a:xfrm>
            <a:off x="7848720" y="5791320"/>
            <a:ext cx="7729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809880"/>
            <a:ext cx="704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隶书"/>
              </a:rPr>
              <a:t>停车坐爱枫林晚，霜叶红于二月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杜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1024x768_014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103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作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观察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身边的秋天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着感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悟，描绘出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的秋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天。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9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00" y="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600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秋  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9810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49280"/>
            <a:ext cx="46479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晨曦比往日更柔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毛栗变得褐色可爱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浆果的面颊多么丰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玫瑰在郊外盛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枫树扎着华丽的丝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田野披上艳红的轻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不愿显得古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也佩戴了一枚胸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200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美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]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狄金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宋   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悲哉秋之为气也， 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萧瑟兮草木摇落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  <a:ea typeface="华文新魏"/>
              </a:rPr>
              <a:t>而变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。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  <a:ea typeface="华文新魏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刘禹锡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何处秋风至？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 萧萧送雁群。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李    白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霜落荆门江树空，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 布帆无恙挂秋风。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秋    瑾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秋风秋雨愁煞人。</a:t>
            </a:r>
            <a:br>
              <a:rPr sz="4400"/>
            </a:b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杜   甫</a:t>
            </a:r>
            <a:r>
              <a:rPr b="0" lang="zh-CN" sz="2800" spc="-1" strike="noStrike">
                <a:solidFill>
                  <a:srgbClr val="336699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</a:t>
            </a: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无边落木萧萧下，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不尽长江滚滚</a:t>
            </a: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来</a:t>
            </a:r>
            <a:r>
              <a:rPr b="0" lang="zh-CN" sz="28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46960" y="1981080"/>
            <a:ext cx="324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秋       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30480" y="396252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何 其 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xz_7_1hqf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350352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5334120"/>
            <a:ext cx="5791320" cy="1523520"/>
            <a:chOff x="838080" y="5334120"/>
            <a:chExt cx="5791320" cy="1523520"/>
          </a:xfrm>
        </p:grpSpPr>
        <p:sp>
          <p:nvSpPr>
            <p:cNvPr id="133" name=""/>
            <p:cNvSpPr/>
            <p:nvPr/>
          </p:nvSpPr>
          <p:spPr>
            <a:xfrm>
              <a:off x="838080" y="5334120"/>
              <a:ext cx="5791320" cy="15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5334120"/>
              <a:ext cx="390816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38080" y="5486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何其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912—197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26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-304920"/>
            <a:ext cx="8458200" cy="7394400"/>
            <a:chOff x="0" y="-304920"/>
            <a:chExt cx="8458200" cy="7394400"/>
          </a:xfrm>
        </p:grpSpPr>
        <p:sp>
          <p:nvSpPr>
            <p:cNvPr id="138" name=""/>
            <p:cNvSpPr/>
            <p:nvPr/>
          </p:nvSpPr>
          <p:spPr>
            <a:xfrm>
              <a:off x="0" y="-304920"/>
              <a:ext cx="84582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-304920"/>
              <a:ext cx="5707800" cy="73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57800" y="3808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楷体"/>
              </a:rPr>
              <a:t>    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楷体"/>
              </a:rPr>
              <a:t>现代诗人，文学评论家。原名何永芳，四川万县人。 《秋天》作于１９３２年９月，编入诗集《预言》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正字正音：</a:t>
            </a:r>
            <a:br>
              <a:rPr sz="44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镰（       ）刀       肥硕 （       ）    栖（       ）息    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青鳊（      ）鱼    乌桕（    ）叶     满载（     ） 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归泊（      ）   蟋（     ）蟀（       ）寥（     ）阔    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枯涸（     ）     清洌（     ）     梦寐（      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5080" y="213372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2133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h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46920" y="20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0560" y="2981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8920" y="2981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i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92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6720" y="3846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3846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84660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hu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846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71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4710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465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4756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震落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了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清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满披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着的露珠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伐木声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丁丁地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飘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出幽谷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放下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饱食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过稻香的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镰刀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用背篓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来装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竹篱间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肥硕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的瓜果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秋天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栖息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农家里。</a:t>
            </a:r>
            <a:br>
              <a:rPr sz="2300"/>
            </a:b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向江面的冷雾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撒下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圆圆的网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收起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青鳊鱼似的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乌桕叶的影子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芦篷上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满载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着白霜，</a:t>
            </a:r>
            <a:br>
              <a:rPr sz="2300"/>
            </a:b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轻轻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摇着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归泊的小桨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秋天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游戏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渔船上。</a:t>
            </a:r>
            <a:br>
              <a:rPr sz="2300"/>
            </a:b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草野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蟋蟀声中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更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寥阔了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溪水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因枯涸见石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更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清洌了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牛背上的笛声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何处去了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那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满流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着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夏夜的香与热的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笛孔？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秋天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梦寐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牧羊女的眼里。</a:t>
            </a:r>
            <a:br>
              <a:rPr sz="2300"/>
            </a:b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3520"/>
            <a:ext cx="1066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新魏"/>
              </a:rPr>
              <a:t>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新魏"/>
              </a:rPr>
              <a:t>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何其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5000"/>
            <a:ext cx="7991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诗歌中刻画了几幅秋日风景图？你能不能给它们起一个富于诗意的名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421000"/>
            <a:ext cx="277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●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农家丰收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3281400"/>
            <a:ext cx="292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●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霜晨归渔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4145040"/>
            <a:ext cx="316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●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少女思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00306DB6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419360" cy="438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ml0007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086600" cy="317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3" name=""/>
          <p:cNvSpPr/>
          <p:nvPr/>
        </p:nvSpPr>
        <p:spPr>
          <a:xfrm>
            <a:off x="990720" y="228600"/>
            <a:ext cx="75438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66ff"/>
                </a:solidFill>
                <a:latin typeface="华文新魏"/>
                <a:ea typeface="华文新魏"/>
              </a:rPr>
              <a:t>讨论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想像每幅画面中的人物与风景，用自己的语言去描绘你喜欢的一幅图画。把它说给你的同学听，看看谁描绘的画面最优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12:03Z</dcterms:created>
  <dc:creator>wutao</dc:creator>
  <dc:description/>
  <dc:language>en-US</dc:language>
  <cp:lastModifiedBy>a</cp:lastModifiedBy>
  <dcterms:modified xsi:type="dcterms:W3CDTF">2004-12-16T03:09:00Z</dcterms:modified>
  <cp:revision>100</cp:revision>
  <dc:subject/>
  <dc:title>PowerPoint Presentation</dc:title>
</cp:coreProperties>
</file>