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png" ContentType="image/pn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151-243D-4340-92DE-77D5B4DE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D92-D95C-4FFF-99CB-B96B84F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192-3792-4E0B-82F1-3ECA00E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655-ADEA-4E11-8A3C-8ED5FD85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2B4-A91B-476F-933B-C17AF54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FEA-32C4-449C-82C3-484E6AC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9CC-E04D-4F5F-8849-8C129446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C7F9-D2AA-4196-9C96-E7554DBC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54DB-8118-4D31-8151-9BBC00D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AD8-C87E-4913-B7A5-A20D144B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6BB1-5553-442F-AAFD-C11DA97A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FAA-7AD3-403C-A2D5-7C144D5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213-DC6B-4390-87AB-F304839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51B-D3EB-4588-8C70-EC1A61D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5E1D-45A6-4262-9580-654C3EAB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9397-A419-4EFB-AF2F-1D940C8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A6A9-BFE8-4EA6-8082-97291027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961-18A0-44D5-A72C-47A6D4D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8F3-0384-4B92-9089-CAF46FCF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6C5-362C-48C3-89D3-0EFA0472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399-F277-45C5-A267-A354C5F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135-EB87-46B3-BF97-BDCF0C0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058-452B-4CCB-8B22-C2AC317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10C-3C16-418F-B697-A63C357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9A3-8BF0-4B57-B98E-617DA350D606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D5D-B120-4974-97EC-1BCF8D6B8338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5" name="2978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是温柔的爱情与优美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光的无限延展，是微妙心灵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与广袤世界的无限契合；情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感融入了季节，思想交汇了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自然。在萦萦于耳的天籁 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声中，我们读懂了秋天……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Arial"/>
                <a:ea typeface="楷体_GB2312"/>
              </a:rPr>
              <a:t>              ——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楷体_GB2312"/>
              </a:rPr>
              <a:t>《精神守望》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0047412202918887" descr=""/>
          <p:cNvPicPr/>
          <p:nvPr/>
        </p:nvPicPr>
        <p:blipFill>
          <a:blip r:embed="rId1"/>
          <a:srcRect l="55943" t="0" r="0" b="54094"/>
          <a:stretch/>
        </p:blipFill>
        <p:spPr>
          <a:xfrm>
            <a:off x="-762120" y="-304920"/>
            <a:ext cx="10211040" cy="7716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秋  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何其芳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生字卡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丁  丁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幽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谷       肥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硕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栖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息 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归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泊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寥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阔       枯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涸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清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寐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晨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曦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毛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栗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面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颊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057400"/>
            <a:ext cx="25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zhēn</a:t>
            </a:r>
            <a:r>
              <a:rPr b="0" lang="zh-CN" sz="2800" spc="-1" strike="noStrike">
                <a:solidFill>
                  <a:srgbClr val="333333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zhēn</a:t>
            </a:r>
            <a:r>
              <a:rPr b="0" lang="zh-CN" sz="2800" spc="-1" strike="noStrike">
                <a:solidFill>
                  <a:srgbClr val="333333"/>
                </a:solidFill>
                <a:latin typeface="zypyyb"/>
                <a:ea typeface="zypyyb"/>
              </a:rPr>
              <a:t>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37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ō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0640" y="20574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shu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60800" y="2057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q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480" y="3276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333333"/>
                </a:solidFill>
                <a:latin typeface="zypyyb"/>
                <a:ea typeface="zypyyb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7320" y="3429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2960" y="33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li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9200" y="47242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è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7242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960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4648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i</a:t>
            </a:r>
            <a:r>
              <a:rPr b="0" lang="en-US" sz="2800" spc="-1" strike="noStrike">
                <a:solidFill>
                  <a:srgbClr val="333333"/>
                </a:solidFill>
                <a:latin typeface="zypyyb"/>
                <a:ea typeface="zypyyb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思考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为什么说这是一幅乡村秋景图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诗歌抒发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了作者怎样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的感情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fj11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78088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8001000" cy="4876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533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想象每幅画中人物的身份、活动、心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找出作者的写作顺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0045311561958756" descr=""/>
          <p:cNvPicPr/>
          <p:nvPr/>
        </p:nvPicPr>
        <p:blipFill>
          <a:blip r:embed="rId1"/>
          <a:srcRect l="51360" t="53285" r="0" b="4343"/>
          <a:stretch/>
        </p:blipFill>
        <p:spPr>
          <a:xfrm>
            <a:off x="-228600" y="0"/>
            <a:ext cx="96012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j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00491422394734183" descr=""/>
          <p:cNvPicPr/>
          <p:nvPr/>
        </p:nvPicPr>
        <p:blipFill>
          <a:blip r:embed="rId1"/>
          <a:srcRect l="50005" t="46976" r="4542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505320" y="0"/>
          <a:ext cx="563868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0"/>
                    <a:ext cx="5638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38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楷体_GB2312"/>
              </a:rPr>
              <a:t>秋     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晨曦比往日更柔婉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栗变得褐色可爱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浆果的面颊多么丰满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玫瑰在郊外盛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枫树扎着华丽的丝巾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田野披上艳红的轻纱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不愿显得古板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佩戴了一枚胸花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2:10:52Z</dcterms:created>
  <dc:creator>wutao</dc:creator>
  <dc:description/>
  <dc:language>en-US</dc:language>
  <cp:lastModifiedBy>周璟</cp:lastModifiedBy>
  <dcterms:modified xsi:type="dcterms:W3CDTF">2004-11-04T09:07:14Z</dcterms:modified>
  <cp:revision>100</cp:revision>
  <dc:subject/>
  <dc:title>秋  天</dc:title>
</cp:coreProperties>
</file>