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  <p:custShowLst>
    <p:custShow name="自定义放映1" id="0">
      <p:sldLst>
        <p:sld r:id="rId1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3DA7-1EE2-4D01-AC47-D87612D2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2FCE-D41E-4FBE-AFAA-B91B7109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B08F-3D48-4104-9741-EA300F1B5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80F2-04F6-44DF-BCB2-36DEB1BAA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D43B-4D06-42B0-A5FB-65EFECDC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B654-D584-48B7-A11A-3F36B8F7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42D2-CDCB-446E-9AF4-515A92B1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9C62-9F6E-43E0-9A3F-1C803311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D77C-3361-4E22-AD98-EC908B66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0F40-FCDF-46C9-8AE3-64B32FD6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113B-B18E-434B-91F1-1660CA88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FFB6-05E2-42BF-B9A6-77B82F4B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2FF9-2C63-4019-A6D1-733283BCEA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3332" t="5553" r="5833" b="55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200480" y="400536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农家丰收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68360" y="1413000"/>
            <a:ext cx="56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霜晨归渔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blinds dir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24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609920" y="67644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牧女思恋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86000" y="2793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27280" y="620640"/>
            <a:ext cx="7416720" cy="43333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诗歌主题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全诗以”秋”为线索通过对不同场景的描绘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创造了一种即来自人世又远离尘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的清静、清远、 清甜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秋的氛围，表达了对秋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的热爱之情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26920" y="907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80" y="40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981000"/>
            <a:ext cx="374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朗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2692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200217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25440" y="907920"/>
            <a:ext cx="79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9800" y="3284640"/>
            <a:ext cx="94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Times New Roman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440" y="213372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1052640"/>
            <a:ext cx="870768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作业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读一读 写一写中的词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注音并解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3640" y="907920"/>
            <a:ext cx="8388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著名诗人秋瑾在诗中说：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“秋风秋雨愁煞人”。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宋玉也在《九辩》中言：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“悲哉秋之为气也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萧瑟兮草木摇落而变衰”。 </a:t>
            </a:r>
            <a:br>
              <a:rPr sz="4400"/>
            </a:b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唐代诗人刘禹锡在诗中说：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“自古逢秋悲寂寥”。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348000" y="836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84360" y="1125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00560" y="2347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654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103400"/>
            <a:ext cx="196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92360" y="620640"/>
            <a:ext cx="2376360" cy="75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0" spc="-1" strike="noStrike">
                <a:solidFill>
                  <a:srgbClr val="00cc99"/>
                </a:solidFill>
                <a:latin typeface="隶书"/>
                <a:ea typeface="隶书"/>
              </a:rPr>
              <a:t>秋      天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61600" y="2924280"/>
            <a:ext cx="22550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99"/>
                </a:solidFill>
                <a:latin typeface="Times New Roman"/>
                <a:ea typeface="隶书"/>
              </a:rPr>
              <a:t>何其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87640" cy="4221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03640" y="1628640"/>
            <a:ext cx="6102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何其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912—1977)   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现代诗人，评论家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四川万县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著有诗《我们最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的节日》，</a:t>
            </a:r>
            <a:r>
              <a:rPr b="1" lang="zh-CN" sz="40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诗集《预言》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散文集《画梦录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79218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琥珀"/>
                <a:ea typeface="华文琥珀"/>
              </a:rPr>
              <a:t>正确朗读下列词语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肥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硕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         枯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丁丁          清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寥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阔          青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鳊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梦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寐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         乌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桕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1341360"/>
            <a:ext cx="34574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shuò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(zhēn</a:t>
            </a:r>
            <a:r>
              <a:rPr b="1" lang="zh-CN" sz="5400" spc="-1" strike="noStrike">
                <a:solidFill>
                  <a:srgbClr val="ff0000"/>
                </a:solidFill>
                <a:latin typeface="zypyyb"/>
                <a:ea typeface="zypyyb"/>
              </a:rPr>
              <a:t>g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(li</a:t>
            </a:r>
            <a:r>
              <a:rPr b="1" lang="zh-CN" sz="5400" spc="-1" strike="noStrike">
                <a:solidFill>
                  <a:srgbClr val="ff0000"/>
                </a:solidFill>
                <a:latin typeface="zypyyb"/>
                <a:ea typeface="zypyyb"/>
              </a:rPr>
              <a:t>2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o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(mèi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48360" y="1268280"/>
            <a:ext cx="2664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hé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(liè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(biān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(jiù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6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词语解释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1341360"/>
            <a:ext cx="3097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幽谷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肥硕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清冽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寥阔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43280" y="1506600"/>
            <a:ext cx="59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幽深的山谷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56000" y="2585880"/>
            <a:ext cx="72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指果实又大又饱满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3500280"/>
            <a:ext cx="30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水清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．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4437000"/>
            <a:ext cx="42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高远空旷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词语解释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952560"/>
            <a:ext cx="27352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枯涸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梦寐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栖息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丁丁</a:t>
            </a: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43280" y="1054080"/>
            <a:ext cx="59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干涸，没水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了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2349360"/>
            <a:ext cx="25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睡梦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3280" y="3573360"/>
            <a:ext cx="59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停留，休息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11320" y="4653000"/>
            <a:ext cx="403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伐木声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89000" y="1438200"/>
            <a:ext cx="733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187280" y="5877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4920" y="0"/>
            <a:ext cx="9109080" cy="125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震落了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清晨满披着的露珠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伐木声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丁丁地飘出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幽谷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放下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饱食过稻香的镰刀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背篓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来装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竹篱间肥硕的瓜果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秋天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栖息在农家里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向江面的冷雾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撒下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圆的网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起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青鳊鱼似的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乌桕叶的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影子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芦篷上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载着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霜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轻摇着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归泊的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桨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秋天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戏在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渔船上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野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蟋蟀声中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更寥阔了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溪水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枯涸见石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更清洌了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背上的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笛声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何处去了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满流着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夏夜的香与热的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笛孔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秋天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梦寐在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牧羊女的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里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817236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6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200217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0" y="2793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057400"/>
            <a:ext cx="7918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从哪些诗句、词语可以看出这是一幅乡村秋景图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诗中一共描绘了几幅图画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20560" y="584280"/>
            <a:ext cx="146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想一想</a:t>
            </a:r>
            <a:r>
              <a:rPr b="0" lang="zh-CN" sz="4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utao</dc:creator>
  <dc:description/>
  <dc:language>en-US</dc:language>
  <cp:lastModifiedBy>周璟</cp:lastModifiedBy>
  <dcterms:modified xsi:type="dcterms:W3CDTF">2004-11-04T09:44:00Z</dcterms:modified>
  <cp:revision>100</cp:revision>
  <dc:subject/>
  <dc:title>PowerPoint Presentation</dc:title>
</cp:coreProperties>
</file>