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8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42FD-C543-4FE6-B76B-ADBE9C4CD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6159-1951-4CF7-B6D1-2F20EB00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D420-426F-428A-8355-E106B0D6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9921-FF9E-4226-BFF1-7535DA870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85DA-A83E-4B50-A814-D33AFC0F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6054-4926-41F4-B031-BA16AB19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14A9-FF48-4E79-8AA4-6BED2420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E8B1-B868-4400-A054-96D2FD8B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9085-1EB8-429A-A01B-DC9689C6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3B11-3DA1-476B-99A6-C3F2C935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46CA-16D0-4D35-9F2A-8FF100BC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F24C-4627-4FAB-B590-553891E0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6987-371F-4496-A9EC-1EC31F05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9B49-CE65-49F7-948E-E490A014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188D-87FE-42AE-A621-03860EC6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7DA3-515C-4BA0-9083-A5D6D1E7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152F-CDC4-4E6D-9BBC-E24811FD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7F5F8-62FB-4F84-88BA-F056AA14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DCA59-AEC1-42EB-AB87-0C765B5A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1A1E8-D22E-4645-B2F9-4F6CEDB0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730E5-CD6D-422D-99D5-61D4A460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7C20E-8E29-4081-838A-39F5B799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3FAE-62D7-46FB-8F53-1DFC6670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324E1-D9A3-4EAC-B843-6F63AFFF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2C160-8DC2-4567-A6D3-C152511A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45686-5107-44B4-A3E6-93AA5A36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AC0EF-84AC-4143-98F4-396436FD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50BEB-C8E0-4F85-AFD0-035BECEE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DE21A-3013-4822-AE6F-292F0B7E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29683-6BF0-4FE9-958C-A56CE586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E9C4-E4A8-431D-BD7B-44893D30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C4DF-5FDE-4B62-8F07-45C418C8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CF05-24C1-488B-A945-494E6712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7ED4-5775-4BC7-A7CD-FA9F5088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844D-2F7F-4D0D-ABF8-F261D214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6179-98FF-4BAE-9E46-123C9C3E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3952-E035-467D-B097-73431F8511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7404-FB41-4FF8-AD0C-C196DA1877DF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2E28-6EFB-441F-B59C-907A9B75F95B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1024x768_14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800x600_044" descr=""/>
          <p:cNvPicPr/>
          <p:nvPr/>
        </p:nvPicPr>
        <p:blipFill>
          <a:blip r:embed="rId2"/>
          <a:stretch/>
        </p:blipFill>
        <p:spPr>
          <a:xfrm>
            <a:off x="0" y="451476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700040" y="380880"/>
            <a:ext cx="10947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00"/>
                </a:solidFill>
                <a:latin typeface="Times New Roman"/>
                <a:ea typeface="隶书"/>
              </a:rPr>
              <a:t>一叶知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稻田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685800" y="5029200"/>
            <a:ext cx="4267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339966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行楷"/>
              </a:rPr>
              <a:t>农家丰收图</a:t>
            </a:r>
            <a:endParaRPr b="1" lang="en-US" sz="24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339966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419720" y="609480"/>
            <a:ext cx="41148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清晨朝露未唏的时候，有位农人来到幽谷，丁丁的伐木声震荡山谷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田野里发散出稻香的气息，金黄的波浪此起彼伏，稻田中有个身影在挥镰割稻，晶莹的汗珠湿透衣衫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果林中还有采摘瓜果的人，瓜果飘香，沁人心脾，摘下这些沉甸甸的秋天的礼物，放进背篓，这份喜悦要与亲友一起分享…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52160" y="55260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农家丰收图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92" descr=""/>
          <p:cNvPicPr/>
          <p:nvPr/>
        </p:nvPicPr>
        <p:blipFill>
          <a:blip r:embed="rId1"/>
          <a:stretch/>
        </p:blipFill>
        <p:spPr>
          <a:xfrm>
            <a:off x="152280" y="2222640"/>
            <a:ext cx="4114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143000" y="533520"/>
            <a:ext cx="30592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latin typeface="华文行楷"/>
              </a:rPr>
              <a:t>霜晨归渔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>
                  <a:alpha val="50000"/>
                </a:srgbClr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343400" y="304920"/>
            <a:ext cx="4343400" cy="29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清晨的江面还弥漫着冷冷的雾气，可以感受到些许的凉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远远地有个渔人摇着船桨向岸边驶来。依稀可见船篷上挂着层白霜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渔人熟练地撒下鱼网，网上的青鳊鱼就像乌桕叶，闪着银色的光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归航了，江面上传来动人的渔歌，还有阵阵爽朗的笑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…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23560" y="70488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霜晨归渔图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000100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4114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羊" descr=""/>
          <p:cNvPicPr/>
          <p:nvPr/>
        </p:nvPicPr>
        <p:blipFill>
          <a:blip r:embed="rId2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603680" y="457200"/>
            <a:ext cx="4540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cc99"/>
                </a:solidFill>
                <a:latin typeface="隶书"/>
                <a:ea typeface="隶书"/>
              </a:rPr>
              <a:t>少女思恋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657600" y="762120"/>
            <a:ext cx="53341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原野上一片蟋蟀的鸣叫声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溪水清澈见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羊儿的咩咩声阵阵传来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秋天的美景让人赏心悦目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牧羊女却失去了往日的活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夏日里的笛声悠远、绵长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怎不见了那吹笛的少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姑娘的心事谁能猜得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face_8" descr=""/>
          <p:cNvPicPr/>
          <p:nvPr/>
        </p:nvPicPr>
        <p:blipFill>
          <a:blip r:embed="rId1"/>
          <a:stretch/>
        </p:blipFill>
        <p:spPr>
          <a:xfrm>
            <a:off x="0" y="2133720"/>
            <a:ext cx="3454560" cy="4724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072440" y="8380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少女思恋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905120" y="2286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333333"/>
                </a:solidFill>
                <a:latin typeface="Verdana"/>
              </a:rPr>
              <a:t>伐木声飘出幽谷——从听觉的角度，写出了幽谷的深、静。</a:t>
            </a: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1600200"/>
            <a:ext cx="6781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333333"/>
                </a:solidFill>
                <a:latin typeface="Verdana"/>
              </a:rPr>
              <a:t>放下</a:t>
            </a:r>
            <a:r>
              <a:rPr b="1" lang="zh-CN" sz="3600" spc="-1" strike="noStrike">
                <a:solidFill>
                  <a:srgbClr val="cc0066"/>
                </a:solidFill>
                <a:latin typeface="Verdana"/>
              </a:rPr>
              <a:t>饱食</a:t>
            </a:r>
            <a:r>
              <a:rPr b="1" lang="zh-CN" sz="3600" spc="-1" strike="noStrike">
                <a:solidFill>
                  <a:srgbClr val="333333"/>
                </a:solidFill>
                <a:latin typeface="Verdana"/>
              </a:rPr>
              <a:t>过</a:t>
            </a:r>
            <a:r>
              <a:rPr b="1" lang="zh-CN" sz="3600" spc="-1" strike="noStrike">
                <a:solidFill>
                  <a:srgbClr val="cc0066"/>
                </a:solidFill>
                <a:latin typeface="Verdana"/>
              </a:rPr>
              <a:t>稻香</a:t>
            </a:r>
            <a:r>
              <a:rPr b="1" lang="zh-CN" sz="3600" spc="-1" strike="noStrike">
                <a:solidFill>
                  <a:srgbClr val="333333"/>
                </a:solidFill>
                <a:latin typeface="Verdana"/>
              </a:rPr>
              <a:t>的镰刀——“饱食”运用了拟人的修辞写出了丰收之景；“稻香”从味觉角度，暗示稻子成熟，展示丰收的图画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333333"/>
                </a:solidFill>
                <a:latin typeface="Verdana"/>
              </a:rPr>
              <a:t>秋天</a:t>
            </a:r>
            <a:r>
              <a:rPr b="1" lang="zh-CN" sz="3600" spc="-1" strike="noStrike">
                <a:solidFill>
                  <a:srgbClr val="cc0066"/>
                </a:solidFill>
                <a:latin typeface="Verdana"/>
              </a:rPr>
              <a:t>栖息</a:t>
            </a:r>
            <a:r>
              <a:rPr b="1" lang="zh-CN" sz="3600" spc="-1" strike="noStrike">
                <a:solidFill>
                  <a:srgbClr val="333333"/>
                </a:solidFill>
                <a:latin typeface="Verdana"/>
              </a:rPr>
              <a:t>在农家里——“栖息”运用拟人的修辞，概括秋天在农人家里的状况，将虚无的东西具体化，写出了松弛、娴静的氛围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533520"/>
            <a:ext cx="701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华文行楷"/>
                <a:ea typeface="华文行楷"/>
              </a:rPr>
              <a:t>优美语句赏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828800" y="380880"/>
            <a:ext cx="7162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cc0066"/>
                </a:solidFill>
                <a:latin typeface="Verdana"/>
              </a:rPr>
              <a:t>轻轻</a:t>
            </a:r>
            <a:r>
              <a:rPr b="1" lang="zh-CN" sz="3600" spc="-1" strike="noStrike">
                <a:solidFill>
                  <a:srgbClr val="333333"/>
                </a:solidFill>
                <a:latin typeface="Verdana"/>
              </a:rPr>
              <a:t>摇着归泊的小桨——“轻轻”显示出渔人悠闲与自得的心情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333333"/>
                </a:solidFill>
                <a:latin typeface="Verdana"/>
              </a:rPr>
              <a:t>秋天</a:t>
            </a:r>
            <a:r>
              <a:rPr b="1" lang="zh-CN" sz="3600" spc="-1" strike="noStrike">
                <a:solidFill>
                  <a:srgbClr val="cc0066"/>
                </a:solidFill>
                <a:latin typeface="Verdana"/>
              </a:rPr>
              <a:t>游戏</a:t>
            </a:r>
            <a:r>
              <a:rPr b="1" lang="zh-CN" sz="3600" spc="-1" strike="noStrike">
                <a:solidFill>
                  <a:srgbClr val="333333"/>
                </a:solidFill>
                <a:latin typeface="Verdana"/>
              </a:rPr>
              <a:t>在渔船上——“游戏”一词虚实相生，渔人是在渔船上游戏，并不在乎打了多少鱼，更是在感受秋天，游戏秋天，写出了那份闲适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333333"/>
                </a:solidFill>
                <a:latin typeface="Verdana"/>
              </a:rPr>
              <a:t>秋天</a:t>
            </a:r>
            <a:r>
              <a:rPr b="1" lang="zh-CN" sz="3600" spc="-1" strike="noStrike">
                <a:solidFill>
                  <a:srgbClr val="cc0066"/>
                </a:solidFill>
                <a:latin typeface="Verdana"/>
              </a:rPr>
              <a:t>梦寐</a:t>
            </a:r>
            <a:r>
              <a:rPr b="1" lang="zh-CN" sz="3600" spc="-1" strike="noStrike">
                <a:solidFill>
                  <a:srgbClr val="333333"/>
                </a:solidFill>
                <a:latin typeface="Verdana"/>
              </a:rPr>
              <a:t>在牧羊女的眼里——“梦寐”是朦胧的意思，写出了少女的情怀，牧羊女的感情似喜似羞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533520"/>
            <a:ext cx="701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华文行楷"/>
                <a:ea typeface="华文行楷"/>
              </a:rPr>
              <a:t>优美语句赏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838080" y="21337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Verdana"/>
              </a:rPr>
              <a:t>比喻青鳊鱼像乌桕叶；另一层意思，江岸上乌桕树，树叶婆娑，倒映在江面，就好像网起的是乌桕叶的影子。用倒装句体现渔民悠闲的心情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6094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◆</a:t>
            </a:r>
            <a:r>
              <a:rPr b="1" lang="zh-CN" sz="3600" spc="-1" strike="noStrike">
                <a:solidFill>
                  <a:srgbClr val="333333"/>
                </a:solidFill>
                <a:latin typeface="Verdana"/>
              </a:rPr>
              <a:t>为什么“收起青鳊鱼似的乌桕叶的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Verdana"/>
              </a:rPr>
              <a:t>    </a:t>
            </a:r>
            <a:r>
              <a:rPr b="1" lang="zh-CN" sz="3600" spc="-1" strike="noStrike">
                <a:solidFill>
                  <a:srgbClr val="333333"/>
                </a:solidFill>
                <a:latin typeface="Verdana"/>
              </a:rPr>
              <a:t>影子”这个比喻用得好</a:t>
            </a:r>
            <a:r>
              <a:rPr b="1" lang="zh-CN" sz="3600" spc="-1" strike="noStrike">
                <a:solidFill>
                  <a:srgbClr val="333333"/>
                </a:solidFill>
                <a:latin typeface="Verdana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ROSE3" descr=""/>
          <p:cNvPicPr/>
          <p:nvPr/>
        </p:nvPicPr>
        <p:blipFill>
          <a:blip r:embed="rId1"/>
          <a:stretch/>
        </p:blipFill>
        <p:spPr>
          <a:xfrm rot="10800000">
            <a:off x="6324120" y="5257800"/>
            <a:ext cx="1086120" cy="1085760"/>
          </a:xfrm>
          <a:prstGeom prst="rect">
            <a:avLst/>
          </a:prstGeom>
          <a:ln w="0">
            <a:noFill/>
          </a:ln>
        </p:spPr>
      </p:pic>
      <p:pic>
        <p:nvPicPr>
          <p:cNvPr id="186" name="ROSE3" descr=""/>
          <p:cNvPicPr/>
          <p:nvPr/>
        </p:nvPicPr>
        <p:blipFill>
          <a:blip r:embed="rId2"/>
          <a:stretch/>
        </p:blipFill>
        <p:spPr>
          <a:xfrm rot="10800000">
            <a:off x="4723920" y="5181120"/>
            <a:ext cx="1086120" cy="1086120"/>
          </a:xfrm>
          <a:prstGeom prst="rect">
            <a:avLst/>
          </a:prstGeom>
          <a:ln w="0">
            <a:noFill/>
          </a:ln>
        </p:spPr>
      </p:pic>
      <p:pic>
        <p:nvPicPr>
          <p:cNvPr id="187" name="ROSE3" descr=""/>
          <p:cNvPicPr/>
          <p:nvPr/>
        </p:nvPicPr>
        <p:blipFill>
          <a:blip r:embed="rId3"/>
          <a:stretch/>
        </p:blipFill>
        <p:spPr>
          <a:xfrm rot="10800000">
            <a:off x="2743200" y="5181120"/>
            <a:ext cx="1085760" cy="1086120"/>
          </a:xfrm>
          <a:prstGeom prst="rect">
            <a:avLst/>
          </a:prstGeom>
          <a:ln w="0">
            <a:noFill/>
          </a:ln>
        </p:spPr>
      </p:pic>
      <p:pic>
        <p:nvPicPr>
          <p:cNvPr id="188" name="ROSE3" descr=""/>
          <p:cNvPicPr/>
          <p:nvPr/>
        </p:nvPicPr>
        <p:blipFill>
          <a:blip r:embed="rId4"/>
          <a:stretch/>
        </p:blipFill>
        <p:spPr>
          <a:xfrm rot="10800000">
            <a:off x="762120" y="5181120"/>
            <a:ext cx="1085760" cy="1086120"/>
          </a:xfrm>
          <a:prstGeom prst="rect">
            <a:avLst/>
          </a:prstGeom>
          <a:ln w="0">
            <a:noFill/>
          </a:ln>
        </p:spPr>
      </p:pic>
      <p:pic>
        <p:nvPicPr>
          <p:cNvPr id="189" name="ROSE3" descr=""/>
          <p:cNvPicPr/>
          <p:nvPr/>
        </p:nvPicPr>
        <p:blipFill>
          <a:blip r:embed="rId5"/>
          <a:stretch/>
        </p:blipFill>
        <p:spPr>
          <a:xfrm rot="10800000">
            <a:off x="7695720" y="5257800"/>
            <a:ext cx="10861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90720" y="762120"/>
            <a:ext cx="73152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Verdana"/>
                <a:ea typeface="华文新魏"/>
              </a:rPr>
              <a:t>课堂小结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Verdana"/>
                <a:ea typeface="华文新魏"/>
              </a:rPr>
              <a:t>本诗从多种感官角度出发，运用比喻、拟人的修辞，写出夏忙后农闲的景象：农人世外桃源般的生活悠闲、惬意，少了些艰难苦恨，多的是清静、清甜。这是一个明媚、快乐的秋天，一个乐在其中的秋天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09" descr=""/>
          <p:cNvPicPr/>
          <p:nvPr/>
        </p:nvPicPr>
        <p:blipFill>
          <a:blip r:embed="rId1"/>
          <a:stretch/>
        </p:blipFill>
        <p:spPr>
          <a:xfrm>
            <a:off x="533520" y="5867280"/>
            <a:ext cx="772920" cy="696960"/>
          </a:xfrm>
          <a:prstGeom prst="rect">
            <a:avLst/>
          </a:prstGeom>
          <a:ln w="0">
            <a:noFill/>
          </a:ln>
        </p:spPr>
      </p:pic>
      <p:pic>
        <p:nvPicPr>
          <p:cNvPr id="192" name="09" descr=""/>
          <p:cNvPicPr/>
          <p:nvPr/>
        </p:nvPicPr>
        <p:blipFill>
          <a:blip r:embed="rId2"/>
          <a:stretch/>
        </p:blipFill>
        <p:spPr>
          <a:xfrm>
            <a:off x="1600200" y="5791320"/>
            <a:ext cx="773280" cy="696960"/>
          </a:xfrm>
          <a:prstGeom prst="rect">
            <a:avLst/>
          </a:prstGeom>
          <a:ln w="0">
            <a:noFill/>
          </a:ln>
        </p:spPr>
      </p:pic>
      <p:pic>
        <p:nvPicPr>
          <p:cNvPr id="193" name="09" descr=""/>
          <p:cNvPicPr/>
          <p:nvPr/>
        </p:nvPicPr>
        <p:blipFill>
          <a:blip r:embed="rId3"/>
          <a:stretch/>
        </p:blipFill>
        <p:spPr>
          <a:xfrm>
            <a:off x="2971800" y="5867280"/>
            <a:ext cx="773280" cy="696960"/>
          </a:xfrm>
          <a:prstGeom prst="rect">
            <a:avLst/>
          </a:prstGeom>
          <a:ln w="0">
            <a:noFill/>
          </a:ln>
        </p:spPr>
      </p:pic>
      <p:pic>
        <p:nvPicPr>
          <p:cNvPr id="194" name="09" descr=""/>
          <p:cNvPicPr/>
          <p:nvPr/>
        </p:nvPicPr>
        <p:blipFill>
          <a:blip r:embed="rId4"/>
          <a:stretch/>
        </p:blipFill>
        <p:spPr>
          <a:xfrm>
            <a:off x="4267080" y="5867280"/>
            <a:ext cx="773280" cy="696960"/>
          </a:xfrm>
          <a:prstGeom prst="rect">
            <a:avLst/>
          </a:prstGeom>
          <a:ln w="0">
            <a:noFill/>
          </a:ln>
        </p:spPr>
      </p:pic>
      <p:pic>
        <p:nvPicPr>
          <p:cNvPr id="195" name="09" descr=""/>
          <p:cNvPicPr/>
          <p:nvPr/>
        </p:nvPicPr>
        <p:blipFill>
          <a:blip r:embed="rId5"/>
          <a:stretch/>
        </p:blipFill>
        <p:spPr>
          <a:xfrm>
            <a:off x="5562720" y="5867280"/>
            <a:ext cx="772920" cy="696960"/>
          </a:xfrm>
          <a:prstGeom prst="rect">
            <a:avLst/>
          </a:prstGeom>
          <a:ln w="0">
            <a:noFill/>
          </a:ln>
        </p:spPr>
      </p:pic>
      <p:pic>
        <p:nvPicPr>
          <p:cNvPr id="196" name="09" descr=""/>
          <p:cNvPicPr/>
          <p:nvPr/>
        </p:nvPicPr>
        <p:blipFill>
          <a:blip r:embed="rId6"/>
          <a:stretch/>
        </p:blipFill>
        <p:spPr>
          <a:xfrm>
            <a:off x="6705720" y="5791320"/>
            <a:ext cx="772920" cy="696960"/>
          </a:xfrm>
          <a:prstGeom prst="rect">
            <a:avLst/>
          </a:prstGeom>
          <a:ln w="0">
            <a:noFill/>
          </a:ln>
        </p:spPr>
      </p:pic>
      <p:pic>
        <p:nvPicPr>
          <p:cNvPr id="197" name="09" descr=""/>
          <p:cNvPicPr/>
          <p:nvPr/>
        </p:nvPicPr>
        <p:blipFill>
          <a:blip r:embed="rId7"/>
          <a:stretch/>
        </p:blipFill>
        <p:spPr>
          <a:xfrm>
            <a:off x="7848720" y="5791320"/>
            <a:ext cx="77292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7920" y="3809880"/>
            <a:ext cx="7040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Times New Roman"/>
                <a:ea typeface="隶书"/>
              </a:rPr>
              <a:t>停车坐爱枫林晚，霜叶红于二月花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杜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1024x768_014" descr=""/>
          <p:cNvPicPr/>
          <p:nvPr/>
        </p:nvPicPr>
        <p:blipFill>
          <a:blip r:embed="rId1"/>
          <a:stretch/>
        </p:blipFill>
        <p:spPr>
          <a:xfrm>
            <a:off x="152388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41036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作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①观察</a:t>
            </a:r>
            <a:r>
              <a:rPr b="1" lang="zh-CN" sz="3200" spc="-1" strike="noStrike">
                <a:solidFill>
                  <a:srgbClr val="ffff99"/>
                </a:solidFill>
                <a:latin typeface="Times New Roman"/>
              </a:rPr>
              <a:t>身边的秋天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试着感</a:t>
            </a:r>
            <a:r>
              <a:rPr b="1" lang="zh-CN" sz="3200" spc="-1" strike="noStrike">
                <a:solidFill>
                  <a:srgbClr val="ffff99"/>
                </a:solidFill>
                <a:latin typeface="Times New Roman"/>
              </a:rPr>
              <a:t>悟，描绘出自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己的秋</a:t>
            </a:r>
            <a:r>
              <a:rPr b="1" lang="zh-CN" sz="3200" spc="-1" strike="noStrike">
                <a:solidFill>
                  <a:srgbClr val="ffff99"/>
                </a:solidFill>
                <a:latin typeface="Times New Roman"/>
              </a:rPr>
              <a:t>天。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94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70642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800" y="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隶书"/>
              </a:rPr>
              <a:t> 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160020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秋  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198108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449280"/>
            <a:ext cx="464796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晨曦比往日更柔婉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毛栗变得褐色可爱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浆果的面颊多么丰满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玫瑰在郊外盛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枫树扎着华丽的丝巾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田野披上艳红的轻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我不愿显得古板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也佩戴了一枚胸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32004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[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美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]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狄金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宋   玉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：悲哉秋之为气也， </a:t>
            </a:r>
            <a:br>
              <a:rPr sz="4400"/>
            </a:b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               萧瑟兮草木摇落</a:t>
            </a:r>
            <a:r>
              <a:rPr b="1" lang="zh-CN" sz="4400" spc="-1" strike="noStrike">
                <a:solidFill>
                  <a:srgbClr val="3333cc"/>
                </a:solidFill>
                <a:latin typeface="宋体"/>
                <a:ea typeface="华文新魏"/>
              </a:rPr>
              <a:t>而变衰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。</a:t>
            </a:r>
            <a:r>
              <a:rPr b="1" lang="zh-CN" sz="4400" spc="-1" strike="noStrike">
                <a:solidFill>
                  <a:srgbClr val="3333cc"/>
                </a:solidFill>
                <a:latin typeface="宋体"/>
                <a:ea typeface="华文新魏"/>
              </a:rPr>
              <a:t> </a:t>
            </a: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刘禹锡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：何处秋风至？</a:t>
            </a:r>
            <a:br>
              <a:rPr sz="4400"/>
            </a:b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                萧萧送雁群。</a:t>
            </a: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李    白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：霜落荆门江树空，</a:t>
            </a:r>
            <a:br>
              <a:rPr sz="4400"/>
            </a:b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                布帆无恙挂秋风。</a:t>
            </a: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秋    瑾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：秋风秋雨愁煞人。</a:t>
            </a:r>
            <a:br>
              <a:rPr sz="4400"/>
            </a:br>
            <a:r>
              <a:rPr b="0" lang="zh-CN" sz="4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杜   甫</a:t>
            </a:r>
            <a:r>
              <a:rPr b="0" lang="zh-CN" sz="2800" spc="-1" strike="noStrike">
                <a:solidFill>
                  <a:srgbClr val="336699"/>
                </a:solidFill>
                <a:latin typeface="华文行楷"/>
                <a:ea typeface="华文行楷"/>
              </a:rPr>
              <a:t>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：</a:t>
            </a:r>
            <a:r>
              <a:rPr b="1" lang="zh-CN" sz="4400" spc="-1" strike="noStrike">
                <a:solidFill>
                  <a:srgbClr val="0033cc"/>
                </a:solidFill>
                <a:latin typeface="华文新魏"/>
                <a:ea typeface="华文新魏"/>
              </a:rPr>
              <a:t>无边落木萧萧下，</a:t>
            </a:r>
            <a:br>
              <a:rPr sz="4400"/>
            </a:br>
            <a:r>
              <a:rPr b="1" lang="zh-CN" sz="44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             不尽长江滚滚</a:t>
            </a:r>
            <a:r>
              <a:rPr b="0" lang="zh-CN" sz="4400" spc="-1" strike="noStrike">
                <a:solidFill>
                  <a:srgbClr val="0033cc"/>
                </a:solidFill>
                <a:latin typeface="华文行楷"/>
                <a:ea typeface="华文行楷"/>
              </a:rPr>
              <a:t>来</a:t>
            </a:r>
            <a:r>
              <a:rPr b="0" lang="zh-CN" sz="2800" spc="-1" strike="noStrike">
                <a:solidFill>
                  <a:srgbClr val="336699"/>
                </a:solidFill>
                <a:latin typeface="华文行楷"/>
                <a:ea typeface="华文行楷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946960" y="1981080"/>
            <a:ext cx="324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华文隶书"/>
                <a:ea typeface="华文隶书"/>
              </a:rPr>
              <a:t>秋       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30480" y="3962520"/>
            <a:ext cx="17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行楷"/>
              </a:rPr>
              <a:t>何 其 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xz_7_1hqf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3503520" cy="44956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29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838080" y="5334120"/>
            <a:ext cx="5791320" cy="1523520"/>
            <a:chOff x="838080" y="5334120"/>
            <a:chExt cx="5791320" cy="1523520"/>
          </a:xfrm>
        </p:grpSpPr>
        <p:sp>
          <p:nvSpPr>
            <p:cNvPr id="133" name=""/>
            <p:cNvSpPr/>
            <p:nvPr/>
          </p:nvSpPr>
          <p:spPr>
            <a:xfrm>
              <a:off x="838080" y="5334120"/>
              <a:ext cx="5791320" cy="152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5334120"/>
              <a:ext cx="3908160" cy="75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838080" y="548640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何其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1912—197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-26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0" y="-304920"/>
            <a:ext cx="8458200" cy="7394400"/>
            <a:chOff x="0" y="-304920"/>
            <a:chExt cx="8458200" cy="7394400"/>
          </a:xfrm>
        </p:grpSpPr>
        <p:sp>
          <p:nvSpPr>
            <p:cNvPr id="138" name=""/>
            <p:cNvSpPr/>
            <p:nvPr/>
          </p:nvSpPr>
          <p:spPr>
            <a:xfrm>
              <a:off x="0" y="-304920"/>
              <a:ext cx="845820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-304920"/>
              <a:ext cx="5707800" cy="73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5257800" y="38088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华文楷体"/>
              </a:rPr>
              <a:t>       </a:t>
            </a: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华文楷体"/>
              </a:rPr>
              <a:t>现代诗人，文学评论家。原名何永芳，四川万县人。 《秋天》作于１９３２年９月，编入诗集《预言》 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0920" y="980640"/>
            <a:ext cx="80643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黑体"/>
              </a:rPr>
              <a:t>正字正音：</a:t>
            </a:r>
            <a:br>
              <a:rPr sz="4400"/>
            </a:br>
            <a:br>
              <a:rPr sz="2800"/>
            </a:b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镰（       ）刀       肥硕 （       ）    栖（       ）息    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青鳊（      ）鱼    乌桕（    ）叶     满载（     ） 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归泊（      ）   蟋（     ）蟀（       ）寥（     ）阔    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枯涸（     ）     清洌（     ）     梦寐（      ）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5080" y="2133720"/>
            <a:ext cx="8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i</a:t>
            </a:r>
            <a:r>
              <a:rPr b="1" lang="en-US" sz="2800" spc="-1" strike="noStrike">
                <a:solidFill>
                  <a:srgbClr val="ff3300"/>
                </a:solidFill>
                <a:latin typeface="zypyyb"/>
                <a:ea typeface="zypyyb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43280" y="21337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hu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46920" y="2060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q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90560" y="29811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iā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8920" y="2981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ji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64360" y="29242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ff3300"/>
                </a:solidFill>
                <a:latin typeface="zypyyb"/>
                <a:ea typeface="zypyyb"/>
              </a:rPr>
              <a:t>4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36720" y="38466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80000" y="38466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48360" y="3846600"/>
            <a:ext cx="11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hu</a:t>
            </a:r>
            <a:r>
              <a:rPr b="1" lang="en-US" sz="2800" spc="-1" strike="noStrike">
                <a:solidFill>
                  <a:srgbClr val="ff3300"/>
                </a:solidFill>
                <a:latin typeface="zypyyb"/>
                <a:ea typeface="zypyyb"/>
              </a:rPr>
              <a:t>4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48360" y="38466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i</a:t>
            </a:r>
            <a:r>
              <a:rPr b="1" lang="en-US" sz="2800" spc="-1" strike="noStrike">
                <a:solidFill>
                  <a:srgbClr val="ff3300"/>
                </a:solidFill>
                <a:latin typeface="zypyyb"/>
                <a:ea typeface="zypyyb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47102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40360" y="47102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i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16720" y="4653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è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4756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300" spc="-1" strike="noStrike">
                <a:solidFill>
                  <a:srgbClr val="660066"/>
                </a:solidFill>
                <a:latin typeface="Arial"/>
              </a:rPr>
              <a:t>震落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了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清晨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660066"/>
                </a:solidFill>
                <a:latin typeface="Arial"/>
              </a:rPr>
              <a:t>满披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着的露珠，</a:t>
            </a:r>
            <a:br>
              <a:rPr sz="2300"/>
            </a:b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伐木声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丁丁地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660066"/>
                </a:solidFill>
                <a:latin typeface="Arial"/>
              </a:rPr>
              <a:t>飘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出幽谷。</a:t>
            </a:r>
            <a:br>
              <a:rPr sz="2300"/>
            </a:b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放下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660066"/>
                </a:solidFill>
                <a:latin typeface="Arial"/>
              </a:rPr>
              <a:t>饱食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过稻香的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镰刀，</a:t>
            </a:r>
            <a:br>
              <a:rPr sz="2300"/>
            </a:b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用背篓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来装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竹篱间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660066"/>
                </a:solidFill>
                <a:latin typeface="Arial"/>
              </a:rPr>
              <a:t>肥硕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的瓜果。</a:t>
            </a:r>
            <a:br>
              <a:rPr sz="2300"/>
            </a:b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秋天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660066"/>
                </a:solidFill>
                <a:latin typeface="Arial"/>
              </a:rPr>
              <a:t>栖息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在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农家里。</a:t>
            </a:r>
            <a:br>
              <a:rPr sz="2300"/>
            </a:br>
            <a:br>
              <a:rPr sz="2300"/>
            </a:b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向江面的冷雾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660066"/>
                </a:solidFill>
                <a:latin typeface="Arial"/>
              </a:rPr>
              <a:t>撒下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圆圆的网，</a:t>
            </a:r>
            <a:br>
              <a:rPr sz="2300"/>
            </a:b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收起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青鳊鱼似的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乌桕叶的影子。</a:t>
            </a:r>
            <a:br>
              <a:rPr sz="2300"/>
            </a:b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芦篷上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660066"/>
                </a:solidFill>
                <a:latin typeface="Arial"/>
              </a:rPr>
              <a:t>满载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着白霜，</a:t>
            </a:r>
            <a:br>
              <a:rPr sz="2300"/>
            </a:br>
            <a:r>
              <a:rPr b="1" lang="zh-CN" sz="2300" spc="-1" strike="noStrike">
                <a:solidFill>
                  <a:srgbClr val="660066"/>
                </a:solidFill>
                <a:latin typeface="Arial"/>
              </a:rPr>
              <a:t>轻轻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摇着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归泊的小桨。</a:t>
            </a:r>
            <a:br>
              <a:rPr sz="2300"/>
            </a:b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秋天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660066"/>
                </a:solidFill>
                <a:latin typeface="Arial"/>
              </a:rPr>
              <a:t>游戏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在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渔船上。</a:t>
            </a:r>
            <a:br>
              <a:rPr sz="2300"/>
            </a:br>
            <a:br>
              <a:rPr sz="2300"/>
            </a:b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草野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在蟋蟀声中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660066"/>
                </a:solidFill>
                <a:latin typeface="Arial"/>
              </a:rPr>
              <a:t>更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寥阔了。</a:t>
            </a:r>
            <a:br>
              <a:rPr sz="2300"/>
            </a:b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溪水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因枯涸见石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660066"/>
                </a:solidFill>
                <a:latin typeface="Arial"/>
              </a:rPr>
              <a:t>更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清洌了。</a:t>
            </a:r>
            <a:br>
              <a:rPr sz="2300"/>
            </a:b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牛背上的笛声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何处去了，</a:t>
            </a:r>
            <a:br>
              <a:rPr sz="2300"/>
            </a:b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那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660066"/>
                </a:solidFill>
                <a:latin typeface="Arial"/>
              </a:rPr>
              <a:t>满流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着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夏夜的香与热的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笛孔？</a:t>
            </a:r>
            <a:br>
              <a:rPr sz="2300"/>
            </a:b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秋天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660066"/>
                </a:solidFill>
                <a:latin typeface="Arial"/>
              </a:rPr>
              <a:t>梦寐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在 </a:t>
            </a:r>
            <a:r>
              <a:rPr b="1" lang="zh-CN" sz="2300" spc="-1" strike="noStrike">
                <a:solidFill>
                  <a:srgbClr val="003399"/>
                </a:solidFill>
                <a:latin typeface="Arial"/>
              </a:rPr>
              <a:t>\ </a:t>
            </a:r>
            <a:r>
              <a:rPr b="1" lang="zh-CN" sz="2300" spc="-1" strike="noStrike">
                <a:solidFill>
                  <a:srgbClr val="006600"/>
                </a:solidFill>
                <a:latin typeface="Arial"/>
              </a:rPr>
              <a:t>牧羊女的眼里。</a:t>
            </a:r>
            <a:br>
              <a:rPr sz="2300"/>
            </a:b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3520"/>
            <a:ext cx="106668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Arial"/>
                <a:ea typeface="华文新魏"/>
              </a:rPr>
              <a:t>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Arial"/>
                <a:ea typeface="华文新魏"/>
              </a:rPr>
              <a:t>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何其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68360" y="765000"/>
            <a:ext cx="7991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诗歌中刻画了几幅秋日风景图？你能不能给它们起一个富于诗意的名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16000" y="2421000"/>
            <a:ext cx="2770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● 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农家丰收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16000" y="3281400"/>
            <a:ext cx="2922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66ff"/>
                </a:solidFill>
                <a:latin typeface="Times New Roman"/>
                <a:ea typeface="华文行楷"/>
              </a:rPr>
              <a:t>●   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华文行楷"/>
              </a:rPr>
              <a:t>霜晨归渔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16000" y="4145040"/>
            <a:ext cx="316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●   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少女思恋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00306DB6" descr=""/>
          <p:cNvPicPr/>
          <p:nvPr/>
        </p:nvPicPr>
        <p:blipFill>
          <a:blip r:embed="rId1"/>
          <a:stretch/>
        </p:blipFill>
        <p:spPr>
          <a:xfrm>
            <a:off x="4419720" y="2209680"/>
            <a:ext cx="4419360" cy="4381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ml0007" descr=""/>
          <p:cNvPicPr/>
          <p:nvPr/>
        </p:nvPicPr>
        <p:blipFill>
          <a:blip r:embed="rId1"/>
          <a:stretch/>
        </p:blipFill>
        <p:spPr>
          <a:xfrm>
            <a:off x="1066680" y="3352680"/>
            <a:ext cx="7086600" cy="3171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63" name=""/>
          <p:cNvSpPr/>
          <p:nvPr/>
        </p:nvSpPr>
        <p:spPr>
          <a:xfrm>
            <a:off x="990720" y="228600"/>
            <a:ext cx="754380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66ff"/>
                </a:solidFill>
                <a:latin typeface="华文新魏"/>
                <a:ea typeface="华文新魏"/>
              </a:rPr>
              <a:t>讨论：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3366ff"/>
                </a:solidFill>
                <a:latin typeface="华文新魏"/>
                <a:ea typeface="华文新魏"/>
              </a:rPr>
              <a:t>想像每幅画面中的人物与风景，用自己的语言去描绘你喜欢的一幅图画。把它说给你的同学听，看看谁描绘的画面最优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8:12:03Z</dcterms:created>
  <dc:creator>wutao</dc:creator>
  <dc:description/>
  <dc:language>en-US</dc:language>
  <cp:lastModifiedBy>a</cp:lastModifiedBy>
  <dcterms:modified xsi:type="dcterms:W3CDTF">2004-12-16T03:09:00Z</dcterms:modified>
  <cp:revision>100</cp:revision>
  <dc:subject/>
  <dc:title>PowerPoint Presentation</dc:title>
</cp:coreProperties>
</file>