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6.gif" ContentType="image/gif"/>
  <Override PartName="/ppt/media/image7.png" ContentType="image/png"/>
  <Override PartName="/ppt/media/image10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AFF9-8D65-46F0-BE43-A1A83CBB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B446-A693-4475-A83D-AFACCEF3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671C-DB8F-4F72-945C-6DB12E0E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EAC-3771-453C-AEE8-A453C1A5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F479-6B97-466A-AC7E-FE1599B5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7CD4-F350-4E10-98E0-1F300A47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C92D-D608-4C4E-BA7B-2808F169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1491-E854-44AC-874D-B4D8A56D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ABA9-0EEF-4635-8351-81568EAC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04F6-863E-448C-BDF4-8F80BFB6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D619-6D8B-4C57-BCE4-A10AE9F5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1790-22F5-4251-97B1-40771D22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355B-1501-40E6-A971-958FAF77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15D3-6AF8-4714-90EE-F5400909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C03C-2D8F-488F-8536-FBF97F15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7F48-8E28-4301-A658-45C3DDA2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125B-A60C-46DC-96AD-039327F4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88B-F4B2-43D7-B060-F04D19E1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240-8A66-42D4-9B5C-1F1CF6C8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3ED-6944-4E97-AE7D-DC45544D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D54E-3E6A-4BCB-B9A7-60BDF8D5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E1F-9EB5-47F0-B451-0C0D3142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9C2-39CF-447B-AE73-6B2D9425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5C8F-67FB-4694-8CD5-40F517E6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DCA9-3DA6-48EB-86C4-2A0199E02176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5966-0E46-4EE9-889F-A692A284E5CB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05" name="29784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楷体_GB2312"/>
              </a:rPr>
              <a:t>是温柔的爱情与优美秋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楷体_GB2312"/>
              </a:rPr>
              <a:t>光的无限延展，是微妙心灵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楷体_GB2312"/>
              </a:rPr>
              <a:t>与广袤世界的无限契合；情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楷体_GB2312"/>
              </a:rPr>
              <a:t>感融入了季节，思想交汇了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楷体_GB2312"/>
              </a:rPr>
              <a:t>自然。在萦萦于耳的天籁 之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楷体_GB2312"/>
              </a:rPr>
              <a:t>声中，我们读懂了秋天……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Arial"/>
                <a:ea typeface="楷体_GB2312"/>
              </a:rPr>
              <a:t>              ——</a:t>
            </a:r>
            <a:r>
              <a:rPr b="1" lang="zh-CN" sz="4400" spc="-1" strike="noStrike">
                <a:solidFill>
                  <a:srgbClr val="00ffff"/>
                </a:solidFill>
                <a:latin typeface="Arial"/>
                <a:ea typeface="楷体_GB2312"/>
              </a:rPr>
              <a:t>《精神守望》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20047412202918887" descr=""/>
          <p:cNvPicPr/>
          <p:nvPr/>
        </p:nvPicPr>
        <p:blipFill>
          <a:blip r:embed="rId1"/>
          <a:srcRect l="55943" t="0" r="0" b="54094"/>
          <a:stretch/>
        </p:blipFill>
        <p:spPr>
          <a:xfrm>
            <a:off x="-762120" y="-304920"/>
            <a:ext cx="10211040" cy="77169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秋  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楷体_GB2312"/>
              </a:rPr>
              <a:t>何其芳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生字卡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丁  丁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幽 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谷       肥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硕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栖 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息         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归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泊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寥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阔       枯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涸 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    清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洌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梦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寐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   晨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曦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   毛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栗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     面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颊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057400"/>
            <a:ext cx="25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zhēn</a:t>
            </a:r>
            <a:r>
              <a:rPr b="0" lang="zh-CN" sz="2800" spc="-1" strike="noStrike">
                <a:solidFill>
                  <a:srgbClr val="333333"/>
                </a:solidFill>
                <a:latin typeface="zypyyb"/>
                <a:ea typeface="zypyyb"/>
              </a:rPr>
              <a:t>g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zhēn</a:t>
            </a:r>
            <a:r>
              <a:rPr b="0" lang="zh-CN" sz="2800" spc="-1" strike="noStrike">
                <a:solidFill>
                  <a:srgbClr val="333333"/>
                </a:solidFill>
                <a:latin typeface="zypyyb"/>
                <a:ea typeface="zypyyb"/>
              </a:rPr>
              <a:t>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376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ō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20640" y="20574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shu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60800" y="2057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qī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8480" y="3276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ó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li</a:t>
            </a:r>
            <a:r>
              <a:rPr b="0" lang="en-US" sz="2800" spc="-1" strike="noStrike">
                <a:solidFill>
                  <a:srgbClr val="333333"/>
                </a:solidFill>
                <a:latin typeface="zypyyb"/>
                <a:ea typeface="zypyyb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7320" y="34290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2960" y="33526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liè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9200" y="472428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è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472428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xī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9600" y="4648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l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05920" y="4648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i</a:t>
            </a:r>
            <a:r>
              <a:rPr b="0" lang="en-US" sz="2800" spc="-1" strike="noStrike">
                <a:solidFill>
                  <a:srgbClr val="333333"/>
                </a:solidFill>
                <a:latin typeface="zypyyb"/>
                <a:ea typeface="zypyyb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思考问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楷体_GB2312"/>
              </a:rPr>
              <a:t>为什么说这是一幅乡村秋景图？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楷体_GB2312"/>
              </a:rPr>
              <a:t>诗歌抒发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楷体_GB2312"/>
              </a:rPr>
              <a:t>了作者怎样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楷体_GB2312"/>
              </a:rPr>
              <a:t>的感情？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" name="fj11" descr=""/>
          <p:cNvPicPr/>
          <p:nvPr/>
        </p:nvPicPr>
        <p:blipFill>
          <a:blip r:embed="rId1"/>
          <a:stretch/>
        </p:blipFill>
        <p:spPr>
          <a:xfrm>
            <a:off x="4038480" y="281952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78088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8001000" cy="4876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5334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楷体_GB2312"/>
              </a:rPr>
              <a:t>想象每幅画中人物的身份、活动、心情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楷体_GB2312"/>
              </a:rPr>
              <a:t>找出作者的写作顺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20045311561958756" descr=""/>
          <p:cNvPicPr/>
          <p:nvPr/>
        </p:nvPicPr>
        <p:blipFill>
          <a:blip r:embed="rId1"/>
          <a:srcRect l="51360" t="53285" r="0" b="4343"/>
          <a:stretch/>
        </p:blipFill>
        <p:spPr>
          <a:xfrm>
            <a:off x="-228600" y="0"/>
            <a:ext cx="960120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fj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200491422394734183" descr=""/>
          <p:cNvPicPr/>
          <p:nvPr/>
        </p:nvPicPr>
        <p:blipFill>
          <a:blip r:embed="rId1"/>
          <a:srcRect l="50005" t="46976" r="4542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3505320" y="0"/>
          <a:ext cx="563868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0"/>
                    <a:ext cx="56386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438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  <a:ea typeface="楷体_GB2312"/>
              </a:rPr>
              <a:t>秋     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晨曦比往日更柔婉，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毛栗变得褐色可爱；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浆果的面颊多么丰满，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玫瑰在郊外盛开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枫树扎着华丽的丝巾，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田野披上艳红的轻纱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不愿显得古板，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也佩戴了一枚胸花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02:10:52Z</dcterms:created>
  <dc:creator>wutao</dc:creator>
  <dc:description/>
  <dc:language>en-US</dc:language>
  <cp:lastModifiedBy>周璟</cp:lastModifiedBy>
  <dcterms:modified xsi:type="dcterms:W3CDTF">2004-11-04T09:07:14Z</dcterms:modified>
  <cp:revision>100</cp:revision>
  <dc:subject/>
  <dc:title>秋  天</dc:title>
</cp:coreProperties>
</file>