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1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96D-E2D6-4C07-8BDC-79A2F68F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A0C-48C5-4704-8698-A81A66A5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2AB-FC4A-4DC3-89D8-812F9569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23A-1860-4B1A-8BF6-C6D638EC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95C-123F-46DA-B10D-7AFC47E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412-4316-4434-BD70-7C4BAD1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7AE-CD77-43B0-BFF2-B28CEA1A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212-5AC5-4669-9EE4-909F340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088-F583-4637-9E6D-5D34B0B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F08-4C6E-44AD-A702-97857A0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3F3-454F-4A32-8712-D9B89A3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BBA-85E6-407F-BDAB-026AB2D9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0BA-464C-4231-B8BF-D587C187F2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332" t="5553" r="5833" b="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200480" y="4005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农家丰收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41300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霜晨归渔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9920" y="6764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牧女思恋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279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27280" y="620640"/>
            <a:ext cx="7416720" cy="4333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诗歌主题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全诗以”秋”为线索通过对不同场景的描绘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创造了一种即来自人世又远离尘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清静、清远、 清甜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秋的氛围，表达了对秋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热爱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90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81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朗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0021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5440" y="907920"/>
            <a:ext cx="7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3284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440" y="21337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052640"/>
            <a:ext cx="87076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 写一写中的词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注音并解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388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著名诗人秋瑾在诗中说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秋风秋雨愁煞人”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宋玉也在《九辩》中言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悲哉秋之为气也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萧瑟兮草木摇落而变衰”。 </a:t>
            </a:r>
            <a:br>
              <a:rPr sz="44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唐代诗人刘禹锡在诗中说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“自古逢秋悲寂寥”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48000" y="8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0560" y="23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54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103400"/>
            <a:ext cx="19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620640"/>
            <a:ext cx="2376360" cy="75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cc99"/>
                </a:solidFill>
                <a:latin typeface="隶书"/>
                <a:ea typeface="隶书"/>
              </a:rPr>
              <a:t>秋      天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61600" y="2924280"/>
            <a:ext cx="225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隶书"/>
              </a:rPr>
              <a:t>何其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422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3640" y="1628640"/>
            <a:ext cx="610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何其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912—1977) 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现代诗人，评论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四川万县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著有诗《我们最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的节日》，</a:t>
            </a:r>
            <a:r>
              <a:rPr b="1" lang="zh-CN" sz="4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诗集《预言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文集《画梦录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9218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正确朗读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肥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硕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枯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丁丁          清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寥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阔          青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鳊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梦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寐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3457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shuò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zhēn</a:t>
            </a:r>
            <a:r>
              <a:rPr b="1" lang="zh-CN" sz="5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li</a:t>
            </a:r>
            <a:r>
              <a:rPr b="1" lang="zh-CN" sz="5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o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mèi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1268280"/>
            <a:ext cx="26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hé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liè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biā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(jiù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6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词语解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341360"/>
            <a:ext cx="309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幽谷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肥硕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清冽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寥阔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50660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幽深的山谷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858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指果实又大又饱满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350028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水清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高远空旷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词语解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952560"/>
            <a:ext cx="2735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枯涸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梦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栖息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丁丁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105408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干涸，没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34936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睡梦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7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停留，休息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11320" y="4653000"/>
            <a:ext cx="403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伐木声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9000" y="1438200"/>
            <a:ext cx="733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872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920" y="0"/>
            <a:ext cx="910908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震落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满披着的露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伐木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丁地飘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幽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饱食过稻香的镰刀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背篓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篱间肥硕的瓜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栖息在农家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江面的冷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圆的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鳊鱼似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桕叶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芦篷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载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霜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轻摇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泊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戏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船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野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蟋蟀声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寥阔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溪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枯涸见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清洌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背上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笛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处去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满流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夜的香与热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笛孔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寐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羊女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6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21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0" y="279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057400"/>
            <a:ext cx="791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从哪些诗句、词语可以看出这是一幅乡村秋景图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诗中一共描绘了几幅图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20560" y="58428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想一想</a:t>
            </a: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1-04T09:44:00Z</dcterms:modified>
  <cp:revision>100</cp:revision>
  <dc:subject/>
  <dc:title>PowerPoint Presentation</dc:title>
</cp:coreProperties>
</file>