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AAD8-B77A-450F-A7F0-6986BD48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414B-00B2-49E3-A4A7-BAF5BB63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58A3-FB2C-45DD-942C-7615AD01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40FA-9037-4603-B5B6-7479F543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E2D2-5D0B-46E2-BF63-2523C117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650D-F971-406A-BD4E-BFCBEE7B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E29D-4848-4DF3-A0AC-21E4CF76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B22D-45DF-4D62-BF52-FC773E89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A99-EF2F-4682-AC05-F6CFDFFE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99D3-9B74-492C-AA76-4F5A36A8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6BF2-5036-40EB-B02A-2A2E871E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85B-82AC-48A5-BF09-1C9EA2FC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8BC0-BBA4-4CF6-A4D1-EC0ABEA0BD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860640"/>
            <a:ext cx="4500720" cy="2997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3860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780000" y="0"/>
            <a:ext cx="5364000" cy="3860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356000" y="3573360"/>
            <a:ext cx="4788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26028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华文隶书"/>
              </a:rPr>
              <a:t>质疑释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70028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请合作学习小组内部就不理解的问题提出来，组内消化解答。形成不了共识的，作为小组的问题存疑提出来，由其他小组解答。再形成不了共识的，师生共同探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71640" y="0"/>
            <a:ext cx="34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华文隶书"/>
              </a:rPr>
              <a:t>作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1341360"/>
            <a:ext cx="80643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周日回家利用网上资源，办一期手抄报。主题（任选其一）：鱼类的进化、话说恐龙、猛犸的故事、被子植物、人类的起源等。要求图文并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" descr=""/>
          <p:cNvPicPr/>
          <p:nvPr/>
        </p:nvPicPr>
        <p:blipFill>
          <a:blip r:embed="rId1"/>
          <a:stretch/>
        </p:blipFill>
        <p:spPr>
          <a:xfrm>
            <a:off x="190440" y="142920"/>
            <a:ext cx="8763120" cy="6572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3552840" y="2890800"/>
            <a:ext cx="243828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行楷"/>
              </a:rPr>
              <a:t>再见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981000"/>
            <a:ext cx="12952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692280"/>
            <a:ext cx="144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华文隶书"/>
              </a:rPr>
              <a:t>化石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5229360"/>
            <a:ext cx="5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张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4572000" cy="5877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46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华文隶书"/>
              </a:rPr>
              <a:t>教 学 目 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16360" y="333360"/>
            <a:ext cx="442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感情地朗读诗歌，体会诗歌的思想感情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清诗歌结构，把握诗歌的主要内容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科学精神和探索未知世界的兴趣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9280" y="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华文隶书"/>
              </a:rPr>
              <a:t>生字词预习检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060640"/>
            <a:ext cx="842472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Arial"/>
                <a:ea typeface="黑体"/>
              </a:rPr>
              <a:t>准确地读出下列词语并口头解释其意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奇幻    远古    骸骨    乌有    潜行       裹藏    葱茏    幽雅    叹服    造物主            海枯石烂        日转星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5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Arial"/>
                <a:ea typeface="华文隶书"/>
              </a:rPr>
              <a:t>阅读课文，思考（可讨论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268280"/>
            <a:ext cx="8713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◆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概括诗歌的主要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◆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诗歌表达了一种怎样的思想感情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◆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诗歌可以分为哪几个层次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构上有何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1844640"/>
            <a:ext cx="91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Arial"/>
                <a:ea typeface="华文新魏"/>
              </a:rPr>
              <a:t>写科学家通过研究化石，展现了亿万年前的神奇景象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213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Arial"/>
                <a:ea typeface="华文新魏"/>
              </a:rPr>
              <a:t>赞美了科学的神奇和人类的伟大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4869000"/>
            <a:ext cx="8713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第</a:t>
            </a: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、</a:t>
            </a: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节为一层，通过问句的形式，引发读者的想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第</a:t>
            </a: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3—6</a:t>
            </a: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节为第二层，具体抒写遐思的内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第</a:t>
            </a: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节为第三层，回应第</a:t>
            </a: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、</a:t>
            </a: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节。结构上首尾呼应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920" y="177336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自由、大声地朗读课文两遍，体会诗歌的特点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189000"/>
            <a:ext cx="50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华文隶书"/>
              </a:rPr>
              <a:t>自主探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67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9280" y="1916280"/>
            <a:ext cx="9576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“你把我的思绪引向远古”一句在全诗中起什么作用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怎样理解“黑色的躯壳裹藏着生命的信息，为历史留下一本珍贵的密码”一句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“时光在你脸上刻下道道皱纹，犹如把生命的档案细细描画。”你是怎样理解的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当你面对复原的恐龙、猛犸时，你有何感想呢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0"/>
            <a:ext cx="48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华文隶书"/>
              </a:rPr>
              <a:t>合作探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2" descr=""/>
          <p:cNvPicPr/>
          <p:nvPr/>
        </p:nvPicPr>
        <p:blipFill>
          <a:blip r:embed="rId1"/>
          <a:stretch/>
        </p:blipFill>
        <p:spPr>
          <a:xfrm>
            <a:off x="0" y="-533520"/>
            <a:ext cx="4140360" cy="4864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3276720" cy="3068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203640" y="0"/>
            <a:ext cx="5940360" cy="3486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276720" y="3314880"/>
            <a:ext cx="5867280" cy="3543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484360" y="278136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0000"/>
                </a:solidFill>
                <a:latin typeface="Arial"/>
                <a:ea typeface="华文隶书"/>
              </a:rPr>
              <a:t>复原的恐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780000" y="0"/>
            <a:ext cx="536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987640" y="189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彩云"/>
              </a:rPr>
              <a:t>复原的猛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9:18:11Z</dcterms:created>
  <dc:creator>wutao</dc:creator>
  <dc:description/>
  <dc:language>en-US</dc:language>
  <cp:lastModifiedBy>zyb1</cp:lastModifiedBy>
  <dcterms:modified xsi:type="dcterms:W3CDTF">2004-11-10T03:54:38Z</dcterms:modified>
  <cp:revision>100</cp:revision>
  <dc:subject/>
  <dc:title>幻灯片 1</dc:title>
</cp:coreProperties>
</file>