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30C95-8887-4EFE-AE2B-EB716758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7ACEB-9B94-4FA6-9FE9-9605D638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ECA85-2686-4406-8AF3-365A1405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4649-90F1-4924-B32D-8FC1016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87B39-20E9-4FDC-A91D-212C2DCE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ED069-3FC8-4A86-B665-8D70B5D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A4824-41D3-489C-961D-7BF83DA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610B1-B249-44F5-B111-8485DAB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B1590-3C86-47C0-8C79-9C52FC1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AF505-3A43-435B-A2FE-F77FBC2A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35459-234E-4FA1-8521-31C7FAC0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82AFE-05A8-49FC-AF57-74D5B3D0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2057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C546-7686-42E6-B0D8-308D41D9551D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42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Times New Roman"/>
              </a:rPr>
              <a:t>化石吟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32763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张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树叶化石" descr=""/>
          <p:cNvPicPr/>
          <p:nvPr/>
        </p:nvPicPr>
        <p:blipFill>
          <a:blip r:embed="rId2"/>
          <a:stretch/>
        </p:blipFill>
        <p:spPr>
          <a:xfrm>
            <a:off x="4952880" y="4800600"/>
            <a:ext cx="1981440" cy="1413000"/>
          </a:xfrm>
          <a:prstGeom prst="rect">
            <a:avLst/>
          </a:prstGeom>
          <a:ln w="12600">
            <a:solidFill>
              <a:srgbClr val="33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中华龙鸟化石" descr=""/>
          <p:cNvPicPr/>
          <p:nvPr/>
        </p:nvPicPr>
        <p:blipFill>
          <a:blip r:embed="rId3"/>
          <a:stretch/>
        </p:blipFill>
        <p:spPr>
          <a:xfrm>
            <a:off x="7238880" y="4800600"/>
            <a:ext cx="1322640" cy="1676520"/>
          </a:xfrm>
          <a:prstGeom prst="rect">
            <a:avLst/>
          </a:prstGeom>
          <a:ln w="12600">
            <a:solidFill>
              <a:srgbClr val="33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08000" y="620640"/>
            <a:ext cx="5832360" cy="5733720"/>
            <a:chOff x="108000" y="620640"/>
            <a:chExt cx="5832360" cy="5733720"/>
          </a:xfrm>
        </p:grpSpPr>
        <p:sp>
          <p:nvSpPr>
            <p:cNvPr id="146" name=""/>
            <p:cNvSpPr/>
            <p:nvPr/>
          </p:nvSpPr>
          <p:spPr>
            <a:xfrm>
              <a:off x="658080" y="1139760"/>
              <a:ext cx="1826640" cy="52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动作多么活泼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精力多么旺盛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浪花里跳跃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大海里浮沉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不幸遇到火山爆发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也可能是地震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你失去了自由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被埋进灰尘；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过了多少亿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地质勘察队员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岩层里发现了你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依然栩栩如生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但你是沉默的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连叹息也没有，   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60720" y="1139760"/>
              <a:ext cx="2879640" cy="52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鳞和鳍都完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却不能动弹；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你绝对的静止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对外界毫无反应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看不见天和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听不见任何声音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凝视着一片化石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傻瓜也得到教训：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离开了运动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就没有生命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活着就要斗争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斗争中前进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死亡没有来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把能量发挥干净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8000" y="620640"/>
              <a:ext cx="58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             </a:t>
              </a:r>
              <a:r>
                <a:rPr b="0" lang="zh-CN" sz="28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鱼化石</a:t>
              </a: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 </a:t>
              </a:r>
              <a:r>
                <a:rPr b="0" lang="zh-CN" sz="20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艾青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课外选读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20640"/>
            <a:ext cx="320364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诗人用了哪些动词来刻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画“鱼化石”的前身——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鱼的形态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请找出诗中举的两个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鱼化石” 形成的原因。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诗中的“你”指的是什么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最后一节诗表达了诗人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什么样的精神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7120" y="764280"/>
            <a:ext cx="5508360" cy="54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晋代葛洪《神仙传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王远》中写道：“麻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自说云，接侍以来，已见东海三为桑田。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大海变为桑田，桑田变为大海。在地球的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历史上，真的如此吗？如果真的这样，何以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证呢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在漫长的生物进化过程中，随着自然环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的变迁，许多物种虽然相继灭绝，但它们的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命信息却被化石保存了下来。科学家们通过研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究这些化石，从中窥见了亿万年前像奇幻的神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话一样的生物世界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今天，我们来学习一首张锋写的赞美化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的诗歌——《化石吟》。</a:t>
            </a:r>
            <a:r>
              <a:rPr b="1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-139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课文导入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84360"/>
            <a:ext cx="510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　　化石是动物或植物死亡后的残体经过长时间而没有腐烂，数年后成为地壳的一部分。有机体自身完好保存，或在沉积岩中的印模，或生存时留下的痕迹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称为遗迹化石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化石，通常是动、植物死亡后被含水沉淀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580680"/>
            <a:ext cx="2971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 识 化 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中华龙鸟化石" descr=""/>
          <p:cNvPicPr/>
          <p:nvPr/>
        </p:nvPicPr>
        <p:blipFill>
          <a:blip r:embed="rId2"/>
          <a:stretch/>
        </p:blipFill>
        <p:spPr>
          <a:xfrm>
            <a:off x="5532480" y="762120"/>
            <a:ext cx="3382920" cy="4286160"/>
          </a:xfrm>
          <a:prstGeom prst="rect">
            <a:avLst/>
          </a:prstGeom>
          <a:ln w="19080">
            <a:solidFill>
              <a:srgbClr val="00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1" name=""/>
          <p:cNvSpPr/>
          <p:nvPr/>
        </p:nvSpPr>
        <p:spPr>
          <a:xfrm>
            <a:off x="228600" y="5105520"/>
            <a:ext cx="845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迅速掩埋，产生化学反应，然后矿物质加人或有机体被排出。如果这一程序没有发生，有机体会被暂时保留下来，但不会成为化石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760" y="457200"/>
            <a:ext cx="3211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化石的形成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化石的形成" descr=""/>
          <p:cNvPicPr/>
          <p:nvPr/>
        </p:nvPicPr>
        <p:blipFill>
          <a:blip r:embed="rId2"/>
          <a:stretch/>
        </p:blipFill>
        <p:spPr>
          <a:xfrm>
            <a:off x="1778040" y="609480"/>
            <a:ext cx="5918040" cy="591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3080" y="420840"/>
            <a:ext cx="242748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积累字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0560" y="24210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奇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huàn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）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guǒ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 ）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cōng lóng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  ）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zhuó yuè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   ）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骸（      ）骨    潜（       ）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档（       ）案    猛犸（      ）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71360" y="2470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幻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28520" y="2398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裹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13600" y="3335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葱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29960" y="3335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卓越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9600" y="4267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há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41958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qiá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8680" y="518004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dà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6640" y="51354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m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6760" y="1600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根据拼音写汉字或给加点的字注音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语言运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3280" y="1278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一、词语填空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827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奇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2)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骨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3)(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4548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4)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茏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5)(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雅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6)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服　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4040" y="36439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084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7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海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石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8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日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星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586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14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688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潜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300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葱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74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幽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448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58640" y="3124080"/>
            <a:ext cx="1795680" cy="459720"/>
            <a:chOff x="1358640" y="3124080"/>
            <a:chExt cx="1795680" cy="459720"/>
          </a:xfrm>
        </p:grpSpPr>
        <p:sp>
          <p:nvSpPr>
            <p:cNvPr id="118" name=""/>
            <p:cNvSpPr/>
            <p:nvPr/>
          </p:nvSpPr>
          <p:spPr>
            <a:xfrm>
              <a:off x="1358640" y="3124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枯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0720" y="3124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35360" y="3121200"/>
            <a:ext cx="1777680" cy="462600"/>
            <a:chOff x="4635360" y="3121200"/>
            <a:chExt cx="1777680" cy="462600"/>
          </a:xfrm>
        </p:grpSpPr>
        <p:sp>
          <p:nvSpPr>
            <p:cNvPr id="121" name=""/>
            <p:cNvSpPr/>
            <p:nvPr/>
          </p:nvSpPr>
          <p:spPr>
            <a:xfrm>
              <a:off x="4635360" y="3121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49440" y="3124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移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364480" y="36406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二、给下面中心词填上恰当的修饰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8440" y="4144320"/>
            <a:ext cx="9109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1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 　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神话 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2)(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骸骨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3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真理　　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4)(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密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5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大自然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6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魔法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7)(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雕刻家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8120" y="4114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奇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54720" y="4114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冰冷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8120" y="48006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凡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480060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珍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3200" y="54100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令人叹服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54720" y="5410080"/>
            <a:ext cx="12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明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8120" y="60958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卓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57680" y="1136520"/>
            <a:ext cx="51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开篇连续不断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问句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现出作者浓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科学兴趣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和强烈的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求知欲望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也打开了读者思维的闸门，使读者和作者一起去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像亿万年前那神秘的世界，去倾听化石讲述那奇幻的神话。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7680" y="236628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节是诗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主体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部分，具体抒写遐思的内容。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学家通过对化石的研究，得出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物进化的科学观点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所谓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帝创造万物的说法是不符合客观事实的。这些深埋地下的化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存在，就足以证明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地球上的生命是生生不息、繁衍不断的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57680" y="3963240"/>
            <a:ext cx="51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接着，作者的思绪飞向那远古洪荒，说明海枯石烂，沧海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桑田，物换星移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论多么久远，无论变化多大，都阻挡不了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命的航船从太古不息地向近代进发，生命的形式也由低级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级演化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25280" y="5561280"/>
            <a:ext cx="52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 “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叹服大自然”，这是作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衷的赞叹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大自然是魔法师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是雕刻家。至此，作者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感情达到高潮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。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作者思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主题及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41280" y="1776240"/>
            <a:ext cx="49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《化石吟》是一首科学抒情诗，展示了人类对化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石的研究成果，再现了亿万年前的神奇景象，从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赞美科学的神奇与人类的伟大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2200" y="3701880"/>
            <a:ext cx="48747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诗中一系列的疑问将人们带入奇幻的神话般的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生物世界，又用优美的语言富有感情地赞颂了会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话的奇异的化石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自主探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3400" y="1022040"/>
            <a:ext cx="62092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．“你把我的思绪引向远古”一句在全诗中起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么作用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．怎样理解“黑色的躯壳裹藏着生命的信息，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历史留下一本珍贵的密码”一句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．“时光在你脸上刻下道道皱纹，犹如把生命的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档案细细描画”   是写人吗？你是怎样理解的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?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05720" y="213372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文中的思绪引向远古，既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引起了下文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又表现了作者的思路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03040" y="3665520"/>
            <a:ext cx="47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作为生命基本物质的有机化合物还保留着，为科学研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究提供了必要的条件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19960" y="5561280"/>
            <a:ext cx="50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写的是化石，这是一种比喻，人脸皱纹是生命历程的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真，而把化石比作人脸皱纹，不正是地球古生物的档案吗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43:37Z</dcterms:created>
  <dc:creator>wutao</dc:creator>
  <dc:description/>
  <dc:language>en-US</dc:language>
  <cp:lastModifiedBy>zyb</cp:lastModifiedBy>
  <dcterms:modified xsi:type="dcterms:W3CDTF">2004-11-29T01:35:36Z</dcterms:modified>
  <cp:revision>100</cp:revision>
  <dc:subject/>
  <dc:title>化石吟 </dc:title>
</cp:coreProperties>
</file>