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2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.jpeg" ContentType="image/jpeg"/>
  <Override PartName="/ppt/media/image35.jpeg" ContentType="image/jpeg"/>
  <Override PartName="/ppt/media/image27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type.wav" ContentType="audio/x-wav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213-A2E2-4798-91A5-1E08F89C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3B0-E34C-4533-88ED-FF65AE62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3ED-0AFB-47FC-9DC8-0685BFC1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3E0-0848-4EA5-9295-AED38A9F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1BA-5E28-4EBA-A780-BC83922C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D66-D6AE-4BC3-8818-5BCB526D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7B5-8117-42BD-871F-1281C972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C0A-290A-4EF8-B96B-1EDDD8BC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EE6-B179-4BF5-9C8F-D22ADB19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EFC-6B9D-439E-A6B4-CED997B9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20A-2A00-4DAD-8682-70B8B40C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AAA-115B-4077-8EFA-26451A3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CBBA-7345-40A8-AD9F-BB8185F651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" Target="slide4.xml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jpeg"/><Relationship Id="rId15" Type="http://schemas.openxmlformats.org/officeDocument/2006/relationships/image" Target="../media/image38.jpeg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8680" y="4668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48360" y="260280"/>
            <a:ext cx="197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化  石  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5157720"/>
            <a:ext cx="26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张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256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809880" cy="25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52880" y="1219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始虫化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876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始莱得利虫化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715000" cy="55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12400" y="1219320"/>
            <a:ext cx="1642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恐龙脚印的化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2133720"/>
            <a:ext cx="389412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57560" y="2514600"/>
            <a:ext cx="152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鳃鱼头化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00400" y="304920"/>
            <a:ext cx="5715000" cy="155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53080" y="22096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莫氏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1920960" cy="267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14800" y="1905120"/>
            <a:ext cx="4406760" cy="3708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24280" y="60948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始祖鸟化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914400"/>
            <a:ext cx="75438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黑体"/>
              </a:rPr>
              <a:t>化石的形成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：</a:t>
            </a: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生物在死后，尸体和泥沙埋在一起，被泥沙紧紧裹住，别的矿物质填充了它的遗体，保留了它的外形甚至内部构造，在特殊情况下，某些生物的尸体竟能完整地保存下来，这就是化石。研究化石可以了解生物的演化并能帮助确定地层的年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解 析 诗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601992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6680" y="18288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《化石吟》是一首科学诗。科学诗是以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诗的形式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写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科学内容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。 “吟”是古诗中的一种体式，内容多有悲愁慨叹之意，形式上比较自由活泼，如同散文中的随笔，可以不拘一格。这里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赞颂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全诗写科学家通过研究化石，展现了亿万年前的神奇景象，从而赞美科学的神奇与人类的伟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2708280"/>
            <a:ext cx="885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奇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huàn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（ ）  </a:t>
            </a:r>
            <a:r>
              <a:rPr b="0" lang="zh-CN" sz="4000" spc="-1" strike="noStrike">
                <a:solidFill>
                  <a:srgbClr val="000000"/>
                </a:solidFill>
                <a:latin typeface="zypyyb"/>
                <a:ea typeface="zypyyb"/>
              </a:rPr>
              <a:t>g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uǒ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）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cōng lón</a:t>
            </a:r>
            <a:r>
              <a:rPr b="0" lang="zh-CN" sz="4000" spc="-1" strike="noStrike">
                <a:solidFill>
                  <a:srgbClr val="000000"/>
                </a:solidFill>
                <a:latin typeface="zypyyb"/>
                <a:ea typeface="zypyyb"/>
              </a:rPr>
              <a:t>g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（    ）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zhuó yuè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骸（   ）骨    潜（    ）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躯壳（   ）   档（    ）案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猛犸（   ）   悄（    ）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644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9440" y="33577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葱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31800" y="33577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卓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19520" y="4005360"/>
            <a:ext cx="7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cc00cc"/>
                </a:solidFill>
                <a:latin typeface="zypyyb"/>
                <a:ea typeface="zypyyb"/>
              </a:rPr>
              <a:t>2</a:t>
            </a: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1120" y="3933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q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4581360"/>
            <a:ext cx="5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24480" y="45543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cc00cc"/>
                </a:solidFill>
                <a:latin typeface="zypyyb"/>
                <a:ea typeface="zypyyb"/>
              </a:rPr>
              <a:t>4</a:t>
            </a: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cc00cc"/>
                </a:solidFill>
                <a:latin typeface="zypyyb"/>
                <a:ea typeface="zypyyb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82480" y="5130720"/>
            <a:ext cx="7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cc00cc"/>
                </a:solidFill>
                <a:latin typeface="zypyyb"/>
                <a:ea typeface="zypyyb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27280" y="522936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qi </a:t>
            </a:r>
            <a:r>
              <a:rPr b="0" lang="zh-CN" sz="3200" spc="-1" strike="noStrike">
                <a:solidFill>
                  <a:srgbClr val="cc00cc"/>
                </a:solidFill>
                <a:latin typeface="zypyyb"/>
                <a:ea typeface="zypyyb"/>
              </a:rPr>
              <a:t>3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0"/>
            <a:ext cx="3168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宋体"/>
              </a:rPr>
              <a:t>读一读，写一写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501480" y="213372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根据拼音写汉字或给加点的字注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907920"/>
            <a:ext cx="78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根据释义写出相应的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安静美观而不落俗套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形容寂静无声的样子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称赞而且佩服。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形容经历的时间极长。表示意志坚定，永不改变。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草木）青翠茂盛。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奇异而虚幻。（      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0160" y="52293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奇幻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5800" y="15508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幽雅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14880" y="21272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悄然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90880" y="27748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叹服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9040" y="40053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海枯石烂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45813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宋体"/>
              </a:rPr>
              <a:t>葱茏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在下列横线上选填恰当的修饰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39320" y="1844640"/>
            <a:ext cx="3112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神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真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骸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密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魔法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雕刻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3800" y="18446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奇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53800" y="2492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平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25440" y="31417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冰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25440" y="3716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珍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5440" y="43657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高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98520" y="49417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卓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朗 读 感 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6019920"/>
            <a:ext cx="1220760" cy="388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921680" y="1628640"/>
            <a:ext cx="10913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　  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最早的鱼儿怎么没下巴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最早的鸟儿怎么嘴长牙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最早登陆的鱼儿怎么没有腿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最早的树儿怎么不开花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逝去万载的世界可会重现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沉睡亿年的石头能否说话？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长眠地下刚苏醒的化石啊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请向我一一讲述那奇幻的神话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你把我的思绪引向远古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描绘出一幅幅生物进化的图画；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你否定了造物主的存在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冰冷的骸骨把平凡的真理回答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肉体虽早已腐朽化为乌有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生之灵火却悄然潜行在地下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黑色的躯壳裹藏着生命的信息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为历史留下一本珍贵的密码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时光在你脸上刻下道道皱纹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犹如把生命的档案细细描画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海枯，石烂，日转，星移……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生命的航船从太古不息地向近代进发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复原的恐龙、猛犸仿佛在引颈长吼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重现的远古林木多么葱茏、幽雅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啊，你令人叹服的大自然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高明的魔法师，卓越的雕刻家！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逝去万载的世界又重现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沉睡亿年的石头说了话。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长眠地下刚苏醒的化石啊，</a:t>
            </a:r>
            <a:br>
              <a:rPr sz="2000"/>
            </a:b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　　你讲的故事多么令人神往、惊讶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98720" y="765000"/>
            <a:ext cx="1095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化石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3640" cy="6553080"/>
            <a:chOff x="0" y="0"/>
            <a:chExt cx="9143640" cy="65530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2525040" y="5867280"/>
              <a:ext cx="46155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始盗龙</a:t>
              </a:r>
              <a:endPara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5400000">
            <a:off x="-195480" y="1498320"/>
            <a:ext cx="2448000" cy="1266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感知</a:t>
            </a:r>
            <a:endParaRPr b="1" lang="en-US" sz="96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1371600"/>
            <a:ext cx="7146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用简洁的语言概括本诗的主要内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本诗表达了作者怎样的思想感情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本诗可分为几层，试概括大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6080" y="198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本诗写科学家通过研究化石展现了亿万年前的神奇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7988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诗歌表达了作者对科学神奇与人类伟大的赞美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8840" y="5229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诗歌分为三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72428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1-2</a:t>
            </a: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节通过发问，引发联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3-6</a:t>
            </a: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节具体抒写，无限遐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a800"/>
                </a:solidFill>
                <a:latin typeface="Times New Roman"/>
              </a:rPr>
              <a:t>节回应发问，照应开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486900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295280"/>
              <a:gd name="textAreaBottom" fmla="*/ 12456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4"/>
                  <a:pt x="10800" y="2647"/>
                </a:cubicBezTo>
                <a:lnTo>
                  <a:pt x="10800" y="8153"/>
                </a:lnTo>
                <a:cubicBezTo>
                  <a:pt x="10800" y="9477"/>
                  <a:pt x="5400" y="10800"/>
                  <a:pt x="0" y="10800"/>
                </a:cubicBezTo>
                <a:cubicBezTo>
                  <a:pt x="5400" y="10800"/>
                  <a:pt x="10800" y="12124"/>
                  <a:pt x="10800" y="13447"/>
                </a:cubicBezTo>
                <a:lnTo>
                  <a:pt x="10800" y="18953"/>
                </a:lnTo>
                <a:cubicBezTo>
                  <a:pt x="10800" y="20277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 rot="5400000">
            <a:off x="-52920" y="2033640"/>
            <a:ext cx="3505320" cy="1266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学法指导</a:t>
            </a:r>
            <a:endParaRPr b="1" lang="en-US" sz="9600" spc="1" strike="noStrike">
              <a:ln w="1260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7" name=""/>
          <p:cNvSpPr/>
          <p:nvPr/>
        </p:nvSpPr>
        <p:spPr>
          <a:xfrm>
            <a:off x="4173480" y="938160"/>
            <a:ext cx="261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800"/>
                </a:solidFill>
                <a:latin typeface="Times New Roman"/>
                <a:ea typeface="隶书"/>
              </a:rPr>
              <a:t>好诗阅读有节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800"/>
                </a:solidFill>
                <a:latin typeface="Times New Roman"/>
                <a:ea typeface="隶书"/>
              </a:rPr>
              <a:t>反复吟诵感悟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800"/>
                </a:solidFill>
                <a:latin typeface="Times New Roman"/>
                <a:ea typeface="隶书"/>
              </a:rPr>
              <a:t>重点词句细品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800"/>
                </a:solidFill>
                <a:latin typeface="Times New Roman"/>
                <a:ea typeface="隶书"/>
              </a:rPr>
              <a:t>联想想像悟中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14600" y="3657600"/>
            <a:ext cx="187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中宋"/>
              </a:rPr>
              <a:t>发问想像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90920" y="4495680"/>
            <a:ext cx="1876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中宋"/>
              </a:rPr>
              <a:t>遐思飞跃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6880" y="5410080"/>
            <a:ext cx="1876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中宋"/>
              </a:rPr>
              <a:t>回答呼应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00600" y="4190760"/>
            <a:ext cx="60948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724280"/>
            <a:ext cx="762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4724280"/>
            <a:ext cx="7617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73480" y="3857760"/>
            <a:ext cx="11559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a800"/>
                </a:solidFill>
                <a:latin typeface="Times New Roman"/>
              </a:rPr>
              <a:t>神奇景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73480" y="4390920"/>
            <a:ext cx="11559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a800"/>
                </a:solidFill>
                <a:latin typeface="Times New Roman"/>
              </a:rPr>
              <a:t>人类伟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4952880"/>
            <a:ext cx="19051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a800"/>
                </a:solidFill>
                <a:latin typeface="Times New Roman"/>
              </a:rPr>
              <a:t>赞美科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295280" y="12600"/>
            <a:ext cx="11505960" cy="6699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457200" y="71280"/>
            <a:ext cx="10210680" cy="6815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137040" y="1994040"/>
            <a:ext cx="2869920" cy="2869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542960" y="2635200"/>
            <a:ext cx="6058080" cy="1587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251160" y="1581120"/>
            <a:ext cx="2641680" cy="3695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768760" y="1917720"/>
            <a:ext cx="3606480" cy="3022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3219480" y="1504800"/>
            <a:ext cx="2705040" cy="3848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2832120" y="1441440"/>
            <a:ext cx="3479760" cy="397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1327320" y="1771560"/>
            <a:ext cx="6489360" cy="3314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276200" y="1701720"/>
            <a:ext cx="6591600" cy="3454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2260440" y="2260440"/>
            <a:ext cx="4623120" cy="2337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2260440" y="2260440"/>
            <a:ext cx="4623120" cy="2337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2514600" y="1903320"/>
            <a:ext cx="4114800" cy="3051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2857680" y="1193760"/>
            <a:ext cx="3429000" cy="4468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rcRect l="0" t="0" r="0" b="3497"/>
          <a:stretch/>
        </p:blipFill>
        <p:spPr>
          <a:xfrm>
            <a:off x="0" y="155520"/>
            <a:ext cx="93726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68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cc"/>
                </a:solidFill>
                <a:latin typeface="华文新魏"/>
                <a:ea typeface="华文新魏"/>
              </a:rPr>
              <a:t>    </a:t>
            </a:r>
            <a:r>
              <a:rPr b="1" lang="zh-CN" sz="8000" spc="-1" strike="noStrike">
                <a:solidFill>
                  <a:srgbClr val="0066cc"/>
                </a:solidFill>
                <a:latin typeface="华文新魏"/>
                <a:ea typeface="华文新魏"/>
              </a:rPr>
              <a:t>当你面对复原的恐龙、猛犸时，你有何感想呢</a:t>
            </a:r>
            <a:r>
              <a:rPr b="1" lang="zh-CN" sz="8000" spc="-1" strike="noStrike">
                <a:solidFill>
                  <a:srgbClr val="0066cc"/>
                </a:solidFill>
                <a:latin typeface="华文新魏"/>
                <a:ea typeface="华文新魏"/>
              </a:rPr>
              <a:t>?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3640" cy="6851160"/>
            <a:chOff x="0" y="0"/>
            <a:chExt cx="9143640" cy="68511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 txBox="1"/>
            <p:nvPr/>
          </p:nvSpPr>
          <p:spPr>
            <a:xfrm>
              <a:off x="1866240" y="5811120"/>
              <a:ext cx="6250680" cy="104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华文行楷"/>
                </a:rPr>
                <a:t>琥珀中的蜘蛛</a:t>
              </a:r>
              <a:endPara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1752480"/>
            <a:ext cx="5715000" cy="449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4572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苏铁叶子的化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猛犸象臼齿的化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143000"/>
            <a:ext cx="8559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3068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3451320" cy="5029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95280" y="4572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玄武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5791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叶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592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6019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师氏剑齿象骨架化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4:49:33Z</dcterms:created>
  <dc:creator>wutao</dc:creator>
  <dc:description/>
  <dc:language>en-US</dc:language>
  <cp:lastModifiedBy>zyb1</cp:lastModifiedBy>
  <dcterms:modified xsi:type="dcterms:W3CDTF">2004-11-10T05:06:53Z</dcterms:modified>
  <cp:revision>100</cp:revision>
  <dc:subject/>
  <dc:title> </dc:title>
</cp:coreProperties>
</file>