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1CE-58A6-4279-B36C-2A699326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FF6-989B-4689-B6F8-D85DD9EF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797-6604-4905-82B4-9FD992CD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219-BA48-4F25-B12C-FB96AE98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88F-65C3-4E6D-A8E9-4FFE4AB5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172-3FF0-411D-8C75-04369FEF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448-C74C-4EB2-807D-689536D5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8DA-EE10-4A25-BC84-C3078C7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087-FCF1-40A5-93C7-CA30AEE3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2BA-08D0-4D6D-9596-6F94BABF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658-7951-4765-BB12-367A9C0F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EC9-FC6D-47CA-80D8-736D83D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3C07-E607-42D0-885E-9A429FCB35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4500720" cy="299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86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80000" y="0"/>
            <a:ext cx="5364000" cy="386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356000" y="3573360"/>
            <a:ext cx="4788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260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华文隶书"/>
              </a:rPr>
              <a:t>质疑释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0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请合作学习小组内部就不理解的问题提出来，组内消化解答。形成不了共识的，作为小组的问题存疑提出来，由其他小组解答。再形成不了共识的，师生共同探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作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341360"/>
            <a:ext cx="8064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周日回家利用网上资源，办一期手抄报。主题（任选其一）：鱼类的进化、话说恐龙、猛犸的故事、被子植物、人类的起源等。要求图文并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" descr="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552840" y="2890800"/>
            <a:ext cx="243828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981000"/>
            <a:ext cx="12952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692280"/>
            <a:ext cx="144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华文隶书"/>
              </a:rPr>
              <a:t>化石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522936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张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572000" cy="5877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教 学 目 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333360"/>
            <a:ext cx="44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感情地朗读诗歌，体会诗歌的思想感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清诗歌结构，把握诗歌的主要内容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科学精神和探索未知世界的兴趣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华文隶书"/>
              </a:rPr>
              <a:t>生字词预习检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060640"/>
            <a:ext cx="84247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黑体"/>
              </a:rPr>
              <a:t>准确地读出下列词语并口头解释其意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奇幻    远古    骸骨    乌有    潜行       裹藏    葱茏    幽雅    叹服    造物主            海枯石烂        日转星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5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隶书"/>
              </a:rPr>
              <a:t>阅读课文，思考（可讨论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6828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概括诗歌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歌表达了一种怎样的思想感情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◆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歌可以分为哪几个层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构上有何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844640"/>
            <a:ext cx="91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华文新魏"/>
              </a:rPr>
              <a:t>写科学家通过研究化石，展现了亿万年前的神奇景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213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  <a:ea typeface="华文新魏"/>
              </a:rPr>
              <a:t>赞美了科学的神奇和人类的伟大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4869000"/>
            <a:ext cx="871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第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节为一层，通过问句的形式，引发读者的想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第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3—6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节为第二层，具体抒写遐思的内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第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节为第三层，回应第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节。结构上首尾呼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17733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自由、大声地朗读课文两遍，体会诗歌的特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8900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自主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1916280"/>
            <a:ext cx="957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“你把我的思绪引向远古”一句在全诗中起什么作用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怎样理解“黑色的躯壳裹藏着生命的信息，为历史留下一本珍贵的密码”一句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“时光在你脸上刻下道道皱纹，犹如把生命的档案细细描画。”你是怎样理解的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当你面对复原的恐龙、猛犸时，你有何感想呢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华文隶书"/>
              </a:rPr>
              <a:t>合作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" descr=""/>
          <p:cNvPicPr/>
          <p:nvPr/>
        </p:nvPicPr>
        <p:blipFill>
          <a:blip r:embed="rId1"/>
          <a:stretch/>
        </p:blipFill>
        <p:spPr>
          <a:xfrm>
            <a:off x="0" y="-533520"/>
            <a:ext cx="4140360" cy="486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3276720" cy="306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03640" y="0"/>
            <a:ext cx="5940360" cy="3486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276720" y="3314880"/>
            <a:ext cx="5867280" cy="354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84360" y="2781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00"/>
                </a:solidFill>
                <a:latin typeface="Arial"/>
                <a:ea typeface="华文隶书"/>
              </a:rPr>
              <a:t>复原的恐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87640" y="18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彩云"/>
              </a:rPr>
              <a:t>复原的猛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9:18:11Z</dcterms:created>
  <dc:creator>wutao</dc:creator>
  <dc:description/>
  <dc:language>en-US</dc:language>
  <cp:lastModifiedBy>zyb1</cp:lastModifiedBy>
  <dcterms:modified xsi:type="dcterms:W3CDTF">2004-11-10T03:54:38Z</dcterms:modified>
  <cp:revision>100</cp:revision>
  <dc:subject/>
  <dc:title>幻灯片 1</dc:title>
</cp:coreProperties>
</file>