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DC9-AEBE-4B82-A488-7D019D2B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F93-8883-46E1-9B15-67A98AE3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A29-F72D-4DFD-88FB-46872C47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5D2-8E06-4A23-9364-9D8D0BA6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ED36-6FD5-411E-AFD3-216D4E8B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0F54-FCCB-469F-962F-483EEED9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4273-DBAE-40A7-BBB4-B7A19E59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5D7C-CCEF-4323-B738-30A65140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F471-A1BB-4A82-9956-7E7A8119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6645-E55F-444D-822F-F96F6F22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C322-C949-4DF9-AE60-D107C51C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EC2-0ED4-4DA9-A242-F6FC5090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6236-4936-4EDB-8A62-E9CC7C45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FF78-F3E0-4ED0-B437-3FAAD247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82C6-3102-4490-8585-F1D327F4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890D-5E0A-4D3B-94D7-2212AE19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CEB2-D50C-42CF-8621-8DBC333B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A9F-B077-42AB-8F66-6C945C55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734-1D61-49F0-B7D8-4A208DEE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B93-3742-439A-A1F4-32F49035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889-2C3D-46F1-B610-10160B1A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7E8-0738-4CF8-A399-C15254A8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381-06E6-4AEF-BE3F-8D8A103F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A14D-8C30-497F-A35A-1B727D85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6C93-5275-47E7-A3E7-26C85EA992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259D-E410-4ECF-B8CE-6FCF939D92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看 云 识 天 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积云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56000" y="76500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彩云"/>
              </a:rPr>
              <a:t>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彩云"/>
              </a:rPr>
              <a:t>积     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高积云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-466920" y="1484280"/>
            <a:ext cx="23749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华文彩云"/>
              </a:rPr>
              <a:t>高 积 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卷层云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5760" y="260280"/>
            <a:ext cx="9115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华文彩云"/>
              </a:rPr>
              <a:t>         </a:t>
            </a:r>
            <a:r>
              <a:rPr b="1" lang="zh-CN" sz="4800" spc="-1" strike="noStrike">
                <a:solidFill>
                  <a:srgbClr val="ffcccc"/>
                </a:solidFill>
                <a:latin typeface="Arial"/>
                <a:ea typeface="华文彩云"/>
              </a:rPr>
              <a:t>卷  层  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高层云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677160" y="1052640"/>
            <a:ext cx="20091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f47e7"/>
                </a:solidFill>
                <a:latin typeface="Arial"/>
                <a:ea typeface="华文彩云"/>
              </a:rPr>
              <a:t>  </a:t>
            </a:r>
            <a:r>
              <a:rPr b="1" lang="zh-CN" sz="6000" spc="-1" strike="noStrike">
                <a:solidFill>
                  <a:srgbClr val="ffcccc"/>
                </a:solidFill>
                <a:latin typeface="Arial"/>
                <a:ea typeface="华文彩云"/>
              </a:rPr>
              <a:t>高  层 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雨层云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424680" y="1133640"/>
            <a:ext cx="2561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cc"/>
                </a:solidFill>
                <a:latin typeface="Arial"/>
                <a:ea typeface="华文彩云"/>
              </a:rPr>
              <a:t>雨  层  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积雨云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4572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cc"/>
                </a:solidFill>
                <a:latin typeface="Times New Roman"/>
                <a:ea typeface="华文彩云"/>
              </a:rPr>
              <a:t>积  雨 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64000" cy="4440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00720" y="2565360"/>
            <a:ext cx="4643280" cy="4292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93080" y="1844640"/>
            <a:ext cx="358560" cy="576360"/>
          </a:xfrm>
          <a:prstGeom prst="downArrow">
            <a:avLst>
              <a:gd name="adj1" fmla="val 50000"/>
              <a:gd name="adj2" fmla="val 40186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79640" y="4724280"/>
            <a:ext cx="360360" cy="505080"/>
          </a:xfrm>
          <a:prstGeom prst="upArrow">
            <a:avLst>
              <a:gd name="adj1" fmla="val 50000"/>
              <a:gd name="adj2" fmla="val 35040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620640"/>
            <a:ext cx="230328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日  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5516640"/>
            <a:ext cx="216036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月 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372360" y="105264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彩云"/>
              </a:rPr>
              <a:t>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5943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92360" y="907920"/>
            <a:ext cx="18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彩云"/>
              </a:rPr>
              <a:t>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8120" y="7617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谚  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7620120" cy="30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早上乌云盖，无雨也风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上鲤鱼斑，明天晒谷不用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上灰布悬，雨丝定连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朝霞不出门，晚霞行千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396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看 云 识 天 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40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形状                           光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066320" y="1981080"/>
            <a:ext cx="1297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0574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34320" y="182880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349360"/>
            <a:ext cx="144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卷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卷积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积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高积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48000" y="2421000"/>
            <a:ext cx="144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卷层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高层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雨层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积雨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514600"/>
            <a:ext cx="79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373720"/>
            <a:ext cx="1584360" cy="703440"/>
          </a:xfrm>
          <a:prstGeom prst="rect">
            <a:avLst/>
          </a:prstGeom>
          <a:noFill/>
          <a:ln w="93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薄  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5373720"/>
            <a:ext cx="1655640" cy="703440"/>
          </a:xfrm>
          <a:prstGeom prst="rect">
            <a:avLst/>
          </a:prstGeom>
          <a:noFill/>
          <a:ln w="93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厚  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95280" y="1557360"/>
          <a:ext cx="8367480" cy="4614480"/>
        </p:xfrm>
        <a:graphic>
          <a:graphicData uri="http://schemas.openxmlformats.org/drawingml/2006/table">
            <a:tbl>
              <a:tblPr/>
              <a:tblGrid>
                <a:gridCol w="1844280"/>
                <a:gridCol w="4467600"/>
                <a:gridCol w="2055600"/>
              </a:tblGrid>
              <a:tr h="122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名  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形      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气情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2" action="ppaction://hlinksldjump"/>
                        </a:rPr>
                        <a:t>卷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3" action="ppaction://hlinksldjump"/>
                        </a:rPr>
                        <a:t>卷积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4" action="ppaction://hlinksldjump"/>
                        </a:rPr>
                        <a:t>积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5" action="ppaction://hlinksldjump"/>
                        </a:rPr>
                        <a:t>高积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457200" y="38088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阅读第三节，完成表格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6186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隶书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69920"/>
            <a:ext cx="77724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阅读第四、五节，完成表格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1143000"/>
          <a:ext cx="8458200" cy="4903920"/>
        </p:xfrm>
        <a:graphic>
          <a:graphicData uri="http://schemas.openxmlformats.org/drawingml/2006/table">
            <a:tbl>
              <a:tblPr/>
              <a:tblGrid>
                <a:gridCol w="1753920"/>
                <a:gridCol w="4660560"/>
                <a:gridCol w="2043720"/>
              </a:tblGrid>
              <a:tr h="12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名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形       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气情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2" action="ppaction://hlinksldjump"/>
                        </a:rPr>
                        <a:t>卷层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3" action="ppaction://hlinksldjump"/>
                        </a:rPr>
                        <a:t>高层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4" action="ppaction://hlinksldjump"/>
                        </a:rPr>
                        <a:t>雨层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5" action="ppaction://hlinksldjump"/>
                        </a:rPr>
                        <a:t>积雨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7467480" y="6186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隶书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阅读第六节，完成表格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1676520"/>
          <a:ext cx="7772400" cy="4114800"/>
        </p:xfrm>
        <a:graphic>
          <a:graphicData uri="http://schemas.openxmlformats.org/drawingml/2006/table">
            <a:tbl>
              <a:tblPr/>
              <a:tblGrid>
                <a:gridCol w="1714320"/>
                <a:gridCol w="4008600"/>
                <a:gridCol w="204948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名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云 彩 情 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气情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2" action="ppaction://hlinksldjump"/>
                        </a:rPr>
                        <a:t>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3" action="ppaction://hlinksldjump"/>
                        </a:rPr>
                        <a:t>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4" action="ppaction://hlinksldjump"/>
                        </a:rPr>
                        <a:t>霞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105160"/>
            <a:ext cx="25905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华文彩云"/>
              </a:rPr>
              <a:t>谢谢您的使用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卷云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609480"/>
            <a:ext cx="367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彩云"/>
              </a:rPr>
              <a:t>卷   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卷积云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76720" y="68580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卷积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05:23:23Z</dcterms:created>
  <dc:creator>wutao</dc:creator>
  <dc:description/>
  <dc:language>en-US</dc:language>
  <cp:lastModifiedBy>zyb</cp:lastModifiedBy>
  <dcterms:modified xsi:type="dcterms:W3CDTF">2004-11-30T02:06:43Z</dcterms:modified>
  <cp:revision>100</cp:revision>
  <dc:subject/>
  <dc:title>看云识天气</dc:title>
</cp:coreProperties>
</file>