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2BC3-9F86-45E5-97CA-F99B1CF3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4B38-831A-4E9C-B6EF-58501C56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0773-40D1-4103-9A15-E954D10C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645-475E-4CC2-A243-CCD32FD1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4323-3B12-4F80-BDE9-CCF664B4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B55-20CC-4C14-B00A-747960E7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45C-6784-4CC9-8A87-C89E7822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792-19F4-4C29-ACAB-72E33BDA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128000" y="15480"/>
            <a:ext cx="20160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238-1070-4C0B-9BEB-FDA9FB68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272-BA42-43A3-B0FF-26A4201D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888-63D7-40E2-820B-6D747D59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DE1-6665-49AB-803C-511F4B4B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28000" y="333000"/>
            <a:ext cx="20160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24000" y="6021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00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0000" y="5877000"/>
            <a:ext cx="2916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4000" spc="-1" strike="noStrike">
                <a:solidFill>
                  <a:srgbClr val="0000ff"/>
                </a:solidFill>
                <a:latin typeface="Arial"/>
                <a:ea typeface="华文行楷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刘玲玲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7640" y="5949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2577-5AD9-4D01-A09E-A949FAADB0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588000" y="333360"/>
            <a:ext cx="2195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ff33"/>
                </a:solidFill>
                <a:latin typeface="Arial"/>
              </a:rPr>
              <a:t>《看云识天气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看云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777240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99"/>
                </a:solidFill>
                <a:latin typeface="Arial"/>
                <a:ea typeface="方正姚体"/>
              </a:rPr>
              <a:t>看云识天气</a:t>
            </a:r>
            <a:br>
              <a:rPr sz="6600"/>
            </a:br>
            <a:endParaRPr b="0" lang="en-US" sz="6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848720" y="2514600"/>
            <a:ext cx="228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3886200"/>
            <a:ext cx="2286000" cy="477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请欣赏影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6C1-7852-42D3-BB74-0782A44675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A3DD8-7697-4DC8-95B2-457E2F3A22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7" dur="1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" dur="1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19560" y="533520"/>
            <a:ext cx="2361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高积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72C9-7D03-4342-838B-265ADBD7D48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91FCF-B14B-4166-8729-D6A37C9B2E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22860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3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10280" y="762120"/>
            <a:ext cx="19051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卷层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0E8-EB4A-43F0-8560-96E5C09F2A9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B2895-5D8C-4412-8142-67D5D99301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7640" y="228600"/>
            <a:ext cx="19810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高层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150F-FCE7-46DF-84A3-079A05612DA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79042-3859-4B17-B53E-6CEAA6ACA5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1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48160" y="228600"/>
            <a:ext cx="2438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雨层云</a:t>
            </a:r>
            <a:endParaRPr b="0" lang="en-US" sz="48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D0D-8095-4855-BFD9-41FB33F07EB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C6665-4655-42FB-BDF5-D53ACC95ED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1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5000" y="68580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积雨云</a:t>
            </a:r>
            <a:endParaRPr b="0" lang="en-US" sz="40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3FC-AA13-4126-BDAC-05B373451C3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DAB9A-2846-4508-87A3-96AA52CBFC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5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、朗读第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6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段课文填表</a:t>
            </a:r>
            <a:endParaRPr b="0" lang="en-US" sz="4000" spc="-1" strike="noStrike">
              <a:solidFill>
                <a:srgbClr val="66ff33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9280" y="907920"/>
          <a:ext cx="8820360" cy="4730760"/>
        </p:xfrm>
        <a:graphic>
          <a:graphicData uri="http://schemas.openxmlformats.org/drawingml/2006/table">
            <a:tbl>
              <a:tblPr/>
              <a:tblGrid>
                <a:gridCol w="936720"/>
                <a:gridCol w="3227400"/>
                <a:gridCol w="1287360"/>
                <a:gridCol w="336888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光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产生和分布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光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93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29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91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2133720" y="6095880"/>
            <a:ext cx="1447560" cy="3812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523880"/>
            <a:ext cx="2819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产生在卷层云上，分布在日月周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25146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产生在高积云边缘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380988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雨过天晴，在太阳对面的云幕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4724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早、晚，太阳照着对面的云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144792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里红外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2590920"/>
            <a:ext cx="106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里紫外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14479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晕三更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晕午时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25909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华环由小变大，转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华环由大变小，转阴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东虹轰隆西虹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78792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彩色圆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472428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云层变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4724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朝霞西阴雨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晚霞东几天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15E-95DF-47B1-A83A-26F37BDD0A3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48DE4-23B1-4704-96E5-C91798EE2A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14600" y="5715000"/>
            <a:ext cx="83808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10280" y="304560"/>
            <a:ext cx="1371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微软美黑"/>
              </a:rPr>
              <a:t>晕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868-5B03-40B3-BD57-D491C566AAD6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4F89F-A021-4512-A37B-234282AC37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14600" y="5715000"/>
            <a:ext cx="83808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81320" y="456840"/>
            <a:ext cx="2133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华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098-C341-44AC-A94A-7D01DC4AF67E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5EEA6-77FD-4389-949D-31972F2582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BJ2106" descr=""/>
          <p:cNvPicPr/>
          <p:nvPr/>
        </p:nvPicPr>
        <p:blipFill>
          <a:blip r:embed="rId1"/>
          <a:stretch/>
        </p:blipFill>
        <p:spPr>
          <a:xfrm>
            <a:off x="0" y="-1066680"/>
            <a:ext cx="9144000" cy="7924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14600" y="5715000"/>
            <a:ext cx="83808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209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行楷"/>
              </a:rPr>
              <a:t>虹</a:t>
            </a:r>
            <a:endParaRPr b="0" lang="en-US" sz="5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8E1-D2E1-4452-966F-9689848FE05C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45FE6-E272-451B-A7CA-3AEF964D9D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14600" y="5715000"/>
            <a:ext cx="83808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086240" y="5335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cc"/>
                </a:solidFill>
                <a:latin typeface="Arial"/>
                <a:ea typeface="楷体_GB2312"/>
              </a:rPr>
              <a:t>霞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856-7642-4B17-A5DA-1483B4EA27A9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F7ED1-5E8A-4BA4-8FB0-5429B645E7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鱼鳞天，不雨风也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瓦块云，热死人；梯梯云，干破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雨四边亮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雨顶上光。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上起了鱼鳞斑，明日晒谷不用翻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上起了泡泡云，不过三天雨淋淋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太阳落地云来抢，不等半夜听雨响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上勾勾云，地下雨淋淋。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乌云接日头，半夜雨淋淋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太阳当中现，三日不见面。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早霞不出门，晚霞行千里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早上云如山，黄昏雨涟涟。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上起棉花，地下踏粥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落乌云接，风雨定猛烈。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朝看天顶穿，暮看四脚悬。                             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落云里走，雨落半夜后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1" descr=""/>
          <p:cNvPicPr/>
          <p:nvPr/>
        </p:nvPicPr>
        <p:blipFill>
          <a:blip r:embed="rId1"/>
          <a:stretch/>
        </p:blipFill>
        <p:spPr>
          <a:xfrm>
            <a:off x="6218280" y="4800600"/>
            <a:ext cx="2925720" cy="73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78E-889F-42C8-AF33-66E35F93A44E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072F9-0986-4C4A-95E7-F9E33A63E3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91400" y="1495440"/>
            <a:ext cx="53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既有平实说明，又有生动说明，各举出一个例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691920"/>
            <a:ext cx="79311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体会文章语言特点（以第三段为例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9280" y="2133720"/>
            <a:ext cx="1835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平实说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20560" y="2819520"/>
            <a:ext cx="866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卷云和卷积云都很高，那里水分少，他们一般不会带来雨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7920" y="3276720"/>
            <a:ext cx="1591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动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4080" y="4038480"/>
            <a:ext cx="5301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积云是成群的扁球状的云块，排列很匀称，云块间露出碧蓝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4572000"/>
            <a:ext cx="594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幕，远远望去，就像草原上雪白的羊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7B9-4263-4D49-9443-835AE284A74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DCA96-4BBF-4DBD-91A9-FF9B5EE5FB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三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.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本节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１、合理设计表格的项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２、用语生动简洁精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371E-E7E5-4C6C-A398-8A2BACCEF26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8A1C7-A700-4F49-96D4-0990E61E69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280" y="260280"/>
            <a:ext cx="30416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.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堂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836640"/>
            <a:ext cx="81360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请说下面几幅图片中的云的类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BAA9-F4A9-497E-B746-EC6A840D540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79DCF-242A-4B9E-960B-5072F1FBE2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3962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21EE-71EC-414B-9B09-E649A3B55B59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800C3-A7FD-42FB-BDFB-24A0A6592713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8637-0662-4590-940D-A15DB570DAF5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5853C-C9A5-4627-97A9-0C7CFCF333CC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305560" cy="4221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F9A-0FE7-4662-BC8E-D8DF64E80DA7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22E8C-BE80-4688-937C-39985DA95E48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4190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302-1118-4D19-AF1B-E88C195ADDD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9D860-B87E-4660-9FFB-495E7F30D02A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189-956B-4086-A7C2-5DEB0CD6F310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07E21-609B-4EA4-B7AB-8D4ECE465DFF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229600" cy="3962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2ED3-96D9-4F33-A378-DCE2C63CEDF1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FA9D7-2F1A-40A7-8FA0-941B3D890893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631-8289-4156-B92A-A7DF8BBDB802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CA8F6-4217-4653-A893-BE0942285CF3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4114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71516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．训练提取关键信息，用表格表现信息的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．品味本文以生动形象为主兼有平实特点的说明语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C45-0566-49C1-834D-0DF2249567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26C69-9ACD-4AEF-B669-463DBFFDEB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1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4191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C4F-B26C-4086-AD79-B97408767F7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6B8C5-4C28-489B-ADD1-3697A6353FBA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105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C8C-C892-445E-AD18-97BC0874793F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C03DC-6E14-447A-AE42-798B7959211D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153640" cy="3992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D00-94D4-4D74-8A19-D150FB173138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FB224-6C6C-493D-B731-86FBC358A07C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4267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103-25EB-433C-BD67-479E6535508D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78D95-0198-4A42-BAB5-86FA13F821FF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62800" cy="4039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555-1789-4E92-A861-98FE511F8767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3E3D4-D186-45EE-9CD4-3672D5DA72CB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81880" cy="396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9143-B2AB-47FC-8B41-303473EB1997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9CE54-66BA-4DE7-BEBA-E6758F05F983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5438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、快速阅读文章第二部分，圈点批注关键词语</a:t>
            </a:r>
            <a:br>
              <a:rPr sz="4400"/>
            </a:b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02920" y="2205000"/>
            <a:ext cx="397044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.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提炼内容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2.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品味语言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F28-98CA-4BCC-83CF-3C6A68AF0A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1CAD5-8CB2-42C9-97DA-FEF49EE1C5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68580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二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第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段上下文有何关系？起什么作用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362320"/>
            <a:ext cx="640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薄云”“晴朗”；“低而厚密的云层”“阴雨风雪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承上说明“云的各种形态”，启下引出“云和天气”的关系。起承上启下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7F5-12A9-4F09-9A8A-3A4AC938D74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DB563-FD72-409D-8B4B-C598765C70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6095520"/>
            <a:ext cx="1447560" cy="3812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下一页</a:t>
            </a:r>
            <a:endParaRPr b="0" lang="en-US" sz="28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23148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默读课文第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692280"/>
            <a:ext cx="734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１）用表格归纳各种云的特点及与天气的关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1143000"/>
          <a:ext cx="8915400" cy="4776840"/>
        </p:xfrm>
        <a:graphic>
          <a:graphicData uri="http://schemas.openxmlformats.org/drawingml/2006/table">
            <a:tbl>
              <a:tblPr/>
              <a:tblGrid>
                <a:gridCol w="1143000"/>
                <a:gridCol w="2233800"/>
                <a:gridCol w="1692360"/>
                <a:gridCol w="3846240"/>
              </a:tblGrid>
              <a:tr h="4539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种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形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位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天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83340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卷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6512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卷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432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7124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高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39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卷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432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高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39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雨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7365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积雨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1371600" y="1828800"/>
            <a:ext cx="20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像羽毛像绫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最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16765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阳光可以透过它照到地面，天气晴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243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像粼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475000"/>
            <a:ext cx="1067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很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2438280"/>
            <a:ext cx="2514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它不会带来雨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2895480"/>
            <a:ext cx="198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像棉花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2895480"/>
            <a:ext cx="1752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2000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米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2895480"/>
            <a:ext cx="3353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天空映着温和的阳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像羊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3352680"/>
            <a:ext cx="1752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2000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米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3389400"/>
            <a:ext cx="3962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云块间露出碧蓝的天空天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3846600"/>
            <a:ext cx="20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仿佛白色调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3801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38019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它向前推进，天气将转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4267080"/>
            <a:ext cx="1828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像毛玻璃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4303800"/>
            <a:ext cx="914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低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4259160"/>
            <a:ext cx="32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它预示将要下雨或下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4716360"/>
            <a:ext cx="1600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布满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464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4640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雨雪就开始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5334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形成高大的云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5334120"/>
            <a:ext cx="1218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334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马上就会下暴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178-B4F1-47BE-980B-F8AB02CB64E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1141C-0B63-47CA-9DC3-B38EA4F42E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3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05720" y="685800"/>
            <a:ext cx="20160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卷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253A-3309-4202-8BD5-54AFF875CA6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CCF73-1F48-4D03-9E14-9377C495BC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81320" y="685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卷积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C5B-BEB7-4952-AFB2-02D60EEF674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54C48-0369-401D-B6AF-E7297F1638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81680" y="533160"/>
            <a:ext cx="1981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积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1C4-53F6-4140-B9F2-34841A584CA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C9C66-E243-442E-9259-2C9E8B0DF4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14:04:14Z</dcterms:created>
  <dc:creator>wutao</dc:creator>
  <dc:description/>
  <dc:language>en-US</dc:language>
  <cp:lastModifiedBy>a</cp:lastModifiedBy>
  <dcterms:modified xsi:type="dcterms:W3CDTF">2004-12-16T05:02:08Z</dcterms:modified>
  <cp:revision>100</cp:revision>
  <dc:subject/>
  <dc:title>看云识天气 </dc:title>
</cp:coreProperties>
</file>