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type.wav" ContentType="audio/x-wav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727B-4544-437A-B8DF-A137D00D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F10-049F-49D9-BA47-FB84CDD3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D155-3654-498F-9EE6-63164710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74D-555B-40F0-9643-ED251926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2DE-82B4-47B1-B417-71F428A8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837-EDCF-431C-B10F-F6F4EA5A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A7AA-43A6-425D-91B7-07F5F324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24EA-A9F1-461E-B268-6F2912C8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128000" y="15480"/>
            <a:ext cx="20160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CAB-84E7-451E-BADC-A1F13E9D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0C6-2FB2-460A-8285-78064672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E855-5202-4158-900B-CCF0CAF8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F152-4F03-4FF4-B0C3-9B7BBE55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28000" y="333000"/>
            <a:ext cx="20160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24000" y="6021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00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0000" y="5877000"/>
            <a:ext cx="2916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4000" spc="-1" strike="noStrike">
                <a:solidFill>
                  <a:srgbClr val="0000ff"/>
                </a:solidFill>
                <a:latin typeface="Arial"/>
                <a:ea typeface="华文行楷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刘玲玲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7640" y="5949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AE86-A979-4B86-BB39-A5D833C804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588000" y="333360"/>
            <a:ext cx="2195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ff33"/>
                </a:solidFill>
                <a:latin typeface="Arial"/>
              </a:rPr>
              <a:t>《看云识天气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50000">
              <a:srgbClr val="fefefe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1752480"/>
            <a:ext cx="8915040" cy="4570560"/>
            <a:chOff x="0" y="1752480"/>
            <a:chExt cx="8915040" cy="4570560"/>
          </a:xfrm>
        </p:grpSpPr>
        <p:sp>
          <p:nvSpPr>
            <p:cNvPr id="44" name=""/>
            <p:cNvSpPr/>
            <p:nvPr/>
          </p:nvSpPr>
          <p:spPr>
            <a:xfrm>
              <a:off x="0" y="1752480"/>
              <a:ext cx="891504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1752480"/>
              <a:ext cx="891504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_x000b__x000c_"/>
                </a:rPr>
                <a:t>唐代诗人刘禹锡在《竹枝词》中写道，“东边日出西边雨，道是无晴却有晴”，生动地描绘了一种有趣的天气现象，说明作者对这种自然现象观察得非常细致。因为天气与人类的生活息息相关，所以，千百年来，人们也在一直留心观察自然界，以图掌握规律，为人类服务。事实上，天气的变化也自有它的规律，自有它的征兆。现在，我们来看一组图片，你能说出它们与天气有怎样的关系吗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_x000b__x000c_"/>
                </a:rPr>
                <a:t>?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_x000b__x000c_"/>
                </a:rPr>
                <a:t>今天我们来学习一篇科学小品文《看云识天气》 </a:t>
              </a: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B9CC-2643-4EB5-8664-8AAC66CC39F1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1B4F7-3DFC-4DF7-8CAF-9A96C2F0C6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4114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71516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．训练提取关键信息，用表格表征信息的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．品味本文生动形象的说明语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14BA-D702-4960-A9F8-DD39E550464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2AF35-1F94-46CF-8BEE-B99E0FD8FC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1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6491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、快速阅读，圈点批注</a:t>
            </a:r>
            <a:br>
              <a:rPr sz="4400"/>
            </a:b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2205000"/>
            <a:ext cx="720720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.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内容要点（结构划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2.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划出文中描写的较优美的语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5AAB-6DD9-4C1E-B348-215F829D519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34692-EC86-40AE-8880-0299E15493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87948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一（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云和天气的密切关系，说明识天气可以看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2076480"/>
            <a:ext cx="835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二（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2——6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），怎样看云识天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029040"/>
            <a:ext cx="755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三（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），看云识天气的目的。方法和注意事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4724280"/>
            <a:ext cx="612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――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－总说——分说——总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42920"/>
            <a:ext cx="38862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内容要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564-A8BA-4778-8BA3-0EB6EF6D225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28B40-09AF-4144-879C-6686E63056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31780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、语段精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1640" y="1049400"/>
            <a:ext cx="853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课文第一段是怎样的结构形式？从第一段，看本文说明语言的生动形象，你可以举哪些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8000" y="2133720"/>
            <a:ext cx="612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总——分——总”的结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姿态万千”总说云的形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变化无常”总说云的特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335772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段上下文有何关系？起什么作用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070520"/>
            <a:ext cx="640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薄云”“晴朗”；“低而厚密的云层”“阴雨风雪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承上说明“云的各种形态”，启下引出“云和天气”的关系。起承上启下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BCB-7953-4C47-93B7-17042D89315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3A70B-F6D7-4212-A90D-7E7E0ECA02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3360" y="6095520"/>
            <a:ext cx="1447560" cy="3812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下一页</a:t>
            </a:r>
            <a:endParaRPr b="0" lang="en-US" sz="28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23148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默读课文第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692280"/>
            <a:ext cx="734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１）用表格归纳各种云的特点及与天气的关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280" y="1143000"/>
          <a:ext cx="8915400" cy="4746600"/>
        </p:xfrm>
        <a:graphic>
          <a:graphicData uri="http://schemas.openxmlformats.org/drawingml/2006/table">
            <a:tbl>
              <a:tblPr/>
              <a:tblGrid>
                <a:gridCol w="1143000"/>
                <a:gridCol w="2233800"/>
                <a:gridCol w="1692360"/>
                <a:gridCol w="3846240"/>
              </a:tblGrid>
              <a:tr h="4539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种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形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位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天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83340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卷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39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卷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432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21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高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432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卷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39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高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39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雨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7365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积雨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371600" y="1828800"/>
            <a:ext cx="20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像羽毛像绫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最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16765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阳光可以透过它照到地面，天气晴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243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像粼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2475000"/>
            <a:ext cx="1067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很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2438280"/>
            <a:ext cx="2514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它不会带来雨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2895480"/>
            <a:ext cx="198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像棉花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895480"/>
            <a:ext cx="1752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2000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米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895480"/>
            <a:ext cx="3353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天空映着温和的阳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像羊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3352680"/>
            <a:ext cx="1752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2000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米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3389400"/>
            <a:ext cx="3962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云块间露出碧蓝的天空天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846600"/>
            <a:ext cx="20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仿佛白色调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3801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38019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它向前推进，天气将转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267080"/>
            <a:ext cx="1828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像毛玻璃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4303800"/>
            <a:ext cx="914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低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4259160"/>
            <a:ext cx="32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它预示将要下雨或下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4716360"/>
            <a:ext cx="1600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布满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64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640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雨雪就开始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5334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形成高大的云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5334120"/>
            <a:ext cx="1218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5334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马上就会下暴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BA4B-7347-405E-9663-7A451C27C83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D444C-B4EC-44C8-9A71-A7DB760D52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47640" y="609120"/>
            <a:ext cx="23670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卷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153640" cy="3962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66720" y="6094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天气晴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EA49-128C-4B39-A63E-C3C566A79B1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843C1-2775-426F-AF7F-FC3942470A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57240" y="83772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卷积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1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w-055-27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2EF-064C-46B5-BCD3-3C8C59D63E88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0BD6E-1474-467B-9DEB-C20E5B9577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33560" y="914040"/>
            <a:ext cx="1981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积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4680" y="1905120"/>
            <a:ext cx="8218440" cy="3316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BDA-C805-443F-81EB-42EA7F37CD2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59D2E-5636-4C54-AADF-DACA5A81E0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352680" y="914040"/>
            <a:ext cx="2362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高积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91520" cy="3600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A69-933E-45B3-87AA-8EAF54B7E08C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32381-0C74-426A-8437-17DAA44A0C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657600" y="837720"/>
            <a:ext cx="190512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Times New Roman"/>
                <a:ea typeface="隶书"/>
              </a:rPr>
              <a:t>卷层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305920" cy="3657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14600" y="5715000"/>
            <a:ext cx="83808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F932-F76B-4D49-ADE7-2DD88C5DC1E5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A772A-50A7-4EAE-92F4-77192DFA5F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w-049-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83756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99"/>
                </a:solidFill>
                <a:latin typeface="Arial"/>
                <a:ea typeface="方正姚体"/>
              </a:rPr>
              <a:t>看云识天气</a:t>
            </a:r>
            <a:br>
              <a:rPr sz="6600"/>
            </a:br>
            <a:endParaRPr b="0" lang="en-US" sz="9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2514600"/>
            <a:ext cx="228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74ED-0E14-421F-8870-F14CB0B349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106D1-2A07-448A-8C69-F68B9FF1CA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7" dur="1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8" dur="1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04960" y="761760"/>
            <a:ext cx="198108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Times New Roman"/>
                <a:ea typeface="幼圆"/>
              </a:rPr>
              <a:t>高层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153280" cy="3657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14600" y="5715000"/>
            <a:ext cx="83808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98F-FBF0-482D-B0BA-EDA9990FD7B0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3E25D-70F7-4142-825B-CC2055750D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80920" y="838080"/>
            <a:ext cx="2057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雨层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5715000"/>
            <a:ext cx="83808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153280" cy="349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676-4A63-42B8-96E0-0FF66B75DA32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622A1-A1AA-4BED-A814-9DC2923707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05320" y="83772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积雨云</a:t>
            </a:r>
            <a:endParaRPr b="0" lang="en-US" sz="40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715000"/>
            <a:ext cx="83808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35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ABC-5720-469F-A12B-6C8C00A5E5C8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85A77-53F5-45D2-ACD0-43CD5C1025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举例说明这部分说明语言的生动、形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1557360"/>
            <a:ext cx="65534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运用贴切的比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2276640"/>
            <a:ext cx="5185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运用拟人的手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2959200"/>
            <a:ext cx="4392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用描写的语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53A1-3C4A-4D0E-B177-8BFA33C3B3C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2FD82-7960-4BE6-BA6F-A71565B441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5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、朗读第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6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段课文填表</a:t>
            </a:r>
            <a:endParaRPr b="0" lang="en-US" sz="4000" spc="-1" strike="noStrike">
              <a:solidFill>
                <a:srgbClr val="66ff33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914400"/>
          <a:ext cx="8820360" cy="4730760"/>
        </p:xfrm>
        <a:graphic>
          <a:graphicData uri="http://schemas.openxmlformats.org/drawingml/2006/table">
            <a:tbl>
              <a:tblPr/>
              <a:tblGrid>
                <a:gridCol w="936720"/>
                <a:gridCol w="3227400"/>
                <a:gridCol w="1287360"/>
                <a:gridCol w="336888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光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产生和分布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光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91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2133720" y="6095880"/>
            <a:ext cx="1447560" cy="3812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下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1523880"/>
            <a:ext cx="2819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产生在卷层云上，分布在日月周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25146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产生在高积云边缘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380988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雨过天晴，在太阳对面的云幕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4724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早、晚，太阳照着对面的云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144792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里红外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2590920"/>
            <a:ext cx="106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里紫外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14479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晕三更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晕午时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25909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华环由小变大，转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华环由大变小，转阴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东虹轰隆西虹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78792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彩色圆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472428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云层变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4724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朝霞西阴雨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晚霞东几天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4DA-052A-4CA7-89BA-AC9DB53405CC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8F6AA-CCA0-45C4-9A95-3C88795FCB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52320" y="457200"/>
            <a:ext cx="1295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微软美黑"/>
              </a:rPr>
              <a:t>晕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399360"/>
            <a:ext cx="121932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w-054-20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39116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A8A-3849-422E-A3BD-62688F657F8C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E024F-4B4D-4D14-BD64-3B6147A0DC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133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华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399360"/>
            <a:ext cx="83808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w-397-01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A72F-CB59-427D-B2AF-EBFFF3A484C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B8DFF-862A-40CA-A20F-3A56303235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52320" y="1218960"/>
            <a:ext cx="201636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虹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61" name="BJ2106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3962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514600" y="5715000"/>
            <a:ext cx="83808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9DFD-5896-4B7E-A843-3F77CF44A734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DA9FE-2C74-443E-8318-978EBE3673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8640" y="9907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霞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077320" cy="3571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14600" y="5715000"/>
            <a:ext cx="83808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1908-44BF-4B77-817D-D99C6202DB2B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1EBD3-95BA-43E5-83DE-C7E80BB7E6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888920" y="2286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细读课文第六段完成下列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05720" y="1523880"/>
            <a:ext cx="13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请找出能够概括这段文字的中心内容的一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04320" y="3048120"/>
            <a:ext cx="52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找出“晕”和“华”在外观上的相同点和不同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320" y="39625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“朝霞不出门，晚霞行千里”是天气谚语，在文中找出另外的天气谚语；或许，你在课外还收集到一些天气谚语，请把你在文中找到的，以及你在课外收集到的天气谚语，写出两三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4365-0D73-4EFD-83E8-DC658B3D2C7B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937D4-371C-4A94-800C-5B0263F9F5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26600" y="0"/>
            <a:ext cx="456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Times New Roman"/>
                <a:ea typeface="隶书"/>
              </a:rPr>
              <a:t>各种形象的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头巾" descr=""/>
          <p:cNvPicPr/>
          <p:nvPr/>
        </p:nvPicPr>
        <p:blipFill>
          <a:blip r:embed="rId1"/>
          <a:stretch/>
        </p:blipFill>
        <p:spPr>
          <a:xfrm>
            <a:off x="0" y="725400"/>
            <a:ext cx="9144000" cy="6132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98480" y="59007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海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320" y="-57240"/>
            <a:ext cx="243828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欣赏图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FD8-9AFF-4D57-9106-2A3945654631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39E0A-2F8F-4436-823C-06B4437F6A3A}" type="datetime1">
              <a:rPr lang="en-US"/>
              <a:t>07/31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107600" y="9414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我们还可以根据云上的光彩现象，推测天气的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7440" y="17334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相同点：都是圆形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93360" y="2295360"/>
            <a:ext cx="52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不同点：产生地点不同。晕产生在卷层云上，华产生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高积云的边缘部分；排列顺序不同。晕里红外紫，华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紫外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48240" y="3965400"/>
            <a:ext cx="542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傍晚观察到彩虹必在东方，晚霞也在东方，预示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气不会下雨。晚上又观察到月亮周围有光环，如果是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晕，明天午时会有风；如果是月华，华环一般会由小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大，预示明天好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7413-C965-44E1-B20C-D1DC99065642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87102-9582-4E5A-B062-09BAA624DE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、什么是谚语？谚语是在群众中流传的固定语句，用简单通俗的话反映出深刻的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关于天气的一些谚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鱼鳞鳞，不雨风也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瓦块云，热死人；梯梯云，干破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有雨四边亮，无雨顶上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天上起了鱼鳞斑，明日晒谷不用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天上起了泡泡云，不过三天雨淋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A968-AC47-4E37-B9F2-FCECCC8A1073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B70B5-A247-411E-9EC4-8F9672B8D2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三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.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本节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如何用表格表征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１、合理设计表格的项目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２、用语简洁精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1FE1-8D52-40CA-AF26-1121DB80BAF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2A690-8EE2-4F0B-95F5-642230D8B1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280" y="260280"/>
            <a:ext cx="30416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.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堂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836640"/>
            <a:ext cx="81360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请说下面几幅图片中的云的类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800E-9EFD-4026-995E-3FD8B520905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CA52F-DF1D-44D7-BE7D-6A95B1A303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3962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762120"/>
            <a:ext cx="2286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83808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积雨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646D-3013-47A0-8336-3D39BACE74CD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4E3C2-3D5E-4684-9E6A-C70FE12A1DF0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8380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卷积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FBE-300B-4710-8444-B16B39273197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A66BE-36AB-4E0B-B0D6-2524B4D44677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4190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4572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积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8C85-A776-45E1-832D-B952091D8471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2E232-9316-4B90-95BD-428C0AA9201A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4191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762120"/>
            <a:ext cx="19810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Times New Roman"/>
                <a:ea typeface="幼圆"/>
              </a:rPr>
              <a:t>高层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6FA-1502-480E-AA51-AC05D70D953A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49E84-343A-4362-8A7A-52716D509D0C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229600" cy="3962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6094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雨层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1070-FAF4-4BF8-B6BB-D0F5A59E8718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3BAE7-9C6D-4AE6-850F-A57FE66D71AC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457200"/>
            <a:ext cx="2361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高积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627-987C-4AA9-BF4D-64C3A48C45CD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7040E-6041-4773-BE21-0B8E9A8739DF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像狗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167240" y="1606680"/>
            <a:ext cx="164340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33E-7EFA-47D0-A5C1-93DD51118E63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480D2-0EAD-44FB-AEFC-DFD25B5AAB4C}" type="datetime1">
              <a:rPr lang="en-US"/>
              <a:t>07/31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4191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080" y="457200"/>
            <a:ext cx="851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卷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3D0-309F-45B9-B450-28DDA5D3CA35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5738A-D0F2-435D-A8AD-2C549A82A0A6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229600" cy="38098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838080"/>
            <a:ext cx="1905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Times New Roman"/>
                <a:ea typeface="隶书"/>
              </a:rPr>
              <a:t>卷层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2B8D-E9B6-4145-B9FC-F58A13915453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E52CA-6971-4F74-BD0D-BC054D212D69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153640" cy="3992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380880"/>
            <a:ext cx="1143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457200"/>
            <a:ext cx="28958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BA44-BCF0-45F6-B257-AB9662619E1C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E66C8-1822-4BA8-B059-45E0EEA3C398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4267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7F0F-A051-4BEF-A9E2-3F10AC2D50EA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05046-FF2A-4C4D-9ABC-3109880E3EBE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62800" cy="4039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065-10ED-49EB-AC14-E1345C777D5E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17E3C-1AB0-468A-80B0-AF25E1928652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381880" cy="3962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098D-4179-4C08-8999-CF779F4614E0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A9673-E82E-4B7E-9E75-55834A17E8CA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8" name="w-055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530-EE2C-4062-8E64-E8E990A04022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69F98-F9DC-4AEB-A678-75BD2BF0E9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_11989" descr=""/>
          <p:cNvPicPr/>
          <p:nvPr/>
        </p:nvPicPr>
        <p:blipFill>
          <a:blip r:embed="rId1"/>
          <a:stretch/>
        </p:blipFill>
        <p:spPr>
          <a:xfrm>
            <a:off x="990720" y="0"/>
            <a:ext cx="7238880" cy="677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B7F-6004-4B2E-A841-39122F43A3FD}" type="slidenum">
              <a:t>4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9ED61-9187-459A-AEF8-362DA8AE62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8624880" cy="48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.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.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观察这一周的云的情况，并预测天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写成观察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_x000b__x000c_"/>
              </a:rPr>
              <a:t>[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_x000b__x000c_"/>
              </a:rPr>
              <a:t>造句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_x000b__x000c_"/>
              </a:rPr>
              <a:t>] 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_x000b__x000c_"/>
              </a:rPr>
              <a:t>天上的云……像峰峦，像河流，像雄狮，像奔马……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_x000b__x000c_"/>
              </a:rPr>
              <a:t>◆远处的霓红灯亮了，…… 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_x000b__x000c_"/>
              </a:rPr>
              <a:t>◆每月光照在地上，像……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BAC-C8B4-4F8C-9492-A6EF3BFFFA62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96EF3-2177-40DB-ADF6-AE68DFFFF6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兔子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202080" y="1811520"/>
            <a:ext cx="164340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C07-999D-42A6-821A-E132B684C6C8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47482-14B0-4F4D-9367-4488C143A605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鸭子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88000" y="3412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66cc"/>
                </a:solidFill>
                <a:latin typeface="Times New Roman"/>
                <a:ea typeface="华文行楷"/>
              </a:rPr>
              <a:t>鸭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0359-91E1-4FC7-A90A-B738B38C5975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D59D6-013F-4650-9F05-5360A7C51F4E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鱼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949280" y="6858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FFB-9F8D-4730-9F7E-15D630A6F30A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06B86-0D52-4FF3-A3D8-9E2EA6903292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像奔马云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173720" y="-1033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奔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5F45-8DE1-4CF9-9869-6262B5EF6385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54AB6-E5DB-4804-99D4-733D4E8E2EF1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像羽毛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92840" y="2890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羽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C06-F9CF-4695-9675-566E04744AFE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18CD6-4BB8-41C8-BD75-003671B61116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14:04:14Z</dcterms:created>
  <dc:creator>wutao</dc:creator>
  <dc:description/>
  <dc:language>en-US</dc:language>
  <cp:lastModifiedBy>jxsz3</cp:lastModifiedBy>
  <dcterms:modified xsi:type="dcterms:W3CDTF">2004-02-23T02:48:24Z</dcterms:modified>
  <cp:revision>100</cp:revision>
  <dc:subject/>
  <dc:title>看云识天气 </dc:title>
</cp:coreProperties>
</file>