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969-03F7-416A-95FB-B60F032C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563-E80B-44CA-B376-57A59A7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960-E3B3-45D9-83F7-E5074B9D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AC7-4B15-4ECB-A28D-74B42B5B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BBE-B770-4984-AE8D-20EE0A3B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09B-B7C0-4A2B-A0CF-4A51466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AEC-649C-4588-AAEE-7DDDC125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B4D-DD70-4F01-A765-3D26BE6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9F4-9E8A-4FF3-93BA-AFC5BDC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A93-B842-4FCC-A836-E075415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9EE-5FFE-492C-8C07-4A64F0C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6E5-AC31-4DEC-A6FD-CD7DD401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562-39C5-41C8-8683-6784FCFEBE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he.cninfo.net/yuntu/gcy/1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weather.he.cninfo.net/yuntu/gcy/3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weather.he.cninfo.net/yuntu/gjy/1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he.cninfo.net/yuntu/jy/4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weather.he.cninfo.net/yuntu/jy/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weather.he.cninfo.net/yuntu/jcy/1.jpg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weather.he.cninfo.net/yuntu/jcy/4.jpg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www.weather.he.cninfo.net/yuntu/jjy/2.jpg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weather.he.cninfo.net/yuntu/jjy/4.jpg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6640" y="22701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隶书"/>
                <a:ea typeface="隶书"/>
              </a:rPr>
              <a:t>看 云 识 天 气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93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新课标七年级第一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06080" y="5889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：举例说明这部分说明语言的生动、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85720" y="13082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运用贴切的比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5640" y="213372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运用引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48120" y="306864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描写的语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31760" y="900000"/>
            <a:ext cx="24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朗读读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课文填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549360"/>
          <a:ext cx="7993080" cy="6003720"/>
        </p:xfrm>
        <a:graphic>
          <a:graphicData uri="http://schemas.openxmlformats.org/drawingml/2006/table">
            <a:tbl>
              <a:tblPr/>
              <a:tblGrid>
                <a:gridCol w="1079280"/>
                <a:gridCol w="2694240"/>
                <a:gridCol w="1170000"/>
                <a:gridCol w="304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产生在卷层云上，分布在日月周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里红外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晕三更雨，月晕午时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产生在高积云边缘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里紫外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华环由小变大，转晴华环由大变小，转阴雨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雨过天晴，在太阳对面的云幕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彩色圆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东虹轰隆西虹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早、晚，太阳照着对面的云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云层变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朝霞西阴雨袭晚霞东几天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2200" y="857160"/>
            <a:ext cx="73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段没有用比喻、拟人的修辞手法，没有细致的描绘，怎样使语言鲜明生动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50800" y="1341360"/>
            <a:ext cx="3015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如何用表格表征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１、合理设计表格的项目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２、用语简洁精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93680" y="284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堂活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56536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请说出下面的图片中的云的类型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1(3)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t1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743200" cy="183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62800" y="24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7396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雨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3(2)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362320"/>
            <a:ext cx="2209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积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3(3)" descr=""/>
          <p:cNvPicPr/>
          <p:nvPr/>
        </p:nvPicPr>
        <p:blipFill>
          <a:blip r:embed="rId5"/>
          <a:stretch/>
        </p:blipFill>
        <p:spPr>
          <a:xfrm>
            <a:off x="6172200" y="60948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2362320"/>
            <a:ext cx="1828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029200"/>
            <a:ext cx="2133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4(4)" descr=""/>
          <p:cNvPicPr/>
          <p:nvPr/>
        </p:nvPicPr>
        <p:blipFill>
          <a:blip r:embed="rId6"/>
          <a:stretch/>
        </p:blipFill>
        <p:spPr>
          <a:xfrm>
            <a:off x="5105520" y="32004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92560" y="57913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大部分低云都可能产生降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下雨-17" descr=""/>
          <p:cNvPicPr/>
          <p:nvPr/>
        </p:nvPicPr>
        <p:blipFill>
          <a:blip r:embed="rId7"/>
          <a:stretch/>
        </p:blipFill>
        <p:spPr>
          <a:xfrm>
            <a:off x="8327880" y="6122880"/>
            <a:ext cx="81612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721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228600"/>
            <a:ext cx="2286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网络资源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47920" y="3352680"/>
            <a:ext cx="5715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http://www.metech.org.cn/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90512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气象科技网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8240" y="316224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1(7)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t3(5)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380880"/>
            <a:ext cx="2743200" cy="187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3744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层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1(1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2590920"/>
            <a:ext cx="2743200" cy="1930320"/>
          </a:xfrm>
          <a:prstGeom prst="rect">
            <a:avLst/>
          </a:prstGeom>
          <a:ln w="0">
            <a:noFill/>
          </a:ln>
        </p:spPr>
      </p:pic>
      <p:pic>
        <p:nvPicPr>
          <p:cNvPr id="61" name="t4(6)" descr=""/>
          <p:cNvPicPr/>
          <p:nvPr/>
        </p:nvPicPr>
        <p:blipFill>
          <a:blip r:embed="rId8"/>
          <a:stretch/>
        </p:blipFill>
        <p:spPr>
          <a:xfrm>
            <a:off x="5410080" y="3808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571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积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2200" y="53341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高层云常产生降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薄的高积云一般无降水产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3120" y="457200"/>
            <a:ext cx="127764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      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10520" y="4800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2210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4(7)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858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4724280"/>
            <a:ext cx="228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积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3720" y="5715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高云一般不产生降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3(7)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2666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t1(9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6858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t4(8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76720" y="2666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t2(9)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2666880"/>
            <a:ext cx="2743200" cy="1854360"/>
          </a:xfrm>
          <a:prstGeom prst="rect">
            <a:avLst/>
          </a:prstGeom>
          <a:ln w="0">
            <a:noFill/>
          </a:ln>
        </p:spPr>
      </p:pic>
      <p:pic>
        <p:nvPicPr>
          <p:cNvPr id="74" name="t4(9)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72200" y="6858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t2" descr=""/>
          <p:cNvPicPr/>
          <p:nvPr/>
        </p:nvPicPr>
        <p:blipFill>
          <a:blip r:embed="rId3"/>
          <a:stretch/>
        </p:blipFill>
        <p:spPr>
          <a:xfrm>
            <a:off x="3352680" y="12952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22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09600" y="40384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 云      中 云       高 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125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说明云和天气的密切关系，说明通过看云可以识天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20560" y="2185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——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怎样看云识天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0480" y="3481560"/>
            <a:ext cx="13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看云识天气的目的。方法和注意事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3920" y="448956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――－总说——分说——总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87080" y="404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、语段精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课文第一段是怎样的结构形式？从第一段，看本文说明语言的生动形象，你可以举哪些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57640" y="2276640"/>
            <a:ext cx="349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——分——总”的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姿态万千”总说云的形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无常”总说云的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5480" y="3789360"/>
            <a:ext cx="43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段上下文有何关系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65300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薄云”“晴朗”；“低而厚密的云层”“阴雨风雪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00000"/>
            <a:ext cx="75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用表格归纳各种云的特点及与天气的关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0"/>
          <a:ext cx="8353440" cy="6514920"/>
        </p:xfrm>
        <a:graphic>
          <a:graphicData uri="http://schemas.openxmlformats.org/drawingml/2006/table">
            <a:tbl>
              <a:tblPr/>
              <a:tblGrid>
                <a:gridCol w="1224000"/>
                <a:gridCol w="2952720"/>
                <a:gridCol w="1295280"/>
                <a:gridCol w="288144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羽毛像绫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最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阳光可以透过它照到地面，天气晴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粼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很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不会带来雨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棉花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米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天空映着温和的阳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羊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米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云块间露出碧蓝的天空天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仿佛白色调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向前推进，天气将转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毛玻璃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低 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预示将要下雨或下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布满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雨雪就开始下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形成高大的云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更低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马上就会下暴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6:53:00Z</dcterms:created>
  <dc:creator>wutao</dc:creator>
  <dc:description/>
  <dc:language>en-US</dc:language>
  <cp:lastModifiedBy>a</cp:lastModifiedBy>
  <dcterms:modified xsi:type="dcterms:W3CDTF">2004-12-16T05:12:55Z</dcterms:modified>
  <cp:revision>100</cp:revision>
  <dc:subject/>
  <dc:title>PowerPoint 演示文稿</dc:title>
</cp:coreProperties>
</file>