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2C1-F03D-4320-87C1-BA8AF0E1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4D3-B6E1-4AA0-90B5-67DF8A65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290-9369-4579-9C26-06EC5B1E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1EA-1BAA-45AA-BF81-7ED81FC1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68FC-E2C6-4A9A-94D4-59CEF3AC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2B4-AA76-4734-B32D-42D3C162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F2F9-75E5-45F1-AFC4-C609B8D5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DEB3-A8C9-47D7-808A-334BBF90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4633-C16A-49DE-B883-0434556D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1F3C-B287-4AC4-906A-0E972686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88F-9C17-4902-B322-F81F6E0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F7B-86F4-4324-9F2F-C3970B2D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E03E-BF7A-43D7-95D5-40AAE7F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3E02-ACA9-43C7-B5F6-DE7EEF48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94C3-BBFC-493B-8864-A3AEFFC5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2AA1-0BA1-443A-99C7-2B4F5758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DA29-D5DA-486C-B86B-4C4CA293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48F-C7A7-4D48-842B-F5954D77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9A5-1328-492E-A005-8461F301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147-1431-4E9A-840F-D9461CE0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1AD-7971-46C3-AD89-DD8A5E75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04F-3A70-4288-8A05-176D092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7FE-2D42-459F-85F6-C77B90A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466-C026-4808-ADB6-9700D6F2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F764-89B7-4C72-9E18-ADF674CC976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96BD-379B-4EE6-BC2F-8D6053533C5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6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286000" y="1368360"/>
            <a:ext cx="452448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看云识天气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dd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81280" y="2666880"/>
            <a:ext cx="2362320" cy="114300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2193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</a:rPr>
              <a:t>瞧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这就是积雨云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0002" descr=""/>
          <p:cNvPicPr/>
          <p:nvPr/>
        </p:nvPicPr>
        <p:blipFill>
          <a:blip r:embed="rId2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Times New Roman"/>
                <a:ea typeface="隶书"/>
              </a:rPr>
              <a:t>小结：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0574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云就像天气的“招牌”，天上挂什么云就将出现什么样的天气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卷云、卷积云、积云和高积云都是很美丽的。它们往往是天气晴朗的象征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卷层云、高层云、雨层云和积雨云常常是阴雨风雪的预兆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0002" descr=""/>
          <p:cNvPicPr/>
          <p:nvPr/>
        </p:nvPicPr>
        <p:blipFill>
          <a:blip r:embed="rId1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幻灯片1" descr=""/>
          <p:cNvPicPr/>
          <p:nvPr/>
        </p:nvPicPr>
        <p:blipFill>
          <a:blip r:embed="rId1"/>
          <a:stretch/>
        </p:blipFill>
        <p:spPr>
          <a:xfrm>
            <a:off x="-838080" y="2438280"/>
            <a:ext cx="8229600" cy="5791320"/>
          </a:xfrm>
          <a:prstGeom prst="rect">
            <a:avLst/>
          </a:prstGeom>
          <a:ln w="0">
            <a:noFill/>
          </a:ln>
        </p:spPr>
      </p:pic>
      <p:pic>
        <p:nvPicPr>
          <p:cNvPr id="138" name="幻灯片11" descr=""/>
          <p:cNvPicPr/>
          <p:nvPr/>
        </p:nvPicPr>
        <p:blipFill>
          <a:blip r:embed="rId2"/>
          <a:stretch/>
        </p:blipFill>
        <p:spPr>
          <a:xfrm>
            <a:off x="0" y="0"/>
            <a:ext cx="6553080" cy="3505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324480" y="3657600"/>
            <a:ext cx="1447920" cy="220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38" y="2453"/>
                  <a:pt x="13675" y="5080"/>
                  <a:pt x="13675" y="10800"/>
                </a:cubicBezTo>
                <a:cubicBezTo>
                  <a:pt x="13675" y="16520"/>
                  <a:pt x="17638" y="1914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0"/>
            <a:ext cx="1752840" cy="3048120"/>
          </a:xfrm>
          <a:prstGeom prst="sun">
            <a:avLst>
              <a:gd name="adj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0280" y="4191120"/>
            <a:ext cx="164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月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51960" y="457200"/>
            <a:ext cx="8506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日晕三更雨，月晕午时风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98000" y="914400"/>
            <a:ext cx="164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日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0002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12189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95280" y="762120"/>
            <a:ext cx="784872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华：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是一种比晕小的彩色光环。颜色的排列是里紫外红，跟晕刚好相反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日华和月华大多出现在高积云的边缘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华环由小变大，天气将趋向好转。华环由大变小，天气将转为阴雨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000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7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19320" y="8380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东虹轰隆，西虹雨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0002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幻灯片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5715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朝霞不出门，晚霞行千里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0002" descr=""/>
          <p:cNvPicPr/>
          <p:nvPr/>
        </p:nvPicPr>
        <p:blipFill>
          <a:blip r:embed="rId2"/>
          <a:stretch/>
        </p:blipFill>
        <p:spPr>
          <a:xfrm>
            <a:off x="0" y="575784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131720" y="914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作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4382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将云和光彩的变化与天气变化的关系列表说明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67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2819520"/>
            <a:ext cx="4800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80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57360" y="380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云的种类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34080" y="1143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1" action="ppaction://hlinksldjump"/>
              </a:rPr>
              <a:t>卷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46680" y="1676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卷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36232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2" action="ppaction://hlinksldjump"/>
              </a:rPr>
              <a:t> 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55520" y="289548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3" action="ppaction://hlinksldjump"/>
              </a:rPr>
              <a:t>高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657600"/>
            <a:ext cx="1468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4" action="ppaction://hlinksldjump"/>
              </a:rPr>
              <a:t>卷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343400"/>
            <a:ext cx="1514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6" action="ppaction://hlinksldjump"/>
              </a:rPr>
              <a:t>高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64800" y="502920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7" action="ppaction://hlinksldjump"/>
              </a:rPr>
              <a:t>雨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638680"/>
            <a:ext cx="1519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8" action="ppaction://hlinksldjump"/>
              </a:rPr>
              <a:t>积雨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3808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云的光彩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219320"/>
            <a:ext cx="771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9" action="ppaction://hlinksldjump"/>
              </a:rPr>
              <a:t>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828800"/>
            <a:ext cx="6015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10" action="ppaction://hlinksldjump"/>
              </a:rPr>
              <a:t>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8200" y="251460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11" action="ppaction://hlinksldjump"/>
              </a:rPr>
              <a:t>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37680" y="312408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12" action="ppaction://hlinksldjump"/>
              </a:rPr>
              <a:t>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562720"/>
            <a:ext cx="18288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33cc"/>
                </a:solidFill>
                <a:uFillTx/>
                <a:latin typeface="Times New Roman"/>
                <a:hlinkClick r:id="rId13" action="ppaction://hlinksldjump"/>
              </a:rPr>
              <a:t>小结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5627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卷云：像羽毛，像绫纱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00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3" descr=""/>
          <p:cNvPicPr/>
          <p:nvPr/>
        </p:nvPicPr>
        <p:blipFill>
          <a:blip r:embed="rId2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3000" y="304920"/>
            <a:ext cx="1521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卷积云：   像微风吹过水面引起的粼波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000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86600" y="575784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云彩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475308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积云 ：就像草原上雪白的羊群。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0002" descr=""/>
          <p:cNvPicPr/>
          <p:nvPr/>
        </p:nvPicPr>
        <p:blipFill>
          <a:blip r:embed="rId2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" descr=""/>
          <p:cNvPicPr/>
          <p:nvPr/>
        </p:nvPicPr>
        <p:blipFill>
          <a:blip r:embed="rId1"/>
          <a:stretch/>
        </p:blipFill>
        <p:spPr>
          <a:xfrm>
            <a:off x="0" y="-1001880"/>
            <a:ext cx="9144000" cy="797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11280" y="0"/>
            <a:ext cx="911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高积云：像草原雪白的羊群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0002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幻灯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0"/>
            <a:ext cx="549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80880" y="0"/>
            <a:ext cx="3733560" cy="6324480"/>
          </a:xfrm>
          <a:prstGeom prst="verticalScroll">
            <a:avLst>
              <a:gd name="adj" fmla="val 12500"/>
            </a:avLst>
          </a:prstGeom>
          <a:solidFill>
            <a:srgbClr val="f8f4d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73000" y="609480"/>
            <a:ext cx="911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卷层云：隔着云看太阳就像隔了一层毛玻璃，朦胧不清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0002" descr=""/>
          <p:cNvPicPr/>
          <p:nvPr/>
        </p:nvPicPr>
        <p:blipFill>
          <a:blip r:embed="rId2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高层云：它一出现，往往几个钟头内就要下雨或下雪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0002" descr=""/>
          <p:cNvPicPr/>
          <p:nvPr/>
        </p:nvPicPr>
        <p:blipFill>
          <a:blip r:embed="rId2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8f4d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65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5791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看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雨层云</a:t>
            </a: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一出现太阳就躲藏起来了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0002" descr=""/>
          <p:cNvPicPr/>
          <p:nvPr/>
        </p:nvPicPr>
        <p:blipFill>
          <a:blip r:embed="rId2"/>
          <a:stretch/>
        </p:blipFill>
        <p:spPr>
          <a:xfrm>
            <a:off x="7924680" y="480060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3:32:37Z</dcterms:created>
  <dc:creator>wutao</dc:creator>
  <dc:description/>
  <dc:language>en-US</dc:language>
  <cp:lastModifiedBy>zyb</cp:lastModifiedBy>
  <dcterms:modified xsi:type="dcterms:W3CDTF">2004-11-30T02:14:13Z</dcterms:modified>
  <cp:revision>100</cp:revision>
  <dc:subject/>
  <dc:title>PowerPoint 演示文稿</dc:title>
</cp:coreProperties>
</file>