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4.gif" ContentType="image/gif"/>
  <Override PartName="/ppt/media/image34.gif" ContentType="image/gif"/>
  <Override PartName="/ppt/media/image25.jpeg" ContentType="image/jpeg"/>
  <Override PartName="/ppt/media/image20.jpeg" ContentType="image/jpeg"/>
  <Override PartName="/ppt/media/image19.gif" ContentType="image/gif"/>
  <Override PartName="/ppt/media/image17.gif" ContentType="image/gif"/>
  <Override PartName="/ppt/media/image21.png" ContentType="image/png"/>
  <Override PartName="/ppt/media/image16.gif" ContentType="image/gif"/>
  <Override PartName="/ppt/media/image28.jpeg" ContentType="image/jpeg"/>
  <Override PartName="/ppt/media/image15.gif" ContentType="image/gif"/>
  <Override PartName="/ppt/media/image18.jpeg" ContentType="image/jpeg"/>
  <Override PartName="/ppt/media/image36.png" ContentType="image/png"/>
  <Override PartName="/ppt/media/image13.gif" ContentType="image/gif"/>
  <Override PartName="/ppt/media/chimes.wav" ContentType="audio/x-wav"/>
  <Override PartName="/ppt/media/image8.gif" ContentType="image/gif"/>
  <Override PartName="/ppt/media/image38.gif" ContentType="image/gif"/>
  <Override PartName="/ppt/media/image37.png" ContentType="image/png"/>
  <Override PartName="/ppt/media/image9.gif" ContentType="image/gif"/>
  <Override PartName="/ppt/media/image39.gif" ContentType="image/gif"/>
  <Override PartName="/ppt/media/image10.gif" ContentType="image/gif"/>
  <Override PartName="/ppt/media/image11.gif" ContentType="image/gif"/>
  <Override PartName="/ppt/media/image30.jpeg" ContentType="image/jpeg"/>
  <Override PartName="/ppt/media/image12.gif" ContentType="image/gif"/>
  <Override PartName="/ppt/media/image24.jpeg" ContentType="image/jpeg"/>
  <Override PartName="/ppt/media/image32.gif" ContentType="image/gif"/>
  <Override PartName="/ppt/media/image26.jpeg" ContentType="image/jpeg"/>
  <Override PartName="/ppt/media/image6.jpeg" ContentType="image/jpeg"/>
  <Override PartName="/ppt/media/image1.jpeg" ContentType="image/jpeg"/>
  <Override PartName="/ppt/media/image22.jpeg" ContentType="image/jpeg"/>
  <Override PartName="/ppt/media/image33.gif" ContentType="image/gif"/>
  <Override PartName="/ppt/media/image3.gif" ContentType="image/gif"/>
  <Override PartName="/ppt/media/image2.jpeg" ContentType="image/jpeg"/>
  <Override PartName="/ppt/media/image23.jpeg" ContentType="image/jpeg"/>
  <Override PartName="/ppt/media/image35.png" ContentType="image/png"/>
  <Override PartName="/ppt/media/image5.png" ContentType="image/png"/>
  <Override PartName="/ppt/media/image7.gif" ContentType="image/gif"/>
  <Override PartName="/ppt/media/image29.jpeg" ContentType="image/jpeg"/>
  <Override PartName="/ppt/media/image31.jpeg" ContentType="image/jpeg"/>
  <Override PartName="/ppt/media/image14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DD3B-EF58-4484-97A6-6FCAC270F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1DDD-62C3-49D3-8362-F63293A3A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EA5D-1670-4A28-9BE1-5C6CB26C9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10C9-5ADA-4A2E-AD14-9B7B50B10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0FD4-9B83-4265-98D3-6800FA646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2EBD-B784-4E8E-93FC-80CC5106C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CB83-94C4-4B0E-B4C2-040FEA54D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6A0E-3203-4659-9205-C54551E7D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B52E-1237-484A-BCA3-BBBE0BAEB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4BA5-7C16-4418-913B-22C437AA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E997-26DF-4142-BC33-19C658D6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723F-D615-483E-8B5B-A719A1F2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3AC11-6B97-40D0-942C-8E0084D6A0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11.xml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" Target="slide11.xml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" Target="slide11.xml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" Target="slide11.xml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" Target="slide16.xml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16.xml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" Target="slide16.xml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" Target="slide16.xml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1.xml"/><Relationship Id="rId3" Type="http://schemas.openxmlformats.org/officeDocument/2006/relationships/image" Target="../media/image32.gi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" Target="slide11.xml"/><Relationship Id="rId4" Type="http://schemas.openxmlformats.org/officeDocument/2006/relationships/slide" Target="slide12.xml"/><Relationship Id="rId5" Type="http://schemas.openxmlformats.org/officeDocument/2006/relationships/slide" Target="slide13.xm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5.xml"/><Relationship Id="rId3" Type="http://schemas.openxmlformats.org/officeDocument/2006/relationships/slide" Target="slide16.xml"/><Relationship Id="rId4" Type="http://schemas.openxmlformats.org/officeDocument/2006/relationships/slide" Target="slide22.xml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6.jpeg"/><Relationship Id="rId3" Type="http://schemas.openxmlformats.org/officeDocument/2006/relationships/slide" Target="slide10.xml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image" Target="../media/image6.jpeg"/><Relationship Id="rId13" Type="http://schemas.openxmlformats.org/officeDocument/2006/relationships/image" Target="../media/image7.gif"/><Relationship Id="rId14" Type="http://schemas.openxmlformats.org/officeDocument/2006/relationships/slide" Target="slide11.xml"/><Relationship Id="rId15" Type="http://schemas.openxmlformats.org/officeDocument/2006/relationships/image" Target="../media/image8.gif"/><Relationship Id="rId16" Type="http://schemas.openxmlformats.org/officeDocument/2006/relationships/slide" Target="slide12.xml"/><Relationship Id="rId17" Type="http://schemas.openxmlformats.org/officeDocument/2006/relationships/image" Target="../media/image9.gif"/><Relationship Id="rId18" Type="http://schemas.openxmlformats.org/officeDocument/2006/relationships/slide" Target="slide13.xml"/><Relationship Id="rId19" Type="http://schemas.openxmlformats.org/officeDocument/2006/relationships/image" Target="../media/image10.gif"/><Relationship Id="rId20" Type="http://schemas.openxmlformats.org/officeDocument/2006/relationships/slide" Target="slide14.xml"/><Relationship Id="rId21" Type="http://schemas.openxmlformats.org/officeDocument/2006/relationships/image" Target="../media/image11.gif"/><Relationship Id="rId22" Type="http://schemas.openxmlformats.org/officeDocument/2006/relationships/slide" Target="slide15.xml"/><Relationship Id="rId23" Type="http://schemas.openxmlformats.org/officeDocument/2006/relationships/image" Target="../media/image12.gif"/><Relationship Id="rId24" Type="http://schemas.openxmlformats.org/officeDocument/2006/relationships/slide" Target="slide16.xml"/><Relationship Id="rId25" Type="http://schemas.openxmlformats.org/officeDocument/2006/relationships/image" Target="../media/image13.gif"/><Relationship Id="rId26" Type="http://schemas.openxmlformats.org/officeDocument/2006/relationships/slide" Target="slide17.xml"/><Relationship Id="rId27" Type="http://schemas.openxmlformats.org/officeDocument/2006/relationships/image" Target="../media/image14.gif"/><Relationship Id="rId28" Type="http://schemas.openxmlformats.org/officeDocument/2006/relationships/slide" Target="slide18.xml"/><Relationship Id="rId29" Type="http://schemas.openxmlformats.org/officeDocument/2006/relationships/image" Target="../media/image15.gif"/><Relationship Id="rId30" Type="http://schemas.openxmlformats.org/officeDocument/2006/relationships/slide" Target="slide11.xml"/><Relationship Id="rId31" Type="http://schemas.openxmlformats.org/officeDocument/2006/relationships/image" Target="../media/image6.jpeg"/><Relationship Id="rId32" Type="http://schemas.openxmlformats.org/officeDocument/2006/relationships/slide" Target="slide12.xml"/><Relationship Id="rId33" Type="http://schemas.openxmlformats.org/officeDocument/2006/relationships/image" Target="../media/image6.jpeg"/><Relationship Id="rId34" Type="http://schemas.openxmlformats.org/officeDocument/2006/relationships/image" Target="../media/image16.gif"/><Relationship Id="rId35" Type="http://schemas.openxmlformats.org/officeDocument/2006/relationships/image" Target="../media/image7.gif"/><Relationship Id="rId36" Type="http://schemas.openxmlformats.org/officeDocument/2006/relationships/image" Target="../media/image7.gif"/><Relationship Id="rId37" Type="http://schemas.openxmlformats.org/officeDocument/2006/relationships/image" Target="../media/image7.gif"/><Relationship Id="rId38" Type="http://schemas.openxmlformats.org/officeDocument/2006/relationships/image" Target="../media/image17.gif"/><Relationship Id="rId39" Type="http://schemas.openxmlformats.org/officeDocument/2006/relationships/image" Target="../media/image17.gif"/><Relationship Id="rId40" Type="http://schemas.openxmlformats.org/officeDocument/2006/relationships/image" Target="../media/image17.gif"/><Relationship Id="rId41" Type="http://schemas.openxmlformats.org/officeDocument/2006/relationships/image" Target="../media/image17.gif"/><Relationship Id="rId42" Type="http://schemas.openxmlformats.org/officeDocument/2006/relationships/image" Target="../media/image17.gif"/><Relationship Id="rId43" Type="http://schemas.openxmlformats.org/officeDocument/2006/relationships/image" Target="../media/image7.gif"/><Relationship Id="rId44" Type="http://schemas.openxmlformats.org/officeDocument/2006/relationships/image" Target="../media/image8.gif"/><Relationship Id="rId4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39640" y="620640"/>
            <a:ext cx="3168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333399"/>
                </a:solidFill>
                <a:latin typeface="Arial"/>
                <a:ea typeface="华文行楷"/>
              </a:rPr>
              <a:t>看云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33360" y="1989000"/>
            <a:ext cx="12628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cc3399"/>
                </a:solidFill>
                <a:latin typeface="Arial"/>
                <a:ea typeface="幼圆"/>
              </a:rPr>
              <a:t>识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580800" y="692280"/>
            <a:ext cx="19638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ffffff"/>
                </a:solidFill>
                <a:latin typeface="Arial"/>
                <a:ea typeface="华文行楷"/>
              </a:rPr>
              <a:t>天气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644760" y="620640"/>
            <a:ext cx="140940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丝丝缕缕地漂浮着，有时像一片白色的羽毛，有时像一块洁白的绫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>
            <a:hlinkClick r:id="rId2" action="ppaction://hlinksldjump"/>
          </p:cNvPr>
          <p:cNvSpPr/>
          <p:nvPr/>
        </p:nvSpPr>
        <p:spPr>
          <a:xfrm>
            <a:off x="6804000" y="5229360"/>
            <a:ext cx="216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Arial"/>
                <a:ea typeface="华文隶书"/>
              </a:rPr>
              <a:t>卷  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8556480" y="6248520"/>
            <a:ext cx="5875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8000"/>
                            </p:stCondLst>
                            <p:childTnLst>
                              <p:par>
                                <p:cTn id="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rcRect l="0" t="5557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311840" y="620640"/>
            <a:ext cx="66780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卷云成群成行地排列在空中好像微风吹过水面引起的粼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>
            <a:hlinkClick r:id="rId2" action="ppaction://hlinksldjump"/>
          </p:cNvPr>
          <p:cNvSpPr/>
          <p:nvPr/>
        </p:nvSpPr>
        <p:spPr>
          <a:xfrm>
            <a:off x="5940360" y="5516640"/>
            <a:ext cx="320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隶书"/>
              </a:rPr>
              <a:t>卷 积 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8556480" y="6248520"/>
            <a:ext cx="5875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6750"/>
                            </p:stCondLst>
                            <p:childTnLst>
                              <p:par>
                                <p:cTn id="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积云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786240" y="304920"/>
            <a:ext cx="1409400" cy="60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像棉花团，上午出现，傍晚渐渐消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300720" y="5516640"/>
            <a:ext cx="165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rId2" action="ppaction://hlinksldjump"/>
          </p:cNvPr>
          <p:cNvSpPr/>
          <p:nvPr/>
        </p:nvSpPr>
        <p:spPr>
          <a:xfrm>
            <a:off x="6095880" y="4724280"/>
            <a:ext cx="255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华文隶书"/>
                <a:ea typeface="华文隶书"/>
              </a:rPr>
              <a:t>积   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500"/>
                            </p:stCondLst>
                            <p:childTnLst>
                              <p:par>
                                <p:cTn id="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3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rcRect l="0" t="0" r="0" b="4401"/>
          <a:stretch/>
        </p:blipFill>
        <p:spPr>
          <a:xfrm>
            <a:off x="0" y="0"/>
            <a:ext cx="975672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809720" y="620640"/>
            <a:ext cx="45864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2280" y="333360"/>
            <a:ext cx="72900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像草原上洁白的羊群，成群的扁球状排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>
            <a:hlinkClick r:id="rId2" action="ppaction://hlinksldjump"/>
          </p:cNvPr>
          <p:cNvSpPr/>
          <p:nvPr/>
        </p:nvSpPr>
        <p:spPr>
          <a:xfrm>
            <a:off x="6300720" y="5589720"/>
            <a:ext cx="324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隶书"/>
              </a:rPr>
              <a:t>高 积 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9144000" y="6248520"/>
            <a:ext cx="5875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3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rcRect l="0" t="0" r="0" b="444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164960" y="1197000"/>
            <a:ext cx="72900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天空渐渐出现一层薄云，仿佛蒙上了白色的绸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>
            <a:hlinkClick r:id="rId2" action="ppaction://hlinksldjump"/>
          </p:cNvPr>
          <p:cNvSpPr/>
          <p:nvPr/>
        </p:nvSpPr>
        <p:spPr>
          <a:xfrm>
            <a:off x="6012000" y="4941720"/>
            <a:ext cx="28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华文隶书"/>
              </a:rPr>
              <a:t>卷层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8556480" y="6248520"/>
            <a:ext cx="5875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3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rcRect l="0" t="0" r="0" b="444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250640" y="907920"/>
            <a:ext cx="7290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隔着云看太阳和月亮，就像隔了一层毛玻璃，朦胧不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>
            <a:hlinkClick r:id="rId2" action="ppaction://hlinksldjump"/>
          </p:cNvPr>
          <p:cNvSpPr/>
          <p:nvPr/>
        </p:nvSpPr>
        <p:spPr>
          <a:xfrm>
            <a:off x="5940360" y="5229360"/>
            <a:ext cx="25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ff00"/>
                </a:solidFill>
                <a:latin typeface="Arial"/>
                <a:ea typeface="华文隶书"/>
              </a:rPr>
              <a:t>高层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8556480" y="6248520"/>
            <a:ext cx="5875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662480" y="765000"/>
            <a:ext cx="6678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云压得更低、变得更厚，太阳和月亮都躲藏了起来，天空被暗灰色的云块密密层层地布满了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rId2" action="ppaction://hlinksldjump"/>
          </p:cNvPr>
          <p:cNvSpPr/>
          <p:nvPr/>
        </p:nvSpPr>
        <p:spPr>
          <a:xfrm>
            <a:off x="5940360" y="4869000"/>
            <a:ext cx="29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ff00"/>
                </a:solidFill>
                <a:latin typeface="Arial"/>
                <a:ea typeface="华文隶书"/>
              </a:rPr>
              <a:t> </a:t>
            </a:r>
            <a:r>
              <a:rPr b="1" lang="zh-CN" sz="6000" spc="-1" strike="noStrike">
                <a:solidFill>
                  <a:srgbClr val="00ff00"/>
                </a:solidFill>
                <a:latin typeface="Arial"/>
                <a:ea typeface="华文隶书"/>
              </a:rPr>
              <a:t>雨层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8556480" y="6248520"/>
            <a:ext cx="5875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3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24640" y="907920"/>
            <a:ext cx="182628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形成高大的云山，群峰争奇，耸人天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rId2" action="ppaction://hlinksldjump"/>
          </p:cNvPr>
          <p:cNvSpPr/>
          <p:nvPr/>
        </p:nvSpPr>
        <p:spPr>
          <a:xfrm>
            <a:off x="6300720" y="5373720"/>
            <a:ext cx="284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ff00"/>
                </a:solidFill>
                <a:latin typeface="Arial"/>
                <a:ea typeface="华文隶书"/>
              </a:rPr>
              <a:t>积雨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8556480" y="6248520"/>
            <a:ext cx="5875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3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872640" y="30636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66ff33"/>
                </a:solidFill>
                <a:latin typeface="Times New Roman"/>
                <a:ea typeface="隶书"/>
              </a:rPr>
              <a:t>晕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8556480" y="6248520"/>
            <a:ext cx="5875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华" descr=""/>
          <p:cNvPicPr/>
          <p:nvPr/>
        </p:nvPicPr>
        <p:blipFill>
          <a:blip r:embed="rId1"/>
          <a:stretch/>
        </p:blipFill>
        <p:spPr>
          <a:xfrm>
            <a:off x="-1066680" y="-312840"/>
            <a:ext cx="10210680" cy="748368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304920"/>
            <a:ext cx="14479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8556480" y="6248520"/>
            <a:ext cx="5875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a1c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 flipH="1">
            <a:off x="1044000" y="1844640"/>
            <a:ext cx="88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99"/>
                </a:solidFill>
                <a:latin typeface="Arial"/>
                <a:ea typeface="幼圆"/>
              </a:rPr>
              <a:t>看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幼圆"/>
              </a:rPr>
              <a:t>云</a:t>
            </a:r>
            <a:r>
              <a:rPr b="1" lang="zh-CN" sz="4400" spc="-1" strike="noStrike">
                <a:solidFill>
                  <a:srgbClr val="ff6699"/>
                </a:solidFill>
                <a:latin typeface="Arial"/>
                <a:ea typeface="幼圆"/>
              </a:rPr>
              <a:t>识天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79640" y="1268280"/>
            <a:ext cx="288720" cy="4465800"/>
          </a:xfrm>
          <a:custGeom>
            <a:avLst/>
            <a:gdLst>
              <a:gd name="textAreaLeft" fmla="*/ 184680 w 288720"/>
              <a:gd name="textAreaRight" fmla="*/ 289080 w 288720"/>
              <a:gd name="textAreaTop" fmla="*/ 116280 h 4465800"/>
              <a:gd name="textAreaBottom" fmla="*/ 4349520 h 446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000000"/>
          </a:solidFill>
          <a:ln w="381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8640" y="7984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看云可识天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38280" y="2819520"/>
            <a:ext cx="182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怎样看云识天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5280" y="51912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看云识天气的目的，方法和注意事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191120" y="2438280"/>
            <a:ext cx="288720" cy="2232000"/>
          </a:xfrm>
          <a:custGeom>
            <a:avLst/>
            <a:gdLst>
              <a:gd name="textAreaLeft" fmla="*/ 184680 w 288720"/>
              <a:gd name="textAreaRight" fmla="*/ 289080 w 28872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000000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19240" y="23385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形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4191120"/>
            <a:ext cx="12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光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07840" y="39625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99"/>
                </a:solidFill>
                <a:latin typeface="Arial"/>
                <a:ea typeface="幼圆"/>
              </a:rPr>
              <a:t>（分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56944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99"/>
                </a:solidFill>
                <a:latin typeface="Arial"/>
                <a:ea typeface="幼圆"/>
              </a:rPr>
              <a:t>（总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48000" y="16286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99"/>
                </a:solidFill>
                <a:latin typeface="Arial"/>
              </a:rPr>
              <a:t>（总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410080" y="2133720"/>
            <a:ext cx="228600" cy="936360"/>
          </a:xfrm>
          <a:custGeom>
            <a:avLst/>
            <a:gdLst>
              <a:gd name="textAreaLeft" fmla="*/ 66960 w 228600"/>
              <a:gd name="textAreaRight" fmla="*/ 228960 w 228600"/>
              <a:gd name="textAreaTop" fmla="*/ 38880 h 936360"/>
              <a:gd name="textAreaBottom" fmla="*/ 897480 h 93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99ccff"/>
          </a:solidFill>
          <a:ln w="507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830920" y="1752480"/>
            <a:ext cx="277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薄云：</a:t>
            </a:r>
            <a:r>
              <a:rPr b="1" lang="zh-CN" sz="2800" spc="-1" strike="noStrike">
                <a:solidFill>
                  <a:srgbClr val="ff6699"/>
                </a:solidFill>
                <a:latin typeface="Arial"/>
                <a:ea typeface="幼圆"/>
              </a:rPr>
              <a:t>（晴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91320" y="2514600"/>
            <a:ext cx="228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低而厚的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99"/>
                </a:solidFill>
                <a:latin typeface="Arial"/>
              </a:rPr>
              <a:t>（阴雨风雪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562720" y="380988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553080" y="38862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62720" y="457200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457200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819520" y="228600"/>
            <a:ext cx="5715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速读，整体感知，理清结构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380880" y="304920"/>
            <a:ext cx="15242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8556480" y="6248520"/>
            <a:ext cx="58752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8556480" y="6248520"/>
            <a:ext cx="5875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rcRect l="0" t="5556" r="0" b="0"/>
          <a:stretch/>
        </p:blipFill>
        <p:spPr>
          <a:xfrm>
            <a:off x="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312840" y="82404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朝霞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rcRect l="0" t="5558" r="0" b="0"/>
          <a:stretch/>
        </p:blipFill>
        <p:spPr>
          <a:xfrm>
            <a:off x="4876920" y="0"/>
            <a:ext cx="426708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7240680" y="89856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晚霞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556480" y="6248520"/>
            <a:ext cx="5875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304920" y="10666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Book Antiqua"/>
              </a:rPr>
              <a:t>学生自我发现，小到一个词语、句子，大到几个段落，可谓俯拾皆是。下面请大家用“美在……，因为……”的句式，就文章的语言说一句评论式的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04920" y="5410080"/>
            <a:ext cx="800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Book Antiqua"/>
              </a:rPr>
              <a:t>语言生动形象严密</a:t>
            </a:r>
            <a:r>
              <a:rPr b="1" lang="zh-CN" sz="4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28000" y="6021360"/>
            <a:ext cx="1116000" cy="83664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2362320" y="228600"/>
            <a:ext cx="5715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说读，探究语言之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52" name=""/>
          <p:cNvSpPr/>
          <p:nvPr/>
        </p:nvSpPr>
        <p:spPr>
          <a:xfrm>
            <a:off x="380880" y="27432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Book Antiqua"/>
                <a:ea typeface="楷体_GB2312"/>
              </a:rPr>
              <a:t>本文的语言美在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Book Antiqua"/>
                <a:ea typeface="楷体_GB2312"/>
              </a:rPr>
              <a:t>它们有时把天空点缀得很美丽，有时又把天空笼罩得很阴森。刚才还是白云朵朵，阳光灿烂；一霎间却又是乌云密布，大雨倾盆。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8000"/>
                </a:solidFill>
                <a:latin typeface="Book Antiqua"/>
                <a:ea typeface="楷体_GB2312"/>
              </a:rPr>
              <a:t>因为它运用了对比的修辞手法，突出地显示了天气的天化无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155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0" dur="1155" fill="hold"/>
                                        <p:tgtEl>
                                          <p:spTgt spid="2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2" dur="1155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4" dur="1155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155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1" dur="1155" fill="hold"/>
                                        <p:tgtEl>
                                          <p:spTgt spid="2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3" dur="1155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5" dur="1155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baed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09480" y="38088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Wingdings"/>
                <a:ea typeface="Wingdings"/>
              </a:rPr>
              <a:t>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       </a:t>
            </a:r>
            <a:r>
              <a:rPr b="1" lang="zh-CN" sz="2800" spc="-1" strike="noStrike">
                <a:solidFill>
                  <a:srgbClr val="333399"/>
                </a:solidFill>
                <a:latin typeface="Book Antiqua"/>
              </a:rPr>
              <a:t>描写准确而生动，不仅形象具体，而且有动态特点。用“向上凸起”、“高大的云山”、“群峰争奇”、“耸入天顶”等词语写由积云到积雨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09480" y="18288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Wingdings"/>
                <a:ea typeface="Wingdings"/>
              </a:rPr>
              <a:t>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        </a:t>
            </a:r>
            <a:r>
              <a:rPr b="1" lang="zh-CN" sz="2800" spc="-1" strike="noStrike">
                <a:solidFill>
                  <a:srgbClr val="333399"/>
                </a:solidFill>
                <a:latin typeface="Book Antiqua"/>
              </a:rPr>
              <a:t>最后两句话体现了说明文语言的严密性，它与前文中的“往往…‘常常…‘有时’’等词语是相照应的，表明使用词语的准确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0880" y="3429000"/>
            <a:ext cx="85345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Wingdings"/>
                <a:ea typeface="Wingdings"/>
              </a:rPr>
              <a:t>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       </a:t>
            </a:r>
            <a:r>
              <a:rPr b="1" lang="zh-CN" sz="2800" spc="-1" strike="noStrike">
                <a:solidFill>
                  <a:srgbClr val="333399"/>
                </a:solidFill>
                <a:latin typeface="Book Antiqua"/>
              </a:rPr>
              <a:t>用词准确生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Book Antiqua"/>
              </a:rPr>
              <a:t>用比喻拟人。“有时像一片白色的羽毛，有时像——块洁白的绫纱”说明卷云的轻盈和洁白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Book Antiqua"/>
              </a:rPr>
              <a:t>写卷层云变成高层云时，用“这时的卷层云得改名换姓，该叫高层云了。</a:t>
            </a:r>
            <a:r>
              <a:rPr b="1" lang="zh-CN" sz="2800" spc="-1" strike="noStrike">
                <a:solidFill>
                  <a:srgbClr val="00ff99"/>
                </a:solidFill>
                <a:latin typeface="Times New Roman"/>
                <a:ea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aeeaa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914400" y="685800"/>
            <a:ext cx="7280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Book Antiqua"/>
              </a:rPr>
              <a:t>仿照课文造句。 </a:t>
            </a:r>
            <a:br>
              <a:rPr sz="4000"/>
            </a:br>
            <a:r>
              <a:rPr b="1" lang="zh-CN" sz="4000" spc="-1" strike="noStrike">
                <a:solidFill>
                  <a:srgbClr val="333399"/>
                </a:solidFill>
                <a:latin typeface="Book Antiqua"/>
              </a:rPr>
              <a:t>    示例：天上的云……像峰峦，像河流，像雄狮，像奔马…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e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934560" y="404280"/>
            <a:ext cx="820908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fa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fa004"/>
                </a:solidFill>
                <a:latin typeface="Arial"/>
              </a:rPr>
              <a:t>A</a:t>
            </a:r>
            <a:r>
              <a:rPr b="1" i="1" lang="zh-CN" sz="3600" spc="-1" strike="noStrike">
                <a:solidFill>
                  <a:srgbClr val="0fa004"/>
                </a:solidFill>
                <a:latin typeface="Arial"/>
              </a:rPr>
              <a:t>站军姿的时候，我的双腿就像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fa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fa004"/>
                </a:solidFill>
                <a:latin typeface="Arial"/>
              </a:rPr>
              <a:t>B</a:t>
            </a:r>
            <a:r>
              <a:rPr b="1" i="1" lang="zh-CN" sz="3600" spc="-1" strike="noStrike">
                <a:solidFill>
                  <a:srgbClr val="0fa004"/>
                </a:solidFill>
                <a:latin typeface="Arial"/>
              </a:rPr>
              <a:t>皎洁的月光照在地上，河边的杨柳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fa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fa004"/>
                </a:solidFill>
                <a:latin typeface="Arial"/>
              </a:rPr>
              <a:t>C</a:t>
            </a:r>
            <a:r>
              <a:rPr b="1" i="1" lang="zh-CN" sz="3600" spc="-1" strike="noStrike">
                <a:solidFill>
                  <a:srgbClr val="0fa004"/>
                </a:solidFill>
                <a:latin typeface="Arial"/>
              </a:rPr>
              <a:t>拿着失败的试卷，小明的心情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fa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fa004"/>
                </a:solidFill>
                <a:latin typeface="Arial"/>
              </a:rPr>
              <a:t>D</a:t>
            </a:r>
            <a:r>
              <a:rPr b="1" i="1" lang="zh-CN" sz="3600" spc="-1" strike="noStrike">
                <a:solidFill>
                  <a:srgbClr val="0fa004"/>
                </a:solidFill>
                <a:latin typeface="Arial"/>
              </a:rPr>
              <a:t>远处的霓虹灯亮了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fa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fa004"/>
                </a:solidFill>
                <a:latin typeface="Arial"/>
              </a:rPr>
              <a:t>E</a:t>
            </a:r>
            <a:r>
              <a:rPr b="1" i="1" lang="zh-CN" sz="3600" spc="-1" strike="noStrike">
                <a:solidFill>
                  <a:srgbClr val="0fa004"/>
                </a:solidFill>
                <a:latin typeface="Arial"/>
              </a:rPr>
              <a:t>每当贾老师发怒的时候，他的眼睛就像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859280" y="4508640"/>
            <a:ext cx="25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隶书"/>
              </a:rPr>
              <a:t>联想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7920000" y="5373720"/>
            <a:ext cx="122400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ec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066680" y="1143000"/>
            <a:ext cx="669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Book Antiqua"/>
              </a:rPr>
              <a:t>课文讲的是“看云识天气”，其实在现实生活中，我们不仅仅是通过“看云”才能识别“天气”，我们可以看“动物”、“植物”、“某种现象”或“一些感觉”等都可以帮我们识别天气，有的方法特别灵，有的已形成了谚语，被广为流传。你能说出一两条来吗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6248520" y="4876920"/>
            <a:ext cx="2209680" cy="16761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 txBox="1"/>
          <p:nvPr/>
        </p:nvSpPr>
        <p:spPr>
          <a:xfrm>
            <a:off x="2362320" y="228600"/>
            <a:ext cx="5715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寻读，课外延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天空00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457200" y="914400"/>
            <a:ext cx="8001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99"/>
                </a:solidFill>
                <a:latin typeface="Times New Roman"/>
                <a:ea typeface="隶书"/>
              </a:rPr>
              <a:t>积累词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99"/>
                </a:solidFill>
                <a:latin typeface="Times New Roman"/>
                <a:ea typeface="隶书"/>
              </a:rPr>
              <a:t>峰峦：山峰和山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99"/>
                </a:solidFill>
                <a:latin typeface="Times New Roman"/>
                <a:ea typeface="隶书"/>
              </a:rPr>
              <a:t>绫纱：薄的丝织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99"/>
                </a:solidFill>
                <a:latin typeface="Times New Roman"/>
                <a:ea typeface="隶书"/>
              </a:rPr>
              <a:t>粼波：水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99"/>
                </a:solidFill>
                <a:latin typeface="Times New Roman"/>
                <a:ea typeface="隶书"/>
              </a:rPr>
              <a:t>弥漫：（烟尘、雾气等）充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99"/>
                </a:solidFill>
                <a:latin typeface="Times New Roman"/>
                <a:ea typeface="隶书"/>
              </a:rPr>
              <a:t>姿态万千：形容姿态多种多样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1089000" cy="108936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 txBox="1"/>
          <p:nvPr/>
        </p:nvSpPr>
        <p:spPr>
          <a:xfrm>
            <a:off x="2556000" y="981000"/>
            <a:ext cx="36003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41400">
                  <a:solidFill>
                    <a:srgbClr val="99ccff"/>
                  </a:solidFill>
                  <a:miter/>
                </a:ln>
                <a:solidFill>
                  <a:srgbClr val="00ccff"/>
                </a:solidFill>
                <a:latin typeface="幼圆"/>
              </a:rPr>
              <a:t>练  习</a:t>
            </a:r>
            <a:endParaRPr b="1" lang="en-US" sz="1800" spc="1" strike="noStrike">
              <a:ln w="41400">
                <a:solidFill>
                  <a:srgbClr val="99ccff"/>
                </a:solidFill>
                <a:miter/>
              </a:ln>
              <a:solidFill>
                <a:srgbClr val="00ccff"/>
              </a:solidFill>
              <a:latin typeface="幼圆"/>
              <a:ea typeface="幼圆"/>
            </a:endParaRPr>
          </a:p>
        </p:txBody>
      </p:sp>
      <p:sp>
        <p:nvSpPr>
          <p:cNvPr id="267" name=""/>
          <p:cNvSpPr/>
          <p:nvPr/>
        </p:nvSpPr>
        <p:spPr>
          <a:xfrm>
            <a:off x="971640" y="1989000"/>
            <a:ext cx="7272360" cy="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0880" y="2209680"/>
            <a:ext cx="83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ff"/>
                </a:solidFill>
                <a:latin typeface="Arial"/>
                <a:ea typeface="华文琥珀"/>
              </a:rPr>
              <a:t>1</a:t>
            </a:r>
            <a:r>
              <a:rPr b="0" lang="zh-CN" sz="4000" spc="-1" strike="noStrike">
                <a:solidFill>
                  <a:srgbClr val="0099ff"/>
                </a:solidFill>
                <a:latin typeface="Arial"/>
                <a:ea typeface="华文琥珀"/>
              </a:rPr>
              <a:t>、你能改正下面词语中的错别字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042920" y="2971800"/>
            <a:ext cx="7345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cc00"/>
                </a:solidFill>
                <a:latin typeface="幼圆"/>
                <a:ea typeface="幼圆"/>
              </a:rPr>
              <a:t>锋 峦   绫 纱   鳞 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cc00"/>
                </a:solidFill>
                <a:latin typeface="幼圆"/>
                <a:ea typeface="幼圆"/>
              </a:rPr>
              <a:t>弥 慢   姿态万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1223640" cy="12240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971640" y="1989000"/>
            <a:ext cx="7272360" cy="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14400" y="1905120"/>
            <a:ext cx="7704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339933"/>
                </a:solidFill>
                <a:uFillTx/>
                <a:latin typeface="幼圆"/>
                <a:ea typeface="幼圆"/>
              </a:rPr>
              <a:t>锋</a:t>
            </a:r>
            <a:r>
              <a:rPr b="1" lang="zh-CN" sz="4800" spc="-1" strike="noStrike">
                <a:solidFill>
                  <a:srgbClr val="0000ff"/>
                </a:solidFill>
                <a:latin typeface="幼圆"/>
                <a:ea typeface="幼圆"/>
              </a:rPr>
              <a:t>（峰）</a:t>
            </a:r>
            <a:r>
              <a:rPr b="1" lang="zh-CN" sz="4800" spc="-1" strike="noStrike">
                <a:solidFill>
                  <a:srgbClr val="339933"/>
                </a:solidFill>
                <a:latin typeface="幼圆"/>
                <a:ea typeface="幼圆"/>
              </a:rPr>
              <a:t>峦    绫纱（√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9933"/>
                </a:solidFill>
                <a:latin typeface="幼圆"/>
                <a:ea typeface="幼圆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339933"/>
                </a:solidFill>
                <a:uFillTx/>
                <a:latin typeface="幼圆"/>
                <a:ea typeface="幼圆"/>
              </a:rPr>
              <a:t>鳞</a:t>
            </a:r>
            <a:r>
              <a:rPr b="1" lang="zh-CN" sz="4800" spc="-1" strike="noStrike">
                <a:solidFill>
                  <a:srgbClr val="0000ff"/>
                </a:solidFill>
                <a:latin typeface="幼圆"/>
                <a:ea typeface="幼圆"/>
              </a:rPr>
              <a:t>（粼）</a:t>
            </a:r>
            <a:r>
              <a:rPr b="1" lang="zh-CN" sz="4800" spc="-1" strike="noStrike">
                <a:solidFill>
                  <a:srgbClr val="339933"/>
                </a:solidFill>
                <a:latin typeface="幼圆"/>
                <a:ea typeface="幼圆"/>
              </a:rPr>
              <a:t>波    弥</a:t>
            </a:r>
            <a:r>
              <a:rPr b="1" lang="zh-CN" sz="4800" spc="-1" strike="noStrike" u="sng">
                <a:solidFill>
                  <a:srgbClr val="339933"/>
                </a:solidFill>
                <a:uFillTx/>
                <a:latin typeface="幼圆"/>
                <a:ea typeface="幼圆"/>
              </a:rPr>
              <a:t>慢</a:t>
            </a:r>
            <a:r>
              <a:rPr b="1" lang="zh-CN" sz="4800" spc="-1" strike="noStrike">
                <a:solidFill>
                  <a:srgbClr val="0000ff"/>
                </a:solidFill>
                <a:latin typeface="幼圆"/>
                <a:ea typeface="幼圆"/>
              </a:rPr>
              <a:t>（漫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9933"/>
                </a:solidFill>
                <a:latin typeface="幼圆"/>
                <a:ea typeface="幼圆"/>
              </a:rPr>
              <a:t>姿态万千（√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a1c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362320" y="228600"/>
            <a:ext cx="5715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朗读，理清内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1371600"/>
            <a:ext cx="79405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Book Antiqua"/>
              </a:rPr>
              <a:t>听读，批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Book Antiqua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Book Antiqua"/>
              </a:rPr>
              <a:t>．云和天气到底有怎样的关系</a:t>
            </a:r>
            <a:r>
              <a:rPr b="1" lang="zh-CN" sz="3200" spc="-1" strike="noStrike">
                <a:solidFill>
                  <a:srgbClr val="000000"/>
                </a:solidFill>
                <a:latin typeface="Book Antiqu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Book Antiqua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Book Antiqua"/>
              </a:rPr>
              <a:t>依次介绍了哪些云和光彩？它们各有怎样的特征</a:t>
            </a:r>
            <a:r>
              <a:rPr b="1" lang="zh-CN" sz="3200" spc="-1" strike="noStrike">
                <a:solidFill>
                  <a:srgbClr val="000000"/>
                </a:solidFill>
                <a:latin typeface="Book Antiqua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Book Antiqua"/>
              </a:rPr>
              <a:t>分别预示怎样的天气情况</a:t>
            </a:r>
            <a:r>
              <a:rPr b="1" lang="zh-CN" sz="3200" spc="-1" strike="noStrike">
                <a:solidFill>
                  <a:srgbClr val="000000"/>
                </a:solidFill>
                <a:latin typeface="Book Antiqua"/>
              </a:rPr>
              <a:t>? </a:t>
            </a:r>
            <a:r>
              <a:rPr b="1" lang="zh-CN" sz="3200" spc="-1" strike="noStrike">
                <a:solidFill>
                  <a:srgbClr val="000000"/>
                </a:solidFill>
                <a:latin typeface="Book Antiqua"/>
              </a:rPr>
              <a:t>请你设计一种表格来完成，看谁设计的好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266688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天空的薄云，往往是天气晴朗的象征；那些低而厚密的云层，常常是阴雨风雪的预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7467480" y="5410080"/>
            <a:ext cx="990720" cy="952560"/>
          </a:xfrm>
          <a:prstGeom prst="rect">
            <a:avLst/>
          </a:prstGeom>
          <a:ln w="0">
            <a:noFill/>
          </a:ln>
        </p:spPr>
      </p:pic>
      <p:grpSp>
        <p:nvGrpSpPr>
          <p:cNvPr id="274" name=""/>
          <p:cNvGrpSpPr/>
          <p:nvPr/>
        </p:nvGrpSpPr>
        <p:grpSpPr>
          <a:xfrm>
            <a:off x="914400" y="1676520"/>
            <a:ext cx="7315200" cy="992880"/>
            <a:chOff x="914400" y="1676520"/>
            <a:chExt cx="7315200" cy="992880"/>
          </a:xfrm>
        </p:grpSpPr>
        <p:sp>
          <p:nvSpPr>
            <p:cNvPr id="275" name=""/>
            <p:cNvSpPr/>
            <p:nvPr/>
          </p:nvSpPr>
          <p:spPr>
            <a:xfrm>
              <a:off x="914400" y="1676520"/>
              <a:ext cx="525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A.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高积云是成群的扁球状的云块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914400" y="2209680"/>
              <a:ext cx="731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B.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高积云是成群的扁球状的云块，就像草原上雪白的羊群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600200" y="2666880"/>
              <a:ext cx="662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6781680" y="4495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533520" y="3352680"/>
            <a:ext cx="7238880" cy="1015920"/>
            <a:chOff x="533520" y="3352680"/>
            <a:chExt cx="7238880" cy="1015920"/>
          </a:xfrm>
        </p:grpSpPr>
        <p:sp>
          <p:nvSpPr>
            <p:cNvPr id="280" name=""/>
            <p:cNvSpPr/>
            <p:nvPr/>
          </p:nvSpPr>
          <p:spPr>
            <a:xfrm>
              <a:off x="533520" y="3352680"/>
              <a:ext cx="72388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A.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云压得更低，变得更厚，太阳和月亮都躲藏了起来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B.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云压得更低，变得更厚，太阳和月亮都被云遮盖了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990720" y="3886200"/>
              <a:ext cx="655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533520" y="4724280"/>
            <a:ext cx="6858000" cy="1015920"/>
            <a:chOff x="533520" y="4724280"/>
            <a:chExt cx="6858000" cy="1015920"/>
          </a:xfrm>
        </p:grpSpPr>
        <p:sp>
          <p:nvSpPr>
            <p:cNvPr id="283" name=""/>
            <p:cNvSpPr/>
            <p:nvPr/>
          </p:nvSpPr>
          <p:spPr>
            <a:xfrm>
              <a:off x="533520" y="4724280"/>
              <a:ext cx="68580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A.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人家的孩子又白又胖，你的孩子又脏又瘦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B.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人家的孩子就像刚出笼的白馒头，你的孩子就像街上耍把戏的猴子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066680" y="5638680"/>
              <a:ext cx="586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762120" y="60199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019920" y="57913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9c08"/>
                </a:solidFill>
                <a:latin typeface="Times New Roman"/>
                <a:ea typeface="华文彩云"/>
              </a:rPr>
              <a:t>探索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80880" y="99072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琥珀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琥珀"/>
              </a:rPr>
              <a:t>、比较下边每组两句的表达效果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2" name="chimes.wav"/>
      </p:stSnd>
    </p:sndAc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914400" y="1371600"/>
            <a:ext cx="769608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40eac"/>
                </a:solidFill>
                <a:latin typeface="黑体"/>
                <a:ea typeface="黑体"/>
              </a:rPr>
              <a:t>小台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40eac"/>
                </a:solidFill>
                <a:latin typeface="黑体"/>
                <a:ea typeface="黑体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40eac"/>
                </a:solidFill>
                <a:latin typeface="黑体"/>
                <a:ea typeface="黑体"/>
              </a:rPr>
              <a:t>         </a:t>
            </a:r>
            <a:r>
              <a:rPr b="0" lang="zh-CN" sz="2400" spc="-1" strike="noStrike">
                <a:solidFill>
                  <a:srgbClr val="a40eac"/>
                </a:solidFill>
                <a:latin typeface="黑体"/>
                <a:ea typeface="黑体"/>
              </a:rPr>
              <a:t>在校运会上，我获得一份奖品——一盏漂亮的小台灯。这盏台灯造型很简单，也很优美。细长的灯柱罩着一个长圆形的灯罩。最引人注目的是它的颜色 ，是粉红色的。灯罩和灯柱的底部都点缀着卡通图案和小花，使台灯看起来更加美观。台灯的材料是塑料的，所以比较轻，使用起来就更为方便了。台灯的灯罩可以随意拆下，可以看见里面有一个小电灯泡。当将白色的电线接上电源，灯泡便透过灯罩发出光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40eac"/>
                </a:solidFill>
                <a:latin typeface="黑体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a40eac"/>
                </a:solidFill>
                <a:latin typeface="黑体"/>
                <a:ea typeface="黑体"/>
              </a:rPr>
              <a:t>这盏小台灯将成为我房间里一个最美丽的摆设，也将成为我学习中最好的伙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6477120" y="5105520"/>
            <a:ext cx="1828800" cy="14475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5181480" y="57913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回应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-181080" y="0"/>
            <a:ext cx="1096920" cy="9144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124080" y="68580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晴天云简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28600" y="1447920"/>
          <a:ext cx="8610480" cy="4824360"/>
        </p:xfrm>
        <a:graphic>
          <a:graphicData uri="http://schemas.openxmlformats.org/drawingml/2006/table">
            <a:tbl>
              <a:tblPr/>
              <a:tblGrid>
                <a:gridCol w="1336680"/>
                <a:gridCol w="3235320"/>
                <a:gridCol w="1371600"/>
                <a:gridCol w="990360"/>
                <a:gridCol w="1676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Arial"/>
                          <a:ea typeface="华文新魏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Arial"/>
                          <a:ea typeface="华文新魏"/>
                        </a:rPr>
                        <a:t>云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Arial"/>
                          <a:ea typeface="华文新魏"/>
                        </a:rPr>
                        <a:t>云的形态变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Arial"/>
                          <a:ea typeface="华文新魏"/>
                        </a:rPr>
                        <a:t>高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Arial"/>
                          <a:ea typeface="华文新魏"/>
                        </a:rPr>
                        <a:t>厚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Arial"/>
                          <a:ea typeface="华文新魏"/>
                        </a:rPr>
                        <a:t>天气征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">
            <a:hlinkClick r:id="rId3" action="ppaction://hlinksldjump"/>
          </p:cNvPr>
          <p:cNvSpPr/>
          <p:nvPr/>
        </p:nvSpPr>
        <p:spPr>
          <a:xfrm>
            <a:off x="266760" y="2286000"/>
            <a:ext cx="122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卷   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63640" y="2641680"/>
            <a:ext cx="261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63840" y="221472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33"/>
                </a:solidFill>
                <a:latin typeface="Arial"/>
              </a:rPr>
              <a:t>像羽毛像绫纱，丝丝缕缕地漂浮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372360" y="278604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19840" y="228600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Arial"/>
              </a:rPr>
              <a:t>最 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432560" y="56674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72200" y="22860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Arial"/>
              </a:rPr>
              <a:t>最 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324560" y="2286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33"/>
                </a:solidFill>
                <a:latin typeface="Arial"/>
              </a:rPr>
              <a:t>象征晴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rId4" action="ppaction://hlinksldjump"/>
          </p:cNvPr>
          <p:cNvSpPr/>
          <p:nvPr/>
        </p:nvSpPr>
        <p:spPr>
          <a:xfrm>
            <a:off x="266760" y="320508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卷积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35120" y="313380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Arial"/>
              </a:rPr>
              <a:t>像水面的鳞波，是成群成行的卷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92560" y="327672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</a:rPr>
              <a:t>很 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72200" y="3276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Arial"/>
              </a:rPr>
              <a:t>很  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96200" y="32767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Arial"/>
              </a:rPr>
              <a:t>无雨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380360" y="3789360"/>
            <a:ext cx="12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4581360"/>
            <a:ext cx="10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5" action="ppaction://hlinksldjump"/>
          </p:cNvPr>
          <p:cNvSpPr/>
          <p:nvPr/>
        </p:nvSpPr>
        <p:spPr>
          <a:xfrm>
            <a:off x="257040" y="4191120"/>
            <a:ext cx="13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积    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50920" y="4724280"/>
            <a:ext cx="244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25760" y="4046400"/>
            <a:ext cx="33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像棉花团，上午出现，傍晚消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876920" y="4267080"/>
            <a:ext cx="122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2000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米左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234120" y="41911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较  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80360" y="4653000"/>
            <a:ext cx="12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15200" y="41911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阳光温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1280" y="5950080"/>
            <a:ext cx="86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39840" y="57373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高积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79640" y="6093000"/>
            <a:ext cx="273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08200" y="5305320"/>
            <a:ext cx="316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像草原上雪白的羊群，扁球状，排列整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16440" y="5126040"/>
            <a:ext cx="13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米左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559480" y="6099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300720" y="6099120"/>
            <a:ext cx="7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243480" y="573732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较  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24720" y="6093000"/>
            <a:ext cx="1150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451640" y="6021360"/>
            <a:ext cx="10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467480" y="5737320"/>
            <a:ext cx="12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天  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340000" y="438120"/>
            <a:ext cx="492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雨雪冰雹云层变化简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50920" y="1628640"/>
          <a:ext cx="8893080" cy="4146840"/>
        </p:xfrm>
        <a:graphic>
          <a:graphicData uri="http://schemas.openxmlformats.org/drawingml/2006/table">
            <a:tbl>
              <a:tblPr/>
              <a:tblGrid>
                <a:gridCol w="1125360"/>
                <a:gridCol w="2475000"/>
                <a:gridCol w="2449440"/>
                <a:gridCol w="1079640"/>
                <a:gridCol w="1763640"/>
              </a:tblGrid>
              <a:tr h="86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云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变化过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形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位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天气征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395280" y="2708280"/>
            <a:ext cx="7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rId2" action="ppaction://hlinksldjump"/>
          </p:cNvPr>
          <p:cNvSpPr/>
          <p:nvPr/>
        </p:nvSpPr>
        <p:spPr>
          <a:xfrm>
            <a:off x="0" y="2565360"/>
            <a:ext cx="17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996633"/>
                </a:solidFill>
                <a:latin typeface="Arial"/>
              </a:rPr>
              <a:t>卷层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92360" y="2781360"/>
            <a:ext cx="187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47640" y="2487600"/>
            <a:ext cx="22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卷云聚集，向前推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24360" y="249228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像白绸幕蒙住天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588000" y="2492280"/>
            <a:ext cx="63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41000" y="2565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晴转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3" action="ppaction://hlinksldjump"/>
          </p:cNvPr>
          <p:cNvSpPr/>
          <p:nvPr/>
        </p:nvSpPr>
        <p:spPr>
          <a:xfrm>
            <a:off x="179280" y="33764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Arial"/>
              </a:rPr>
              <a:t>高层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853280" y="335772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Arial"/>
              </a:rPr>
              <a:t>卷云越变越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24360" y="3284640"/>
            <a:ext cx="230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Arial"/>
              </a:rPr>
              <a:t>像毛玻璃遮着太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588000" y="3357720"/>
            <a:ext cx="5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Arial"/>
              </a:rPr>
              <a:t>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51640" y="3500280"/>
            <a:ext cx="14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Arial"/>
              </a:rPr>
              <a:t>将下雨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996633"/>
                </a:solidFill>
                <a:latin typeface="Arial"/>
              </a:rPr>
              <a:t>雨层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03280" y="4365720"/>
            <a:ext cx="24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高层云变得更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51280" y="4221000"/>
            <a:ext cx="244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暗灰色云块密布天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67400" y="4240080"/>
            <a:ext cx="77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更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776720" y="4365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雨雪连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03280" y="5006880"/>
            <a:ext cx="24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积云迅速形成高大云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508464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Arial"/>
              </a:rPr>
              <a:t>积雨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067280" y="5084640"/>
            <a:ext cx="203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乌云密布天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43640" y="5084640"/>
            <a:ext cx="10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更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24720" y="5084640"/>
            <a:ext cx="161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雷雨冰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26920" y="6093000"/>
            <a:ext cx="541440" cy="52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348000" y="0"/>
            <a:ext cx="914400" cy="45720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0800000">
            <a:off x="5076360" y="1125360"/>
            <a:ext cx="1219320" cy="60984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343080" y="1790280"/>
            <a:ext cx="533160" cy="1219320"/>
          </a:xfrm>
          <a:prstGeom prst="wedgeRectCallout">
            <a:avLst>
              <a:gd name="adj1" fmla="val -101787"/>
              <a:gd name="adj2" fmla="val 2161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67080" y="3352680"/>
            <a:ext cx="1143000" cy="457200"/>
          </a:xfrm>
          <a:prstGeom prst="flowChartAlternate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43000" y="4800600"/>
            <a:ext cx="1219320" cy="457200"/>
          </a:xfrm>
          <a:prstGeom prst="flowChartAlternate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4267080" y="4952160"/>
            <a:ext cx="609840" cy="381240"/>
          </a:xfrm>
          <a:prstGeom prst="flowChartAlternate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781680" y="3733920"/>
            <a:ext cx="990720" cy="4572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34120" y="4572000"/>
            <a:ext cx="1295280" cy="457200"/>
          </a:xfrm>
          <a:prstGeom prst="flowChartAlternate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86400" y="2362320"/>
            <a:ext cx="1219320" cy="380880"/>
          </a:xfrm>
          <a:prstGeom prst="flowChartAlternate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19640" y="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Times New Roman"/>
              </a:rPr>
              <a:t>卷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089680" y="1239840"/>
            <a:ext cx="100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Times New Roman"/>
              </a:rPr>
              <a:t>卷积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91120" y="4876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Times New Roman"/>
              </a:rPr>
              <a:t>积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2209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Times New Roman"/>
              </a:rPr>
              <a:t>高积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34120" y="45720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Times New Roman"/>
              </a:rPr>
              <a:t>雨层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486400" y="2286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Times New Roman"/>
              </a:rPr>
              <a:t>卷层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343400" y="34290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Times New Roman"/>
              </a:rPr>
              <a:t>高层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219320" y="4800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Times New Roman"/>
              </a:rPr>
              <a:t>积雨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48120" y="5943600"/>
            <a:ext cx="761760" cy="45720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611280" y="549360"/>
          <a:ext cx="7993080" cy="5937120"/>
        </p:xfrm>
        <a:graphic>
          <a:graphicData uri="http://schemas.openxmlformats.org/drawingml/2006/table">
            <a:tbl>
              <a:tblPr/>
              <a:tblGrid>
                <a:gridCol w="1079280"/>
                <a:gridCol w="2694240"/>
                <a:gridCol w="1170000"/>
                <a:gridCol w="3049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光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产生和分布情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光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天气征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803520" y="129528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55800" y="25146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32120" y="426708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55800" y="54864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99072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产生在卷层云上，分布在日月周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52480" y="2286000"/>
            <a:ext cx="251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产生在高积云边缘部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00200" y="373392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雨过天晴，在太阳对面的云幕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52480" y="52578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早、晚，太阳照着对面的云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419720" y="1066680"/>
            <a:ext cx="1218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里红外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95680" y="2286000"/>
            <a:ext cx="92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里紫外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48320" y="3429000"/>
            <a:ext cx="761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彩色圆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495680" y="5410080"/>
            <a:ext cx="121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云层变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638680" y="1066680"/>
            <a:ext cx="312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日晕三更雨，月晕午时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15000" y="19051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华环由小变大，转晴华环由大变小，转阴雨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638680" y="5257800"/>
            <a:ext cx="281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朝霞西阴雨袭晚霞东几天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916240" y="3809880"/>
            <a:ext cx="211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东虹轰隆西虹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a1c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362320" y="685800"/>
            <a:ext cx="5715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演读，变换表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676520"/>
            <a:ext cx="794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Book Antiqua"/>
              </a:rPr>
              <a:t>请大家任选一种云，以第一称的方式作自我介绍</a:t>
            </a:r>
            <a:r>
              <a:rPr b="1" lang="zh-CN" sz="2800" spc="-1" strike="noStrike">
                <a:solidFill>
                  <a:srgbClr val="ff0000"/>
                </a:solidFill>
                <a:latin typeface="Book Antiqua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Book Antiqua"/>
              </a:rPr>
              <a:t>介绍要求：①充分利用描写云彩的语言材料；②让别人明白你将会带来怎样的天气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3520" y="3349800"/>
            <a:ext cx="794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ook Antiqua"/>
              </a:rPr>
              <a:t>示例：“</a:t>
            </a:r>
            <a:r>
              <a:rPr b="1" lang="zh-CN" sz="2800" spc="-1" strike="noStrike">
                <a:solidFill>
                  <a:srgbClr val="000000"/>
                </a:solidFill>
                <a:latin typeface="Book Antiqua"/>
              </a:rPr>
              <a:t>Hai </a:t>
            </a:r>
            <a:r>
              <a:rPr b="1" lang="zh-CN" sz="2800" spc="-1" strike="noStrike">
                <a:solidFill>
                  <a:srgbClr val="000000"/>
                </a:solidFill>
                <a:latin typeface="Book Antiqua"/>
              </a:rPr>
              <a:t>！大家好，我叫卷云，我常丝丝缕缕地飘浮着，有时像一片白色的羽毛，有时像一块洁白的绫纱。别看我身子很单薄，可我最轻盈，站得也最高，阳光可以透过我照到地面。我很受欢迎，因为我会给大家带来晴朗的天气。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75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2920" y="4800600"/>
            <a:ext cx="1981080" cy="20574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2133720" cy="16588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2438280" y="0"/>
            <a:ext cx="1981440" cy="1614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6"/>
          <a:stretch/>
        </p:blipFill>
        <p:spPr>
          <a:xfrm>
            <a:off x="4800600" y="0"/>
            <a:ext cx="1981080" cy="15732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7"/>
          <a:stretch/>
        </p:blipFill>
        <p:spPr>
          <a:xfrm>
            <a:off x="7086600" y="0"/>
            <a:ext cx="2057400" cy="16002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8"/>
          <a:stretch/>
        </p:blipFill>
        <p:spPr>
          <a:xfrm>
            <a:off x="0" y="2286000"/>
            <a:ext cx="2057400" cy="19051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9"/>
          <a:stretch/>
        </p:blipFill>
        <p:spPr>
          <a:xfrm>
            <a:off x="2438280" y="2286000"/>
            <a:ext cx="1981440" cy="19051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0"/>
          <a:stretch/>
        </p:blipFill>
        <p:spPr>
          <a:xfrm>
            <a:off x="4800600" y="2286000"/>
            <a:ext cx="1981080" cy="19051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1"/>
          <a:stretch/>
        </p:blipFill>
        <p:spPr>
          <a:xfrm>
            <a:off x="7162920" y="2286000"/>
            <a:ext cx="1981080" cy="19051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12"/>
          <a:stretch/>
        </p:blipFill>
        <p:spPr>
          <a:xfrm>
            <a:off x="0" y="4800600"/>
            <a:ext cx="2133720" cy="20574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3"/>
          <a:stretch/>
        </p:blipFill>
        <p:spPr>
          <a:xfrm>
            <a:off x="609480" y="380880"/>
            <a:ext cx="846360" cy="9144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2971800" y="380880"/>
            <a:ext cx="892080" cy="9144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5410080" y="380880"/>
            <a:ext cx="868320" cy="9144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7772400" y="380880"/>
            <a:ext cx="879480" cy="9144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609480" y="2819520"/>
            <a:ext cx="857520" cy="9144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3048120" y="2819520"/>
            <a:ext cx="868320" cy="91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>
            <a:hlinkClick r:id="rId24" action="ppaction://hlinksldjump"/>
          </p:cNvPr>
          <p:cNvPicPr/>
          <p:nvPr/>
        </p:nvPicPr>
        <p:blipFill>
          <a:blip r:embed="rId25"/>
          <a:stretch/>
        </p:blipFill>
        <p:spPr>
          <a:xfrm>
            <a:off x="5356080" y="2819520"/>
            <a:ext cx="892440" cy="9144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>
            <a:hlinkClick r:id="rId26" action="ppaction://hlinksldjump"/>
          </p:cNvPr>
          <p:cNvPicPr/>
          <p:nvPr/>
        </p:nvPicPr>
        <p:blipFill>
          <a:blip r:embed="rId27"/>
          <a:stretch/>
        </p:blipFill>
        <p:spPr>
          <a:xfrm>
            <a:off x="7772400" y="2743200"/>
            <a:ext cx="835200" cy="9144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>
            <a:hlinkClick r:id="rId28" action="ppaction://hlinksldjump"/>
          </p:cNvPr>
          <p:cNvPicPr/>
          <p:nvPr/>
        </p:nvPicPr>
        <p:blipFill>
          <a:blip r:embed="rId29"/>
          <a:stretch/>
        </p:blipFill>
        <p:spPr>
          <a:xfrm>
            <a:off x="762120" y="5410080"/>
            <a:ext cx="857160" cy="9144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>
            <a:hlinkClick r:id="rId30" action="ppaction://hlinksldjump"/>
          </p:cNvPr>
          <p:cNvPicPr/>
          <p:nvPr/>
        </p:nvPicPr>
        <p:blipFill>
          <a:blip r:embed="rId31"/>
          <a:stretch/>
        </p:blipFill>
        <p:spPr>
          <a:xfrm>
            <a:off x="2438280" y="4800600"/>
            <a:ext cx="1981440" cy="20574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>
            <a:hlinkClick r:id="rId32" action="ppaction://hlinksldjump"/>
          </p:cNvPr>
          <p:cNvPicPr/>
          <p:nvPr/>
        </p:nvPicPr>
        <p:blipFill>
          <a:blip r:embed="rId33"/>
          <a:stretch/>
        </p:blipFill>
        <p:spPr>
          <a:xfrm>
            <a:off x="4800600" y="4800600"/>
            <a:ext cx="2133720" cy="20574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4"/>
          <a:stretch/>
        </p:blipFill>
        <p:spPr>
          <a:xfrm>
            <a:off x="3352680" y="5410080"/>
            <a:ext cx="835200" cy="9144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5"/>
          <a:stretch/>
        </p:blipFill>
        <p:spPr>
          <a:xfrm>
            <a:off x="2743200" y="5410080"/>
            <a:ext cx="846000" cy="9144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6"/>
          <a:stretch/>
        </p:blipFill>
        <p:spPr>
          <a:xfrm>
            <a:off x="5105520" y="5410080"/>
            <a:ext cx="846000" cy="9144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7"/>
          <a:stretch/>
        </p:blipFill>
        <p:spPr>
          <a:xfrm>
            <a:off x="5715000" y="5410080"/>
            <a:ext cx="846000" cy="9144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8"/>
          <a:stretch/>
        </p:blipFill>
        <p:spPr>
          <a:xfrm>
            <a:off x="2057400" y="0"/>
            <a:ext cx="380880" cy="68580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9"/>
          <a:stretch/>
        </p:blipFill>
        <p:spPr>
          <a:xfrm>
            <a:off x="4419720" y="0"/>
            <a:ext cx="380880" cy="68580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0"/>
          <a:stretch/>
        </p:blipFill>
        <p:spPr>
          <a:xfrm>
            <a:off x="6781680" y="0"/>
            <a:ext cx="381240" cy="6858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41"/>
          <a:stretch/>
        </p:blipFill>
        <p:spPr>
          <a:xfrm>
            <a:off x="0" y="160020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2"/>
          <a:stretch/>
        </p:blipFill>
        <p:spPr>
          <a:xfrm>
            <a:off x="0" y="4191120"/>
            <a:ext cx="9144000" cy="6094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3"/>
          <a:stretch/>
        </p:blipFill>
        <p:spPr>
          <a:xfrm>
            <a:off x="7459560" y="5410080"/>
            <a:ext cx="846360" cy="9144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4"/>
          <a:stretch/>
        </p:blipFill>
        <p:spPr>
          <a:xfrm>
            <a:off x="7947000" y="5410080"/>
            <a:ext cx="8920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31T07:48:11Z</dcterms:created>
  <dc:creator>wutao</dc:creator>
  <dc:description/>
  <dc:language>en-US</dc:language>
  <cp:lastModifiedBy>a</cp:lastModifiedBy>
  <dcterms:modified xsi:type="dcterms:W3CDTF">2004-12-16T05:19:21Z</dcterms:modified>
  <cp:revision>100</cp:revision>
  <dc:subject/>
  <dc:title>幻灯片 1</dc:title>
</cp:coreProperties>
</file>