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chimes.wav" ContentType="audio/x-wav"/>
  <Override PartName="/ppt/media/image13.gif" ContentType="image/gif"/>
  <Override PartName="/ppt/media/image16.jpeg" ContentType="image/jpeg"/>
  <Override PartName="/ppt/media/image11.gif" ContentType="image/gif"/>
  <Override PartName="/ppt/media/image6.gif" ContentType="image/gif"/>
  <Override PartName="/ppt/media/image21.gif" ContentType="image/gif"/>
  <Override PartName="/ppt/media/image20.png" ContentType="image/png"/>
  <Override PartName="/ppt/media/image2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23.gif" ContentType="image/gif"/>
  <Override PartName="/ppt/media/image17.jpeg" ContentType="image/jpeg"/>
  <Override PartName="/ppt/media/image15.jpeg" ContentType="image/jpeg"/>
  <Override PartName="/ppt/media/image14.gif" ContentType="image/gif"/>
  <Override PartName="/ppt/media/image22.gif" ContentType="image/gif"/>
  <Override PartName="/ppt/media/image4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AD9-8A0F-44CB-BA41-4A7C422C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326-E91A-4CF5-AFE1-DE95501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30C-1B03-40AB-90CF-BE61009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609-8FAF-452A-8F86-616D89AC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63DF-DEF6-47E5-8116-835E0540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ACA8-3D47-4E39-98A8-35EDBA1C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1944-500A-4DC6-B0D7-11F25D3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3DC-D6EC-4AF0-9819-1083CF3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5BBF-DBDF-48D8-8329-61ECDD4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2E6B-33B5-4F87-89ED-BA40541F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064B-6A47-4E6C-A33E-592FDEC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871-212C-40A9-B822-C706C58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670D-A731-42B4-83EC-8A5EDD6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9022-D994-4EBA-8B30-D6BEFD2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A6A7-9360-4415-9F63-9A7D353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36FF-A9C3-4F04-9732-4D1DC9A2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200-6F24-4774-9EE5-0E457E8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2DE9-6D7D-4883-9AA7-0E924BE0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7198-2CF8-41A4-9CD5-2FE3DCCE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0B33-7347-407B-9205-B35A4F4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9E40-8BEC-4913-8376-F0792E93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865E-473B-4D4E-B9C4-CAB389A7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20D-65BA-4250-B728-A1491475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A718-FDB2-43A7-BFAE-E149BAA6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BF65-21E8-42FF-9226-83525BB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B787-B848-4806-9663-EFA6CA0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0F3F-A98C-4AAB-9A60-BCA6C28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5B50-D542-4A09-B05C-007F361B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9167-93AC-4FA7-88DE-DA978DB0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87D9-A876-4C8A-8445-D34257CE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DE80-FB47-4CA6-9853-FD7D369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1065-4EAA-4946-98DE-C8DDEB29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7B22-5FCC-40D0-A666-F5FD719A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B87-5F6C-4224-ACC6-67F2B14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1E43-DAF7-48CE-B162-C0A2297A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4373-E003-47A4-800C-7B5866E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6FB8-9FC6-4D9C-A652-1982D73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D9BA-29F4-4E0A-8CF4-5D587F3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17AB-3102-475A-A65C-F6D9DEB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F757-9F19-4FD4-86E3-77D184D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F341-092A-4AD2-BCF6-A3829737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E983-54C1-4D32-B8F5-E2E64096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5A73-3C68-40C5-AF8E-42E4A6C4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B205-23E3-44E8-974E-48919A5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C3D-002F-4844-A4D3-F520402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2E53-D416-4F1F-A815-4F0FAF04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6639-D0A3-4D7B-88B2-2E52C96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24B7-AAA0-4D27-854F-521ED00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42BE-C6D7-42A8-BA85-16771F4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08C9-014E-478B-9028-8F4B2C9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C6AA-0FC3-41DB-81B4-B88C589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DDF3-93FC-4F48-9B16-4731D97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3FCA-0318-4AF6-A683-D2C2470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5117-0EB7-4A8F-8438-8F443DEE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C5703-E857-4D10-9008-F725A81A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63D-FB53-4B8E-801E-E174435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2F5D-7482-4E37-8135-9BEECAE7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EB337-8893-4E51-9708-500CF8C5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59F3-6178-46BA-855A-B84644DC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D293-E204-479C-93CB-833EED55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5FFA-918E-456E-86B2-1887D96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18EC-53E3-4A6E-8B0B-3847AD91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47A4-D327-4C19-AD13-2C13404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0D94-2D52-481F-BBD5-CD29EA4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1393-2563-498A-A158-5CE7F9E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5B68-ECAC-4B92-A79C-06B8001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9F7-0BE9-45EA-AB22-A82B077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3C435-F933-4267-88AB-A145EFB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E896-5C25-4160-9C24-9BE3EF14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70803-7F2D-4059-B8A9-786F97F0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7C39-8F0B-48BA-9CA0-D864F4BB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FBCCE-4A14-4AE5-86A3-17073007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C655-B4D6-47C4-84D7-68695F3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6946-9546-4CC6-BC2E-4E1DC87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BDD35-9D1F-4A12-9582-2449851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7078-3CB7-4638-BAAE-889DB1BC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3826-0B3B-4121-8299-A60612A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3EB-329D-4C53-A917-E6CADC71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B4D9-666A-4E1F-9C0B-6C9B9DE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807E-FD8D-45EC-8839-FD7F58A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9B395-9D58-439E-B8C8-D2B8A28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D38C-D7DE-4CE1-A5DE-136442C0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7047-56C4-4281-B44D-CE88EAD5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63B9-7A50-4FF3-8263-5E9B166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3352-05EB-44FF-A056-934ECA8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615F-FDF2-407B-851E-6F96212B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64505-85C9-417E-BE6A-962D5B2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813C-63C6-4BBC-864C-1EAE13E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91D-82C6-46D6-B176-A42E45F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2522-134F-4EB7-BC05-23BE3677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7E9E-F841-4458-8AB8-98075BD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A956-598E-4CD2-99D1-6B000B7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88B47-78E8-4073-8AE5-5D3BD83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ECAE7-5C72-4266-9410-F5CC8AD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CA88-504F-4656-8AC5-6ACD313C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1C9E3-6EF7-404C-9944-16ED98B6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058-BA61-4850-AD8B-7A264C41F0E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8F31-8A92-48DB-8BB3-1EF61F7520E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AE0-98EB-442A-B951-68C2991EAD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429-45EB-4174-A5A6-B5A7B81613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461-F695-41A9-83EC-80CFA57C1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FEA8-B33A-412A-B0A2-06F234B57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15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61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75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89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03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17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31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45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47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099-24DB-4748-BB3B-72920DC3E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03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17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715E-2D33-4524-BBA6-724103E45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67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sucai.com/viewpic.php?picid=27905" TargetMode="External"/><Relationship Id="rId4" Type="http://schemas.openxmlformats.org/officeDocument/2006/relationships/hyperlink" Target="http://www.sucai.com/viewpic.php?picid=27905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hyperlink" Target="http://www.sucai.com/viewpic.php?picid=27905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cai.com/viewpic.php?picid=53931" TargetMode="External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gif"/><Relationship Id="rId3" Type="http://schemas.openxmlformats.org/officeDocument/2006/relationships/image" Target="../media/image8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6259680" cy="118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omic Sans MS"/>
                <a:ea typeface="隶书"/>
              </a:rPr>
              <a:t>看云识天气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3716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透光高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-18288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0" y="5867280"/>
            <a:ext cx="9144000" cy="990720"/>
            <a:chOff x="0" y="5867280"/>
            <a:chExt cx="9144000" cy="990720"/>
          </a:xfrm>
        </p:grpSpPr>
        <p:grpSp>
          <p:nvGrpSpPr>
            <p:cNvPr id="904" name=""/>
            <p:cNvGrpSpPr/>
            <p:nvPr/>
          </p:nvGrpSpPr>
          <p:grpSpPr>
            <a:xfrm>
              <a:off x="0" y="5867280"/>
              <a:ext cx="9144000" cy="990720"/>
              <a:chOff x="0" y="5867280"/>
              <a:chExt cx="9144000" cy="99072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0" y="5867280"/>
                <a:ext cx="9144000" cy="990720"/>
                <a:chOff x="0" y="5867280"/>
                <a:chExt cx="9144000" cy="9907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0" y="5867280"/>
                  <a:ext cx="560808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7" name=""/>
                <p:cNvGrpSpPr/>
                <p:nvPr/>
              </p:nvGrpSpPr>
              <p:grpSpPr>
                <a:xfrm>
                  <a:off x="0" y="5867280"/>
                  <a:ext cx="9144000" cy="170280"/>
                  <a:chOff x="0" y="5867280"/>
                  <a:chExt cx="9144000" cy="17028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0" y="5867280"/>
                    <a:ext cx="6095880" cy="17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0" y="5867280"/>
                    <a:ext cx="9144000" cy="16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云块常呈扁圆形、瓦块、水波状的密集云条，成群、成行、成波状排列。透光高积云会带来的晴好天气。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0" name=""/>
              <p:cNvSpPr/>
              <p:nvPr/>
            </p:nvSpPr>
            <p:spPr>
              <a:xfrm>
                <a:off x="0" y="5867280"/>
                <a:ext cx="9144000" cy="99072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0" y="5867280"/>
              <a:ext cx="9144000" cy="990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95280" y="1268280"/>
          <a:ext cx="8136000" cy="4608720"/>
        </p:xfrm>
        <a:graphic>
          <a:graphicData uri="http://schemas.openxmlformats.org/drawingml/2006/table">
            <a:tbl>
              <a:tblPr/>
              <a:tblGrid>
                <a:gridCol w="1027080"/>
                <a:gridCol w="3581640"/>
                <a:gridCol w="1079280"/>
                <a:gridCol w="1008360"/>
                <a:gridCol w="143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的形态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积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3348000" y="5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539640" y="1052640"/>
          <a:ext cx="7777440" cy="4736880"/>
        </p:xfrm>
        <a:graphic>
          <a:graphicData uri="http://schemas.openxmlformats.org/drawingml/2006/table">
            <a:tbl>
              <a:tblPr/>
              <a:tblGrid>
                <a:gridCol w="973080"/>
                <a:gridCol w="2710080"/>
                <a:gridCol w="1736640"/>
                <a:gridCol w="973080"/>
                <a:gridCol w="138456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"/>
          <p:cNvSpPr/>
          <p:nvPr/>
        </p:nvSpPr>
        <p:spPr>
          <a:xfrm>
            <a:off x="1979640" y="26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"/>
          <p:cNvGraphicFramePr/>
          <p:nvPr/>
        </p:nvGraphicFramePr>
        <p:xfrm>
          <a:off x="684360" y="1052640"/>
          <a:ext cx="7704000" cy="4752720"/>
        </p:xfrm>
        <a:graphic>
          <a:graphicData uri="http://schemas.openxmlformats.org/drawingml/2006/table">
            <a:tbl>
              <a:tblPr/>
              <a:tblGrid>
                <a:gridCol w="1008000"/>
                <a:gridCol w="3095640"/>
                <a:gridCol w="1368360"/>
                <a:gridCol w="223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色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"/>
          <p:cNvSpPr/>
          <p:nvPr/>
        </p:nvSpPr>
        <p:spPr>
          <a:xfrm>
            <a:off x="2771640" y="404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云的光彩简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58920" y="76500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395280" y="1268280"/>
          <a:ext cx="8136000" cy="4608720"/>
        </p:xfrm>
        <a:graphic>
          <a:graphicData uri="http://schemas.openxmlformats.org/drawingml/2006/table">
            <a:tbl>
              <a:tblPr/>
              <a:tblGrid>
                <a:gridCol w="1027080"/>
                <a:gridCol w="3581640"/>
                <a:gridCol w="1079280"/>
                <a:gridCol w="1008360"/>
                <a:gridCol w="143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的形态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积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3348000" y="5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403280" y="1773360"/>
            <a:ext cx="705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像羽毛、像绫纱、             最高     最薄    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丝丝缕缕地飘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03280" y="28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像鳞波是成群成行的卷云    很高    很薄     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76360" y="357336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像棉花团 上午出现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        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2000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米左右   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较薄   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476360" y="4797360"/>
            <a:ext cx="727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像草原上雪白的羊群</a:t>
            </a:r>
            <a:r>
              <a:rPr b="0" lang="zh-CN" sz="1800" spc="-1" strike="noStrike">
                <a:solidFill>
                  <a:srgbClr val="5f2cc6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5f2cc6"/>
                </a:solidFill>
                <a:latin typeface="Comic Sans MS"/>
              </a:rPr>
              <a:t>2000</a:t>
            </a:r>
            <a:r>
              <a:rPr b="0" lang="zh-CN" sz="2000" spc="-1" strike="noStrike">
                <a:solidFill>
                  <a:srgbClr val="5f2cc6"/>
                </a:solidFill>
                <a:latin typeface="Comic Sans MS"/>
              </a:rPr>
              <a:t>米左右</a:t>
            </a:r>
            <a:r>
              <a:rPr b="0" lang="zh-CN" sz="1800" spc="-1" strike="noStrike">
                <a:solidFill>
                  <a:srgbClr val="5f2cc6"/>
                </a:solidFill>
                <a:latin typeface="Comic Sans MS"/>
              </a:rPr>
              <a:t>    </a:t>
            </a: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较薄      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扁球状 排列匀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79640" y="26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00000" y="105264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539640" y="1052640"/>
          <a:ext cx="8353440" cy="5195880"/>
        </p:xfrm>
        <a:graphic>
          <a:graphicData uri="http://schemas.openxmlformats.org/drawingml/2006/table">
            <a:tbl>
              <a:tblPr/>
              <a:tblGrid>
                <a:gridCol w="1044720"/>
                <a:gridCol w="2911320"/>
                <a:gridCol w="1865520"/>
                <a:gridCol w="1044360"/>
                <a:gridCol w="14875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云聚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向前推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像白绸幕蒙住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晴转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云越变越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像毛玻璃遮着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将下雨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层云变得更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暗灰色云块密布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雨雪连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积云迅速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成高大云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乌云密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雷雨冰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170028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71640" y="404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云的光彩简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684360" y="1052640"/>
          <a:ext cx="7704000" cy="4824360"/>
        </p:xfrm>
        <a:graphic>
          <a:graphicData uri="http://schemas.openxmlformats.org/drawingml/2006/table">
            <a:tbl>
              <a:tblPr/>
              <a:tblGrid>
                <a:gridCol w="1008000"/>
                <a:gridCol w="3095640"/>
                <a:gridCol w="1368360"/>
                <a:gridCol w="223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色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产生在高层云上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分布在日月周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里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外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日晕三更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月晕午时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产生在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边缘部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里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外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华环由小变大，转晴；由大变小，转阴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雨过天晴，在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对面的云幕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彩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圆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东虹轰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西虹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早、晚，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照着对面的云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变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朝霞不出门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雨</a:t>
                      </a: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晚霞行千里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2521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bec"/>
                </a:solidFill>
                <a:latin typeface="Comic Sans MS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7" name="" descr="bar0024.gif (5555 字节)"/>
          <p:cNvPicPr/>
          <p:nvPr/>
        </p:nvPicPr>
        <p:blipFill>
          <a:blip r:embed="rId1"/>
          <a:stretch/>
        </p:blipFill>
        <p:spPr>
          <a:xfrm>
            <a:off x="0" y="1484280"/>
            <a:ext cx="8381880" cy="135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bar0024.gif (5555 字节)"/>
          <p:cNvPicPr/>
          <p:nvPr/>
        </p:nvPicPr>
        <p:blipFill>
          <a:blip r:embed="rId2"/>
          <a:stretch/>
        </p:blipFill>
        <p:spPr>
          <a:xfrm>
            <a:off x="395280" y="1268280"/>
            <a:ext cx="4648320" cy="74880"/>
          </a:xfrm>
          <a:prstGeom prst="rect">
            <a:avLst/>
          </a:prstGeom>
          <a:ln w="0">
            <a:noFill/>
          </a:ln>
        </p:spPr>
      </p:pic>
      <p:grpSp>
        <p:nvGrpSpPr>
          <p:cNvPr id="939" name=""/>
          <p:cNvGrpSpPr/>
          <p:nvPr/>
        </p:nvGrpSpPr>
        <p:grpSpPr>
          <a:xfrm>
            <a:off x="8763120" y="3162240"/>
            <a:ext cx="290520" cy="495360"/>
            <a:chOff x="8763120" y="3162240"/>
            <a:chExt cx="290520" cy="495360"/>
          </a:xfrm>
        </p:grpSpPr>
        <p:grpSp>
          <p:nvGrpSpPr>
            <p:cNvPr id="940" name=""/>
            <p:cNvGrpSpPr/>
            <p:nvPr/>
          </p:nvGrpSpPr>
          <p:grpSpPr>
            <a:xfrm>
              <a:off x="8763120" y="3162240"/>
              <a:ext cx="290520" cy="495360"/>
              <a:chOff x="8763120" y="3162240"/>
              <a:chExt cx="290520" cy="495360"/>
            </a:xfrm>
          </p:grpSpPr>
          <p:sp>
            <p:nvSpPr>
              <p:cNvPr id="941" name=""/>
              <p:cNvSpPr/>
              <p:nvPr/>
            </p:nvSpPr>
            <p:spPr>
              <a:xfrm>
                <a:off x="8763120" y="3162240"/>
                <a:ext cx="29052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00b200"/>
                    </a:solidFill>
                    <a:uFillTx/>
                    <a:latin typeface="宋体"/>
                    <a:hlinkClick r:id="rId3"/>
                  </a:rPr>
                  <a:t>  </a:t>
                </a:r>
                <a:r>
                  <a:rPr b="0" lang="zh-CN" sz="2900" spc="-1" strike="noStrike">
                    <a:solidFill>
                      <a:srgbClr val="0033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3300"/>
                    </a:solidFill>
                    <a:latin typeface="宋体"/>
                  </a:rPr>
                  <a:t>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763120" y="3162240"/>
                <a:ext cx="29052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8763120" y="3162240"/>
              <a:ext cx="290520" cy="495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5373720"/>
            <a:ext cx="2133720" cy="1326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611280" y="1557360"/>
            <a:ext cx="79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叙文中，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比喻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一种修辞方法；说明文中，运用比喻来说明事物，叫做比喻说明法，一般简称为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打比方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课文中打比方的运用，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使得行文生动活泼，饶有趣味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请仿照示例造句，从形状入手，展开充分的想像和联想，既考虑静态，又兼顾动态，以求动静结合之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天上的云……像峰峦，像河流，像雄狮，像奔马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造句：（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夜幕四合，周围的群山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远处的霓虹灯亮了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95640" y="620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揣摩语言的生动形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58920" y="4437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像驼峰，像闸门，像卧佛、像长蛇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58920" y="530064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像眼睛，像流星，像彩绸，像长虹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00000" y="47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bec"/>
                </a:solidFill>
                <a:latin typeface="Comic Sans MS"/>
              </a:rPr>
              <a:t>积累文中的有关谚语，了解识别天气变化的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71640" y="1989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文中出现的谚语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smile12.gif (25670 字节)"/>
          <p:cNvPicPr/>
          <p:nvPr/>
        </p:nvPicPr>
        <p:blipFill>
          <a:blip r:embed="rId1"/>
          <a:stretch/>
        </p:blipFill>
        <p:spPr>
          <a:xfrm>
            <a:off x="755640" y="4653000"/>
            <a:ext cx="1506600" cy="150660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655640" cy="155268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476360" y="2637000"/>
            <a:ext cx="5543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日晕三更雨，月晕午时风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东虹轰隆西虹雨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朝霞不出门，晚霞行千里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6048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雨天边亮，无雨头顶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自东北起，必定有风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花花云，地上晒死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钩钩云，地上雨淋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棉花云，雨快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晕三更雨，月晕午时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亮生毛，大雨冲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鲤鱼斑，明天晒谷不用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往东，刮阵风；云往西，披蓑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山戴帽，大雨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吃雾下，雾吃云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黑猪过河，大雨滂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-186840" y="476280"/>
            <a:ext cx="16426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60bec"/>
                </a:solidFill>
                <a:latin typeface="Comic Sans MS"/>
              </a:rPr>
              <a:t>部分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17874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9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38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快速阅读课文，概括课文内容要点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②理清文章的思路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③领会运用比喻的妙处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④培养观察自然的兴趣和留心自然现象的习惯。 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002.gif (9401 字节)"/>
          <p:cNvPicPr/>
          <p:nvPr/>
        </p:nvPicPr>
        <p:blipFill>
          <a:blip r:embed="rId2"/>
          <a:stretch/>
        </p:blipFill>
        <p:spPr>
          <a:xfrm>
            <a:off x="392436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line003.gif (11170 字节)"/>
          <p:cNvPicPr/>
          <p:nvPr/>
        </p:nvPicPr>
        <p:blipFill>
          <a:blip r:embed="rId3"/>
          <a:stretch/>
        </p:blipFill>
        <p:spPr>
          <a:xfrm>
            <a:off x="0" y="2133720"/>
            <a:ext cx="8305920" cy="1443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line003.gif (11170 字节)"/>
          <p:cNvPicPr/>
          <p:nvPr/>
        </p:nvPicPr>
        <p:blipFill>
          <a:blip r:embed="rId4"/>
          <a:stretch/>
        </p:blipFill>
        <p:spPr>
          <a:xfrm>
            <a:off x="684360" y="404640"/>
            <a:ext cx="98280" cy="5943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620640"/>
            <a:ext cx="2232000" cy="138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456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f7057"/>
                </a:solidFill>
                <a:latin typeface="Arial"/>
              </a:rPr>
              <a:t>部分成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61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年之计在于春     春暖花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春风得意                春风化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七月流火                吴牛喘月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秋山寒林                秋高气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叶知秋                秋毫之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日三秋                雪窖冰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数九天气                雪上加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9" name="" descr="smile12.gif (25670 字节)"/>
          <p:cNvPicPr/>
          <p:nvPr/>
        </p:nvPicPr>
        <p:blipFill>
          <a:blip r:embed="rId2"/>
          <a:stretch/>
        </p:blipFill>
        <p:spPr>
          <a:xfrm>
            <a:off x="7236000" y="4797360"/>
            <a:ext cx="150624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816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合作探究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为什么有时是白色的，有时是黑色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虹、晕、华、霞等云彩是怎么形成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形成研究报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2" name="" descr="line003.gif (11170 字节)"/>
          <p:cNvPicPr/>
          <p:nvPr/>
        </p:nvPicPr>
        <p:blipFill>
          <a:blip r:embed="rId2"/>
          <a:stretch/>
        </p:blipFill>
        <p:spPr>
          <a:xfrm>
            <a:off x="0" y="1268280"/>
            <a:ext cx="8305920" cy="1447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684360" y="1340280"/>
            <a:ext cx="880416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2228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7885080" y="177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655640" cy="15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404640"/>
            <a:ext cx="743040" cy="10861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4"/>
          <a:stretch/>
        </p:blipFill>
        <p:spPr>
          <a:xfrm>
            <a:off x="324000" y="4813200"/>
            <a:ext cx="1871640" cy="1511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读一读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71640" y="1557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5640" y="1628640"/>
            <a:ext cx="80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轻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崩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弥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间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万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)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变化无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1700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35280" y="1557360"/>
            <a:ext cx="676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luán        zhào         y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yún          ta           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zhào           s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79280" y="236520"/>
            <a:ext cx="8172720" cy="66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听读课文，思考：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．云和天气到底有怎样的关系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找原文的句子）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．本文主要介绍了哪些云及其光彩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它们各有怎样的特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别预示怎样的天气情况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请你设计一种表格来完成，看谁设计的好。 四人小组合作学习，共同完成上述题目。）</a:t>
            </a:r>
            <a:r>
              <a:rPr b="0" lang="zh-CN" sz="2800" spc="-1" strike="noStrike">
                <a:solidFill>
                  <a:srgbClr val="060be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云的光彩简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bec"/>
                </a:solidFill>
                <a:latin typeface="Comic Sans MS"/>
              </a:rPr>
              <a:t>天空的薄云，往往是天气晴朗的象征；那些低而厚密的云层，常常是阴雨风雪的预兆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7308720" y="3716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520" y="7300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下面是我们搜集到的各种云的图片，请同学们欣赏。每幅照片包括下列文字内容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496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云的名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云的特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天气情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096920" y="2309760"/>
            <a:ext cx="6950160" cy="2195280"/>
            <a:chOff x="1096920" y="2309760"/>
            <a:chExt cx="6950160" cy="2195280"/>
          </a:xfrm>
        </p:grpSpPr>
        <p:sp>
          <p:nvSpPr>
            <p:cNvPr id="840" name=""/>
            <p:cNvSpPr/>
            <p:nvPr/>
          </p:nvSpPr>
          <p:spPr>
            <a:xfrm>
              <a:off x="1096920" y="2309760"/>
              <a:ext cx="6950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96920" y="2309760"/>
              <a:ext cx="6950160" cy="21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2" name="" descr="01-09-008-04.gif (22138 字节)"/>
          <p:cNvPicPr/>
          <p:nvPr/>
        </p:nvPicPr>
        <p:blipFill>
          <a:blip r:embed="rId2"/>
          <a:stretch/>
        </p:blipFill>
        <p:spPr>
          <a:xfrm>
            <a:off x="6553080" y="4114800"/>
            <a:ext cx="2194200" cy="21938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line003.gif (11170 字节)"/>
          <p:cNvPicPr/>
          <p:nvPr/>
        </p:nvPicPr>
        <p:blipFill>
          <a:blip r:embed="rId3"/>
          <a:stretch/>
        </p:blipFill>
        <p:spPr>
          <a:xfrm>
            <a:off x="395280" y="2708280"/>
            <a:ext cx="8305920" cy="1443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淡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0" y="5734080"/>
            <a:ext cx="9144000" cy="914400"/>
            <a:chOff x="0" y="5734080"/>
            <a:chExt cx="9144000" cy="914400"/>
          </a:xfrm>
        </p:grpSpPr>
        <p:grpSp>
          <p:nvGrpSpPr>
            <p:cNvPr id="850" name=""/>
            <p:cNvGrpSpPr/>
            <p:nvPr/>
          </p:nvGrpSpPr>
          <p:grpSpPr>
            <a:xfrm>
              <a:off x="0" y="5734080"/>
              <a:ext cx="9144000" cy="914400"/>
              <a:chOff x="0" y="5734080"/>
              <a:chExt cx="9144000" cy="91440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0" y="5734080"/>
                <a:ext cx="9144000" cy="914400"/>
                <a:chOff x="0" y="5734080"/>
                <a:chExt cx="9144000" cy="9144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0" y="5734080"/>
                  <a:ext cx="84121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3" name=""/>
                <p:cNvGrpSpPr/>
                <p:nvPr/>
              </p:nvGrpSpPr>
              <p:grpSpPr>
                <a:xfrm>
                  <a:off x="0" y="5734080"/>
                  <a:ext cx="9144000" cy="157320"/>
                  <a:chOff x="0" y="5734080"/>
                  <a:chExt cx="9144000" cy="15732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0" y="5734080"/>
                    <a:ext cx="9144000" cy="15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0" y="5734080"/>
                    <a:ext cx="9144000" cy="150120"/>
                    <a:chOff x="0" y="5734080"/>
                    <a:chExt cx="9144000" cy="15012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0" y="5734080"/>
                      <a:ext cx="9144000" cy="15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0" y="5734080"/>
                      <a:ext cx="9144000" cy="15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底部较平，顶部凸起，云块之间多不相连而孤立存在，它所带来的好天气常常比较稳定持续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8" name=""/>
              <p:cNvSpPr/>
              <p:nvPr/>
            </p:nvSpPr>
            <p:spPr>
              <a:xfrm>
                <a:off x="0" y="5734080"/>
                <a:ext cx="9144000" cy="91440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0" y="5734080"/>
              <a:ext cx="9144000" cy="914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积雨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-127476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grpSp>
          <p:nvGrpSpPr>
            <p:cNvPr id="865" name=""/>
            <p:cNvGrpSpPr/>
            <p:nvPr/>
          </p:nvGrpSpPr>
          <p:grpSpPr>
            <a:xfrm>
              <a:off x="0" y="5486400"/>
              <a:ext cx="9144000" cy="1371600"/>
              <a:chOff x="0" y="5486400"/>
              <a:chExt cx="9144000" cy="137160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0" y="5486400"/>
                <a:ext cx="9144000" cy="1371600"/>
                <a:chOff x="0" y="5486400"/>
                <a:chExt cx="9144000" cy="13716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0" y="5486400"/>
                  <a:ext cx="610092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"/>
                <p:cNvGrpSpPr/>
                <p:nvPr/>
              </p:nvGrpSpPr>
              <p:grpSpPr>
                <a:xfrm>
                  <a:off x="0" y="5486400"/>
                  <a:ext cx="9144000" cy="235800"/>
                  <a:chOff x="0" y="5486400"/>
                  <a:chExt cx="9144000" cy="23580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0" y="5486400"/>
                    <a:ext cx="6631560" cy="23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0" y="5486400"/>
                    <a:ext cx="9144000" cy="22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云浓而厚，云体庞大如耸立高山，顶部开始冻结，轮廓模糊，有的有毛丝般纤维结构，底部十分阴暗，起伏明显，常带来阴雨天气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1" name=""/>
              <p:cNvSpPr/>
              <p:nvPr/>
            </p:nvSpPr>
            <p:spPr>
              <a:xfrm>
                <a:off x="0" y="5486400"/>
                <a:ext cx="9144000" cy="137160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0" y="5486400"/>
              <a:ext cx="9144000" cy="1371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层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10746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0" y="5464080"/>
            <a:ext cx="9144000" cy="1393920"/>
            <a:chOff x="0" y="5464080"/>
            <a:chExt cx="9144000" cy="1393920"/>
          </a:xfrm>
        </p:grpSpPr>
        <p:grpSp>
          <p:nvGrpSpPr>
            <p:cNvPr id="878" name=""/>
            <p:cNvGrpSpPr/>
            <p:nvPr/>
          </p:nvGrpSpPr>
          <p:grpSpPr>
            <a:xfrm>
              <a:off x="0" y="5464080"/>
              <a:ext cx="9144000" cy="1393920"/>
              <a:chOff x="0" y="5464080"/>
              <a:chExt cx="9144000" cy="139392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0" y="5464080"/>
                <a:ext cx="9144000" cy="1393560"/>
                <a:chOff x="0" y="5464080"/>
                <a:chExt cx="9144000" cy="139356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0" y="5464080"/>
                  <a:ext cx="6300720" cy="13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0" y="5464080"/>
                  <a:ext cx="9144000" cy="239400"/>
                  <a:chOff x="0" y="5464080"/>
                  <a:chExt cx="9144000" cy="23940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0" y="5464080"/>
                    <a:ext cx="6849000" cy="23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0" y="5464080"/>
                    <a:ext cx="9144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为结构稀松的大团块</a:t>
                    </a: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Times New Roman"/>
                        <a:ea typeface="_x000b__x000c_"/>
                      </a:rPr>
                      <a:t>、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大云条组成，常成行、成群或波状排列，这种云又称雷雨云或冰川云。它能带来雷暴雨的天气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4" name=""/>
              <p:cNvSpPr/>
              <p:nvPr/>
            </p:nvSpPr>
            <p:spPr>
              <a:xfrm>
                <a:off x="0" y="5464080"/>
                <a:ext cx="9144000" cy="139392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0" y="5464080"/>
              <a:ext cx="9144000" cy="139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絮状高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-133524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0" y="5562720"/>
            <a:ext cx="9144000" cy="1295280"/>
            <a:chOff x="0" y="5562720"/>
            <a:chExt cx="9144000" cy="1295280"/>
          </a:xfrm>
        </p:grpSpPr>
        <p:grpSp>
          <p:nvGrpSpPr>
            <p:cNvPr id="891" name="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0" y="5562720"/>
                <a:ext cx="9144000" cy="1295280"/>
                <a:chOff x="0" y="5562720"/>
                <a:chExt cx="9144000" cy="12952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0" y="5562720"/>
                  <a:ext cx="604296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0" y="5562720"/>
                  <a:ext cx="9144000" cy="465840"/>
                  <a:chOff x="0" y="5562720"/>
                  <a:chExt cx="9144000" cy="4658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0" y="5562720"/>
                    <a:ext cx="6568920" cy="22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0" y="5562720"/>
                    <a:ext cx="9144000" cy="465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絮状高积云是降水发展的标志，民间有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"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棉花云，雨快临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"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的说法，在它开始形成后的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15-20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小时内有可能带来雨水天气。</a:t>
                    </a:r>
                    <a:br>
                      <a:rPr sz="2800"/>
                    </a:br>
                    <a:br>
                      <a:rPr sz="2800"/>
                    </a:b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Times New Roman"/>
                        <a:ea typeface="_x000b__x000c_"/>
                      </a:rPr>
                      <a:t>　　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0" y="5562720"/>
                <a:ext cx="9144000" cy="129528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0" y="5562720"/>
              <a:ext cx="9144000" cy="1295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35:53Z</dcterms:created>
  <dc:creator>wutao</dc:creator>
  <dc:description/>
  <dc:language>en-US</dc:language>
  <cp:lastModifiedBy>zyb</cp:lastModifiedBy>
  <dcterms:modified xsi:type="dcterms:W3CDTF">2004-11-30T02:11:36Z</dcterms:modified>
  <cp:revision>100</cp:revision>
  <dc:subject/>
  <dc:title>看云识天气</dc:title>
</cp:coreProperties>
</file>