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20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8.wmf" ContentType="image/x-wmf"/>
  <Override PartName="/ppt/media/image3.png" ContentType="image/png"/>
  <Override PartName="/ppt/media/image17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25F-26FB-49B7-98C7-1A9DEC93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C1C-EBBB-438D-8ACD-3C52BE35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1F3-BD2D-4EBD-86C2-E16892DF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56D-B4B8-42A7-AE00-3FA692B2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64F-DB74-43A8-AE52-76B5748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298F-8C50-4AA4-A307-9C3AD80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A60-D8F0-466B-9560-2C9F167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019-E07C-4932-9E0F-8FD9D80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F95-8C2B-408F-B061-04814810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F29-0215-46CC-B49B-34DDE06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6F9-27CF-4E1C-9741-838C16B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03E-4646-49FA-8458-B2A6A33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23DA-16B8-4736-8730-C2A41BE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2AF-1D23-4602-8B3D-CF1C3E7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1D5-C69F-4BE2-919D-8C2D3BFE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8D5-A485-45D9-A0A6-CAF17FC2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F30-6324-4D2B-8767-CF299BB8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728-AC1F-4707-9BC4-8AF66002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8F3-D566-4FB0-B901-5C6FD58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1C9-E221-4A3F-9E13-C4FE2C42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419-2A33-4256-A4D7-134B8087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3E2-C561-4B30-8CBC-96CCBF7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484-F281-4B32-9B9D-BEB3B08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6C1-2C9A-4D81-B5E8-ED2690C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933-366B-43E1-B89A-FB3B8534328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210-EBC3-4DBD-A705-0E32619904B3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H0126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H0125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228600" y="6172200"/>
            <a:ext cx="457200" cy="380880"/>
          </a:xfrm>
          <a:custGeom>
            <a:avLst/>
            <a:gdLst>
              <a:gd name="textAreaLeft" fmla="*/ 77760 w 457200"/>
              <a:gd name="textAreaRight" fmla="*/ 379440 w 45720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1514" y="4410"/>
                </a:lnTo>
                <a:lnTo>
                  <a:pt x="4410" y="441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1514" y="17190"/>
                </a:lnTo>
                <a:lnTo>
                  <a:pt x="21514" y="441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4410" y="17190"/>
                </a:lnTo>
                <a:lnTo>
                  <a:pt x="21514" y="1719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4410" y="4410"/>
                </a:lnTo>
                <a:lnTo>
                  <a:pt x="4410" y="17190"/>
                </a:lnTo>
                <a:close/>
              </a:path>
              <a:path fill="darken" w="25924" h="21600">
                <a:moveTo>
                  <a:pt x="8199" y="10800"/>
                </a:moveTo>
                <a:lnTo>
                  <a:pt x="17725" y="6037"/>
                </a:lnTo>
                <a:lnTo>
                  <a:pt x="17725" y="15563"/>
                </a:lnTo>
                <a:close/>
              </a:path>
            </a:pathLst>
          </a:custGeom>
          <a:solidFill>
            <a:srgbClr val="933ae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D0723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3581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933ae4"/>
                </a:solidFill>
                <a:latin typeface="Times New Roman"/>
              </a:rPr>
              <a:t>事理说明文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895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33ae4"/>
                </a:solidFill>
                <a:latin typeface="Times New Roman"/>
                <a:ea typeface="华文琥珀"/>
              </a:rPr>
              <a:t>看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3623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33ae4"/>
                </a:solidFill>
                <a:latin typeface="Times New Roman"/>
                <a:ea typeface="华文琥珀"/>
              </a:rPr>
              <a:t>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52b5e"/>
                </a:solidFill>
                <a:latin typeface="Times New Roman"/>
                <a:ea typeface="华文琥珀"/>
              </a:rPr>
              <a:t>云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514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52b5e"/>
                </a:solidFill>
                <a:latin typeface="Times New Roman"/>
                <a:ea typeface="华文琥珀"/>
              </a:rPr>
              <a:t>天气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BS00979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21292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HH00546_" descr=""/>
          <p:cNvPicPr/>
          <p:nvPr/>
        </p:nvPicPr>
        <p:blipFill>
          <a:blip r:embed="rId3"/>
          <a:stretch/>
        </p:blipFill>
        <p:spPr>
          <a:xfrm>
            <a:off x="6781680" y="5257800"/>
            <a:ext cx="2124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H02276J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114300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理清文章思路，标明结构脉络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25211d"/>
                </a:solidFill>
                <a:latin typeface="黑体"/>
                <a:ea typeface="黑体"/>
              </a:rPr>
              <a:t>、理解云的形态与天气变化的关系，并尽可能的在实际中得到应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581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、感受本文的语言特色，并尝试着运用到自己的写作中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25211d"/>
                </a:solidFill>
                <a:latin typeface="Times New Roman"/>
                <a:ea typeface="黑体"/>
              </a:rPr>
              <a:t>、继续学习几种常用的说明方法：分类别、打比方、作诠释、作比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85800"/>
            <a:ext cx="2362320" cy="762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华文琥珀"/>
              </a:rPr>
              <a:t>学习目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H02971J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5320" y="609480"/>
            <a:ext cx="2590560" cy="914400"/>
          </a:xfrm>
          <a:prstGeom prst="bevel">
            <a:avLst>
              <a:gd name="adj" fmla="val 12500"/>
            </a:avLst>
          </a:prstGeom>
          <a:solidFill>
            <a:srgbClr val="25211d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积累词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峰</a:t>
            </a: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峦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3048120"/>
            <a:ext cx="762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057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á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2590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绫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057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íng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590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粼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波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886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弥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漫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886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姿态万千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BD04915_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162920" y="4191120"/>
            <a:ext cx="187488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SO02060_" descr=""/>
          <p:cNvPicPr/>
          <p:nvPr/>
        </p:nvPicPr>
        <p:blipFill>
          <a:blip r:embed="rId4"/>
          <a:stretch/>
        </p:blipFill>
        <p:spPr>
          <a:xfrm>
            <a:off x="0" y="0"/>
            <a:ext cx="266076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057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í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3526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886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丝丝缕缕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105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崩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招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4382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133720"/>
            <a:ext cx="16765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4648320"/>
            <a:ext cx="17524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73392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581280"/>
            <a:ext cx="60984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343400"/>
            <a:ext cx="6098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60984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715000"/>
            <a:ext cx="6098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21932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95280"/>
            <a:ext cx="114300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114300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438280"/>
            <a:ext cx="152280" cy="266724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581280"/>
            <a:ext cx="9144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H02466U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667080" y="3124080"/>
            <a:ext cx="152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</a:rPr>
              <a:t>招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8023400">
            <a:off x="359280" y="2688120"/>
            <a:ext cx="1052640" cy="95400"/>
          </a:xfrm>
          <a:prstGeom prst="rightArrow">
            <a:avLst>
              <a:gd name="adj1" fmla="val 50000"/>
              <a:gd name="adj2" fmla="val 27584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600200"/>
            <a:ext cx="205740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云与天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924400">
            <a:off x="356400" y="4444200"/>
            <a:ext cx="943200" cy="131760"/>
          </a:xfrm>
          <a:prstGeom prst="rightArrow">
            <a:avLst>
              <a:gd name="adj1" fmla="val 50000"/>
              <a:gd name="adj2" fmla="val 178962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572000"/>
            <a:ext cx="2209680" cy="60948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光彩与天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9633800">
            <a:off x="3314880" y="1584000"/>
            <a:ext cx="730080" cy="111240"/>
          </a:xfrm>
          <a:prstGeom prst="rightArrow">
            <a:avLst>
              <a:gd name="adj1" fmla="val 50000"/>
              <a:gd name="adj2" fmla="val 164078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371600"/>
            <a:ext cx="137160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高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00200"/>
            <a:ext cx="533520" cy="76320"/>
          </a:xfrm>
          <a:prstGeom prst="rect">
            <a:avLst/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1371600"/>
            <a:ext cx="1752480" cy="53352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天气晴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783200">
            <a:off x="3311280" y="2134800"/>
            <a:ext cx="738000" cy="90360"/>
          </a:xfrm>
          <a:prstGeom prst="rightArrow">
            <a:avLst>
              <a:gd name="adj1" fmla="val 50000"/>
              <a:gd name="adj2" fmla="val 204183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209680"/>
            <a:ext cx="152388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低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438280"/>
            <a:ext cx="533520" cy="7632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209680"/>
            <a:ext cx="190476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阴雨风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9500000">
            <a:off x="3352680" y="434304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73392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028800">
            <a:off x="3352680" y="4723920"/>
            <a:ext cx="755640" cy="81000"/>
          </a:xfrm>
          <a:prstGeom prst="rightArrow">
            <a:avLst>
              <a:gd name="adj1" fmla="val 50000"/>
              <a:gd name="adj2" fmla="val 233222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434340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06400">
            <a:off x="3429000" y="4952880"/>
            <a:ext cx="784080" cy="77760"/>
          </a:xfrm>
          <a:prstGeom prst="rightArrow">
            <a:avLst>
              <a:gd name="adj1" fmla="val 50000"/>
              <a:gd name="adj2" fmla="val 252083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487692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05600">
            <a:off x="3352320" y="5334120"/>
            <a:ext cx="838440" cy="88920"/>
          </a:xfrm>
          <a:prstGeom prst="rightArrow">
            <a:avLst>
              <a:gd name="adj1" fmla="val 50000"/>
              <a:gd name="adj2" fmla="val 23572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685800" cy="457200"/>
          </a:xfrm>
          <a:prstGeom prst="rect">
            <a:avLst/>
          </a:prstGeom>
          <a:solidFill>
            <a:srgbClr val="7fddf3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14904600">
            <a:off x="7315200" y="2437920"/>
            <a:ext cx="1752120" cy="76320"/>
          </a:xfrm>
          <a:prstGeom prst="rightArrow">
            <a:avLst>
              <a:gd name="adj1" fmla="val 50000"/>
              <a:gd name="adj2" fmla="val 573939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8615000">
            <a:off x="7254000" y="4761720"/>
            <a:ext cx="1673280" cy="115920"/>
          </a:xfrm>
          <a:prstGeom prst="rightArrow">
            <a:avLst>
              <a:gd name="adj1" fmla="val 50000"/>
              <a:gd name="adj2" fmla="val 360870"/>
            </a:avLst>
          </a:prstGeom>
          <a:solidFill>
            <a:srgbClr val="43992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15000" y="2819520"/>
            <a:ext cx="729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</a:rPr>
              <a:t>目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019920"/>
            <a:ext cx="762120" cy="53316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6095880"/>
            <a:ext cx="762120" cy="4572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6019920"/>
            <a:ext cx="685800" cy="53316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895480"/>
            <a:ext cx="914400" cy="53352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895480"/>
            <a:ext cx="1066680" cy="53352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61722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24852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124080"/>
            <a:ext cx="1524240" cy="15264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c52b5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28600"/>
            <a:ext cx="2438640" cy="838080"/>
          </a:xfrm>
          <a:prstGeom prst="bevel">
            <a:avLst>
              <a:gd name="adj" fmla="val 12500"/>
            </a:avLst>
          </a:prstGeom>
          <a:solidFill>
            <a:srgbClr val="978ce6"/>
          </a:solidFill>
          <a:ln w="9360">
            <a:solidFill>
              <a:srgbClr val="5b5249"/>
            </a:solidFill>
            <a:miter/>
          </a:ln>
          <a:effectLst>
            <a:outerShdw dist="153753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aee84"/>
                </a:solidFill>
                <a:latin typeface="Times New Roman"/>
                <a:ea typeface="隶书"/>
              </a:rPr>
              <a:t>结构脉络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H01191J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3880" y="320040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2514600"/>
            <a:ext cx="152640" cy="2590920"/>
          </a:xfrm>
          <a:custGeom>
            <a:avLst/>
            <a:gdLst>
              <a:gd name="textAreaLeft" fmla="*/ 97560 w 152640"/>
              <a:gd name="textAreaRight" fmla="*/ 153000 w 152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057400"/>
            <a:ext cx="99036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26708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3716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9528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590920"/>
            <a:ext cx="990720" cy="99036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590920"/>
            <a:ext cx="990720" cy="99036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2438280"/>
            <a:ext cx="152280" cy="259092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33ae4"/>
          </a:solidFill>
          <a:ln w="9360">
            <a:solidFill>
              <a:srgbClr val="c52b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3200400"/>
            <a:ext cx="990720" cy="990720"/>
          </a:xfrm>
          <a:prstGeom prst="ellipse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638680"/>
            <a:ext cx="990720" cy="99072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594360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5638680"/>
            <a:ext cx="990720" cy="99072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94360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914400" cy="91440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3581280"/>
            <a:ext cx="609480" cy="60984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25211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3581280"/>
            <a:ext cx="609480" cy="609840"/>
          </a:xfrm>
          <a:prstGeom prst="ellipse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990720"/>
            <a:ext cx="1828800" cy="761760"/>
          </a:xfrm>
          <a:prstGeom prst="wedgeRectCallout">
            <a:avLst>
              <a:gd name="adj1" fmla="val 50606"/>
              <a:gd name="adj2" fmla="val 9624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承上启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14400" y="15238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52b5e"/>
                </a:solidFill>
                <a:latin typeface="Times New Roman"/>
                <a:ea typeface="隶书"/>
              </a:rPr>
              <a:t>比喻、排比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33ae4"/>
                </a:solidFill>
                <a:latin typeface="Times New Roman"/>
              </a:rPr>
              <a:t>作用在于使所要说明的事物更加生动形象，而且使文章富有文采，激发人们的阅读兴趣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7396"/>
                </a:moveTo>
                <a:lnTo>
                  <a:pt x="17806" y="14403"/>
                </a:lnTo>
                <a:lnTo>
                  <a:pt x="3794" y="2140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85800" y="1676520"/>
          <a:ext cx="8000640" cy="4571640"/>
        </p:xfrm>
        <a:graphic>
          <a:graphicData uri="http://schemas.openxmlformats.org/drawingml/2006/table">
            <a:tbl>
              <a:tblPr/>
              <a:tblGrid>
                <a:gridCol w="1799280"/>
                <a:gridCol w="2502000"/>
                <a:gridCol w="369936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种类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形状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天气的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高积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133720" y="914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3ae4"/>
                </a:solidFill>
                <a:latin typeface="Times New Roman"/>
                <a:ea typeface="华文彩云"/>
              </a:rPr>
              <a:t>高层云——天气晴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25909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羽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909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阳光可以透过它照到地面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会带来雨雪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5053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鳞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5053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它不会带来雨雪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419720"/>
            <a:ext cx="2438280" cy="91440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棉花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4419720"/>
            <a:ext cx="3581280" cy="91440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天空映着温和的阳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334120"/>
            <a:ext cx="2438280" cy="83808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羊群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5334120"/>
            <a:ext cx="3581280" cy="838080"/>
          </a:xfrm>
          <a:prstGeom prst="rect">
            <a:avLst/>
          </a:prstGeom>
          <a:solidFill>
            <a:srgbClr val="daee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云块间露出碧蓝的天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NA01440_" descr=""/>
          <p:cNvPicPr/>
          <p:nvPr/>
        </p:nvPicPr>
        <p:blipFill>
          <a:blip r:embed="rId1"/>
          <a:stretch/>
        </p:blipFill>
        <p:spPr>
          <a:xfrm>
            <a:off x="6324480" y="0"/>
            <a:ext cx="1613160" cy="1676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762120" y="1905120"/>
          <a:ext cx="8153280" cy="4647960"/>
        </p:xfrm>
        <a:graphic>
          <a:graphicData uri="http://schemas.openxmlformats.org/drawingml/2006/table">
            <a:tbl>
              <a:tblPr/>
              <a:tblGrid>
                <a:gridCol w="1676160"/>
                <a:gridCol w="2895840"/>
                <a:gridCol w="358128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种类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云的形状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天气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卷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高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雨层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雨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0948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华文彩云"/>
              </a:rPr>
              <a:t>低层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447920"/>
            <a:ext cx="609840" cy="0"/>
          </a:xfrm>
          <a:prstGeom prst="line">
            <a:avLst/>
          </a:prstGeom>
          <a:ln w="9360">
            <a:solidFill>
              <a:srgbClr val="5ecc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143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华文彩云"/>
              </a:rPr>
              <a:t>阴晴雨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1" name="NA00572_" descr=""/>
          <p:cNvPicPr/>
          <p:nvPr/>
        </p:nvPicPr>
        <p:blipFill>
          <a:blip r:embed="rId1"/>
          <a:stretch/>
        </p:blipFill>
        <p:spPr>
          <a:xfrm>
            <a:off x="6553080" y="0"/>
            <a:ext cx="2346480" cy="2514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38280" y="2743200"/>
            <a:ext cx="2819520" cy="99072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仿佛白色绸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743200"/>
            <a:ext cx="3581280" cy="99072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它向前推进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天气将转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73392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像毛玻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733920"/>
            <a:ext cx="350496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它预示着将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下雨或下雪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64832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布满天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648320"/>
            <a:ext cx="350496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连绵不断的雨雪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就要开始下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638680"/>
            <a:ext cx="281952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形成高大的云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5638680"/>
            <a:ext cx="3581280" cy="9144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马上就会下暴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H0125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01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086600" y="518328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232" name="NA01681_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920" y="5073480"/>
            <a:ext cx="1904760" cy="178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133720" y="7621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33ae4"/>
                </a:solidFill>
                <a:latin typeface="Times New Roman"/>
                <a:ea typeface="华文彩云"/>
              </a:rPr>
              <a:t>云的光彩与天气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" name="NA01682_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086600" y="228600"/>
            <a:ext cx="1752480" cy="1467000"/>
          </a:xfrm>
          <a:prstGeom prst="rect">
            <a:avLst/>
          </a:prstGeom>
          <a:ln w="0">
            <a:noFill/>
          </a:ln>
        </p:spPr>
      </p:pic>
      <p:pic>
        <p:nvPicPr>
          <p:cNvPr id="235" name="NA01683_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80880" y="228600"/>
            <a:ext cx="167652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228600" y="1676520"/>
          <a:ext cx="8610480" cy="4576680"/>
        </p:xfrm>
        <a:graphic>
          <a:graphicData uri="http://schemas.openxmlformats.org/drawingml/2006/table">
            <a:tbl>
              <a:tblPr/>
              <a:tblGrid>
                <a:gridCol w="914400"/>
                <a:gridCol w="2743200"/>
                <a:gridCol w="1371600"/>
                <a:gridCol w="358128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色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晕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华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  <a:ea typeface="黑体"/>
                        </a:rPr>
                        <a:t>霞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143000" y="25909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产生在卷层云上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分布在日月周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5909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里红外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25909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日晕三更雨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月晕午时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5053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产生在高积云边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部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5053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里紫外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053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华环由小变大，转晴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由大变小，转阴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44197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雨过天晴，在太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对面的云幕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44197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彩色圆弧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44197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东虹轰隆西虹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5334120"/>
            <a:ext cx="27432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早、晚，太阳照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云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5334120"/>
            <a:ext cx="137160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云层变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5334120"/>
            <a:ext cx="3581280" cy="914400"/>
          </a:xfrm>
          <a:prstGeom prst="rect">
            <a:avLst/>
          </a:prstGeom>
          <a:solidFill>
            <a:srgbClr val="5ecc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朝霞不出门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2b5e"/>
                </a:solidFill>
                <a:latin typeface="Times New Roman"/>
              </a:rPr>
              <a:t>晚霞行千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H02971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43200" y="762120"/>
            <a:ext cx="3505320" cy="99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2ac6"/>
                </a:solidFill>
                <a:latin typeface="Times New Roman"/>
                <a:ea typeface="华文中宋"/>
              </a:rPr>
              <a:t>说明方法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" name="PH01120J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477120" y="5068800"/>
            <a:ext cx="2666880" cy="1789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52480" y="1981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一、分类别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2590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3ae4"/>
                </a:solidFill>
                <a:latin typeface="Times New Roman"/>
                <a:ea typeface="黑体"/>
              </a:rPr>
              <a:t>（条理清楚，层次分明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124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二、作诠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3809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三、打比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四、作比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  <a:ea typeface="黑体"/>
              </a:rPr>
              <a:t>五、引用谚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5867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2b5e"/>
                </a:solidFill>
                <a:latin typeface="Times New Roman"/>
              </a:rPr>
              <a:t>（增强文章的说服力和趣味性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971800" y="1295280"/>
            <a:ext cx="2819520" cy="91440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作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514600"/>
            <a:ext cx="6400800" cy="15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52b5e"/>
                </a:solidFill>
                <a:latin typeface="Times New Roman"/>
                <a:ea typeface="华文行楷"/>
              </a:rPr>
              <a:t>实践类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试着根据天空中的云彩形状，判断一下当天或第二天的天气情况，把结果写在教室后墙的黑板上，看谁预报的最准确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H0239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j01454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H01265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H0125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j01443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j0144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5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43:37Z</dcterms:created>
  <dc:creator>wutao</dc:creator>
  <dc:description/>
  <dc:language>en-US</dc:language>
  <cp:lastModifiedBy>qq</cp:lastModifiedBy>
  <dcterms:modified xsi:type="dcterms:W3CDTF">2004-11-25T14:08:39Z</dcterms:modified>
  <cp:revision>100</cp:revision>
  <dc:subject/>
  <dc:title>PowerPoint 演示文稿</dc:title>
</cp:coreProperties>
</file>