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6D2-BCDF-49DE-A144-2B171608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57C-7044-45C8-A569-DB4E9B1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33C-B95E-47AE-9F62-C84D1B1E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1C4-F510-42AA-862C-1ADCC4EC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D90-020D-4631-BC8A-46EF37DE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964-32D1-4C6A-AB57-8D1FB37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FC9-20E9-4208-9DC1-DEE20CF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FDF-67E4-4EC2-BE71-B43B4C37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62E-7335-49D9-BCA1-92C8D77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229-B472-49A3-95D9-BF16D0B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D89-64E8-4EF6-AF5F-DC5FA2A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32D-77A0-4523-98BD-1324D31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6E3-66D0-4E2B-9289-1C90C28B4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4.xml"/><Relationship Id="rId7" Type="http://schemas.openxmlformats.org/officeDocument/2006/relationships/slide" Target="slide20.xml"/><Relationship Id="rId8" Type="http://schemas.openxmlformats.org/officeDocument/2006/relationships/slide" Target="slide19.xml"/><Relationship Id="rId9" Type="http://schemas.openxmlformats.org/officeDocument/2006/relationships/slide" Target="slide18.xml"/><Relationship Id="rId10" Type="http://schemas.openxmlformats.org/officeDocument/2006/relationships/slide" Target="slide17.xml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5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792468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ffff00"/>
                    </a:gs>
                    <a:gs pos="100000">
                      <a:srgbClr val="66ff66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欢迎进入多媒体课堂</a:t>
            </a:r>
            <a:endParaRPr b="1" lang="en-US" sz="4000" spc="1" strike="noStrike">
              <a:ln w="12600">
                <a:solidFill>
                  <a:srgbClr val="333300"/>
                </a:solidFill>
                <a:prstDash val="sysDot"/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ffff00"/>
                  </a:gs>
                  <a:gs pos="100000">
                    <a:srgbClr val="66ff66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456840" y="6083280"/>
          <a:ext cx="290520" cy="86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6840" y="6083280"/>
                    <a:ext cx="290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753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雨雪冰雹云层变化</a:t>
            </a: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676520"/>
          <a:ext cx="8763120" cy="4341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  <a:gridCol w="2438280"/>
                <a:gridCol w="914400"/>
                <a:gridCol w="16765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  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卷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3623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3623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25146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2992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晴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352680"/>
            <a:ext cx="12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高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344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卷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27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42900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3429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2670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雨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3434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1911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0384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3434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积雨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525780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257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45720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文鼎粗魏碑简"/>
              </a:rPr>
              <a:t>云的光彩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280" y="1523880"/>
          <a:ext cx="8915400" cy="4648320"/>
        </p:xfrm>
        <a:graphic>
          <a:graphicData uri="http://schemas.openxmlformats.org/drawingml/2006/table">
            <a:tbl>
              <a:tblPr/>
              <a:tblGrid>
                <a:gridCol w="970200"/>
                <a:gridCol w="2840040"/>
                <a:gridCol w="1447560"/>
                <a:gridCol w="3657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色 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 气 征 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438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286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产生在卷云上，分布在日月的周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438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里红外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4290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产生在高积云的边缘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34290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里紫外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2438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日晕三更雨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华环由小变大，转晴；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419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267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过天晴，在太阳对面的云幕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4419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彩色圆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早、晚，太阳照着对面的云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410080"/>
            <a:ext cx="5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41008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云层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朝霞不出门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晚霞行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1089000" cy="1089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22800" y="838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6c695"/>
                </a:solidFill>
                <a:latin typeface="Arial"/>
                <a:ea typeface="隶书"/>
              </a:rPr>
              <a:t>活学活用  知识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05120" y="2514600"/>
            <a:ext cx="51530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你知道吗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7621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28195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4952880" y="4191120"/>
            <a:ext cx="1295640" cy="685800"/>
          </a:xfrm>
          <a:custGeom>
            <a:avLst/>
            <a:gdLst>
              <a:gd name="textAreaLeft" fmla="*/ 96840 w 1295640"/>
              <a:gd name="textAreaRight" fmla="*/ 1198800 w 129564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7748" y="3050"/>
                </a:lnTo>
                <a:lnTo>
                  <a:pt x="3050" y="305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7748" y="18550"/>
                </a:lnTo>
                <a:lnTo>
                  <a:pt x="37748" y="305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48" y="1855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69343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7621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8" action="ppaction://hlinksldjump"/>
          </p:cNvPr>
          <p:cNvSpPr/>
          <p:nvPr/>
        </p:nvSpPr>
        <p:spPr>
          <a:xfrm>
            <a:off x="28195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9" action="ppaction://hlinksldjump"/>
          </p:cNvPr>
          <p:cNvSpPr/>
          <p:nvPr/>
        </p:nvSpPr>
        <p:spPr>
          <a:xfrm>
            <a:off x="4952880" y="5410080"/>
            <a:ext cx="1295640" cy="685800"/>
          </a:xfrm>
          <a:custGeom>
            <a:avLst/>
            <a:gdLst>
              <a:gd name="textAreaLeft" fmla="*/ 96840 w 1295640"/>
              <a:gd name="textAreaRight" fmla="*/ 1198800 w 129564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7748" y="3050"/>
                </a:lnTo>
                <a:lnTo>
                  <a:pt x="3050" y="305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7748" y="18550"/>
                </a:lnTo>
                <a:lnTo>
                  <a:pt x="37748" y="305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48" y="1855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0" action="ppaction://hlinksldjump"/>
          </p:cNvPr>
          <p:cNvSpPr/>
          <p:nvPr/>
        </p:nvSpPr>
        <p:spPr>
          <a:xfrm>
            <a:off x="69343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8381880" y="6095880"/>
            <a:ext cx="5414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44760" y="620640"/>
            <a:ext cx="14094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丝丝缕缕地漂浮着，有时像一片白色的羽毛，有时像一块洁白的绫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04000" y="522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隶书"/>
              </a:rPr>
              <a:t>卷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55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41680" y="430200"/>
            <a:ext cx="115524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卷云成群成行地排列在空中 ，像微风吹过水面引起的粼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5940360" y="551664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卷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5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56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2720" y="304920"/>
            <a:ext cx="14094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像棉花团，上午出现，傍晚渐渐消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6588000" y="5084640"/>
            <a:ext cx="25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0" r="0" b="4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63160" y="304920"/>
            <a:ext cx="729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草原上洁白的羊群，成群的扁球状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5904000" y="548640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高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39480" y="533520"/>
            <a:ext cx="729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天空渐渐出现一层薄云，仿佛蒙上了白色的绸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012000" y="4941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0" r="0" b="5374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60240" y="22860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隔着云看太阳和月亮，就像隔了一层毛玻璃，朦胧不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324480" y="51055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64280" y="304920"/>
            <a:ext cx="6678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云压得更低、变得更厚，太阳和月亮都躲藏了起来，天空被暗灰色的云块密密层层地布满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6191280" y="54100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ing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228600"/>
            <a:ext cx="7467480" cy="1099440"/>
          </a:xfrm>
          <a:prstGeom prst="rect">
            <a:avLst/>
          </a:prstGeom>
          <a:solidFill>
            <a:srgbClr val="cccc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果展示  情景导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3716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师生展示在课外收集的一些关于天气的谚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666880"/>
            <a:ext cx="72388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黄云上下翻，将要下冰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云往东，刮阵风；云往西，披蓑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早上乌云盖，无雨也风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天上鲤鱼斑，明天晒谷不用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久晴大雾阴，久阴大雾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8520" y="762120"/>
            <a:ext cx="1826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形成高大的云山，群峰争奇，耸人天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300720" y="537372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3520" y="380880"/>
            <a:ext cx="7391160" cy="1099440"/>
          </a:xfrm>
          <a:prstGeom prst="rect">
            <a:avLst/>
          </a:prstGeom>
          <a:solidFill>
            <a:srgbClr val="64ba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美文研读  赏写结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627200"/>
            <a:ext cx="89154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找出文中你最喜欢的句子，分析其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下列四题中任选一题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隶书"/>
                <a:ea typeface="华文隶书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仿照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“天上的云</a:t>
            </a: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……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峰峦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河流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雄狮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奔马</a:t>
            </a: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……”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句式造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①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夜幕四合，周围的群山，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②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远处的霓虹灯亮了， 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或用比喻句续写下面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皎洁的月光照在地上，河边的杨柳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每当贾老师发怒的时候，他的眼睛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6" name="it" descr=""/>
          <p:cNvPicPr/>
          <p:nvPr/>
        </p:nvPicPr>
        <p:blipFill>
          <a:blip r:embed="rId2"/>
          <a:stretch/>
        </p:blipFill>
        <p:spPr>
          <a:xfrm>
            <a:off x="0" y="4572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u=3722868047,592337670&amp;gp=1" descr=""/>
          <p:cNvPicPr/>
          <p:nvPr/>
        </p:nvPicPr>
        <p:blipFill>
          <a:blip r:embed="rId3"/>
          <a:stretch/>
        </p:blipFill>
        <p:spPr>
          <a:xfrm>
            <a:off x="0" y="2286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1_28-3-326-410_2002101472626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209" name="u=3823220700,4208321053&amp;gp=1" descr=""/>
          <p:cNvPicPr/>
          <p:nvPr/>
        </p:nvPicPr>
        <p:blipFill>
          <a:blip r:embed="rId5"/>
          <a:stretch/>
        </p:blipFill>
        <p:spPr>
          <a:xfrm>
            <a:off x="4572000" y="2286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u=576763205,4144900629&amp;gp=0" descr=""/>
          <p:cNvPicPr/>
          <p:nvPr/>
        </p:nvPicPr>
        <p:blipFill>
          <a:blip r:embed="rId6"/>
          <a:stretch/>
        </p:blipFill>
        <p:spPr>
          <a:xfrm>
            <a:off x="4572000" y="4572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17524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看云识天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228600"/>
            <a:ext cx="7391520" cy="1099440"/>
          </a:xfrm>
          <a:prstGeom prst="rect">
            <a:avLst/>
          </a:prstGeom>
          <a:solidFill>
            <a:srgbClr val="86c6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美文美读  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00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学生自由朗读课文</a:t>
            </a:r>
            <a:r>
              <a:rPr b="1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。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括号前的字注音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04812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漫          一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点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 )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丝丝缕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峰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 )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纱    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12408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mí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　　　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s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zhuì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　　　　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uán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íng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685800"/>
            <a:ext cx="85345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默读课文</a:t>
            </a:r>
            <a:r>
              <a:rPr b="0" lang="zh-CN" sz="4400" spc="-1" strike="noStrike">
                <a:solidFill>
                  <a:srgbClr val="ff33cc"/>
                </a:solidFill>
                <a:latin typeface="华文隶书"/>
                <a:ea typeface="华文隶书"/>
              </a:rPr>
              <a:t>，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自主学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</a:t>
            </a:r>
            <a:r>
              <a:rPr b="0" lang="zh-CN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看云识天气最基本的经验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什么说“云是天气的招牌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95480"/>
            <a:ext cx="83055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分段阅读，合作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设计一种表格，列出云及其光彩的种类、特征和分别预示的天气情况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260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设计一种表格。列出云及其光彩的种类、特征和它们分别预示的天气情况。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26828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晴 天 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简 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989000"/>
          <a:ext cx="8610480" cy="4564080"/>
        </p:xfrm>
        <a:graphic>
          <a:graphicData uri="http://schemas.openxmlformats.org/drawingml/2006/table">
            <a:tbl>
              <a:tblPr/>
              <a:tblGrid>
                <a:gridCol w="1336680"/>
                <a:gridCol w="3213000"/>
                <a:gridCol w="1393920"/>
                <a:gridCol w="968400"/>
                <a:gridCol w="16984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5335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雨雪冰雹云层变化</a:t>
            </a: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676520"/>
          <a:ext cx="8763120" cy="4341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  <a:gridCol w="2438280"/>
                <a:gridCol w="914400"/>
                <a:gridCol w="16765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  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45720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文鼎粗魏碑简"/>
              </a:rPr>
              <a:t>云的光彩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1523880"/>
          <a:ext cx="8915400" cy="4648320"/>
        </p:xfrm>
        <a:graphic>
          <a:graphicData uri="http://schemas.openxmlformats.org/drawingml/2006/table">
            <a:tbl>
              <a:tblPr/>
              <a:tblGrid>
                <a:gridCol w="970200"/>
                <a:gridCol w="2840040"/>
                <a:gridCol w="1447560"/>
                <a:gridCol w="3657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色 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 气 征 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设计一种表格。列出云及其光彩的种类、特征和它们分别预示的天气情况。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6828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晴 天 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简 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989000"/>
          <a:ext cx="8610480" cy="4564080"/>
        </p:xfrm>
        <a:graphic>
          <a:graphicData uri="http://schemas.openxmlformats.org/drawingml/2006/table">
            <a:tbl>
              <a:tblPr/>
              <a:tblGrid>
                <a:gridCol w="1336680"/>
                <a:gridCol w="3213000"/>
                <a:gridCol w="1393920"/>
                <a:gridCol w="968400"/>
                <a:gridCol w="16984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28600" y="2819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 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666880"/>
            <a:ext cx="30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像羽毛像绫纱，丝丝缕缕地漂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81952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819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80988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6576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水面的鳞波，是成群成行的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3886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很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88620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很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72428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积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648320"/>
            <a:ext cx="30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648320"/>
            <a:ext cx="122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左右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80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800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7913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63868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草原上雪白的羊群，扁球状，排列整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56386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7913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791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7:48:11Z</dcterms:created>
  <dc:creator>wutao</dc:creator>
  <dc:description/>
  <dc:language>en-US</dc:language>
  <cp:lastModifiedBy>a</cp:lastModifiedBy>
  <dcterms:modified xsi:type="dcterms:W3CDTF">2004-12-16T05:22:45Z</dcterms:modified>
  <cp:revision>100</cp:revision>
  <dc:subject/>
  <dc:title>幻灯片 1</dc:title>
</cp:coreProperties>
</file>