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0.gif" ContentType="image/gif"/>
  <Override PartName="/ppt/media/image13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CAE-9E25-42DD-B4D9-414AB008B5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宠辱不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闲看庭前花开花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去留无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漫随天外云卷云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卷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卷积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积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峰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会儿，形容时间极短．－－－一霎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形容女子的动作，体态轻巧优美．－－－轻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烟尘，雾气，水等）充满布满．－－－弥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事前显露出来的迹象．－－－预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即将出现的迹象－－－预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54C-FB4F-497E-AD5A-B18A1820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7F5-E236-4185-9E7C-3F5CBDFA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066-194C-48A7-AC0F-EA906358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19B-8463-4598-A4D1-8F6A2321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9FD-F13E-4F36-8302-F9C65EC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A4E-67D4-418A-A3EB-777A744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56F-CA47-4870-8C8A-C8BBCF84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A12-E685-444D-8C56-C3F488D0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6B2-8B2E-454E-B379-7E0FA18E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5CB-A276-46AE-8953-F9436F0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AFF-84BD-46B3-822A-92FFA3F1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934-9346-46DA-8AEB-39F4ACB2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FC28-CC5D-4E3F-B3B7-F782EB534B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14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09480" y="198108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宠辱不惊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闲看庭前花开花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去留无意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.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漫随天外云卷云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33"/>
                </a:solidFill>
                <a:latin typeface="Times New Roman"/>
                <a:ea typeface="隶书"/>
              </a:rPr>
              <a:t>我知道了…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中云-高层云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2" action="ppaction://hlinksldjump"/>
              </a:rPr>
              <a:t>卷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3" action="ppaction://hlinksldjump"/>
              </a:rPr>
              <a:t>卷积云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4" action="ppaction://hlinksldjump"/>
              </a:rPr>
              <a:t>积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5" action="ppaction://hlinksldjump"/>
              </a:rPr>
              <a:t>高积云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6" action="ppaction://hlinksldjump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1219320"/>
            <a:ext cx="457200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7" action="ppaction://hlinksldjump"/>
              </a:rPr>
              <a:t>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8" action="ppaction://hlinksldjump"/>
              </a:rPr>
              <a:t>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9" action="ppaction://hlinksldjump"/>
              </a:rPr>
              <a:t>虹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fff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10" action="ppaction://hlinksldjump"/>
              </a:rPr>
              <a:t>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3520" y="1143000"/>
            <a:ext cx="1381320" cy="35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1" action="ppaction://hlinksldjump"/>
              </a:rPr>
              <a:t>卷层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2" action="ppaction://hlinksldjump"/>
              </a:rPr>
              <a:t>高层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3" action="ppaction://hlinksldjump"/>
              </a:rPr>
              <a:t>雨层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4" action="ppaction://hlinksldjump"/>
              </a:rPr>
              <a:t>积雨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05000" y="5800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Times New Roman"/>
                <a:ea typeface="隶书"/>
              </a:rPr>
              <a:t>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高云-卷云-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24120" y="4724280"/>
            <a:ext cx="3505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卷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高云-卷积云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43240" y="5105160"/>
            <a:ext cx="2895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卷积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低云-积云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7640" y="228600"/>
            <a:ext cx="2057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隶书"/>
              </a:rPr>
              <a:t>积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中云-高积云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51440" y="533520"/>
            <a:ext cx="329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Times New Roman"/>
                <a:ea typeface="隶书"/>
              </a:rPr>
              <a:t>高积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高云-卷层云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91320" y="45720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隶书"/>
              </a:rPr>
              <a:t>卷层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中云-高层云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66920" y="45720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隶书"/>
              </a:rPr>
              <a:t>高层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低云-雨层云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38680" y="838080"/>
            <a:ext cx="275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Times New Roman"/>
                <a:ea typeface="隶书"/>
              </a:rPr>
              <a:t>雨层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日晕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09920" y="510552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66"/>
                </a:solidFill>
                <a:latin typeface="Times New Roman"/>
                <a:ea typeface="隶书"/>
              </a:rPr>
              <a:t>晕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天空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66"/>
                </a:solidFill>
                <a:latin typeface="Times New Roman"/>
                <a:ea typeface="隶书"/>
              </a:rPr>
              <a:t>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低云-积雨云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86728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6000" spc="-1" strike="noStrike">
                <a:solidFill>
                  <a:srgbClr val="ff9966"/>
                </a:solidFill>
                <a:latin typeface="Times New Roman"/>
                <a:ea typeface="隶书"/>
              </a:rPr>
              <a:t>积雨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华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788600" y="14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66"/>
                </a:solidFill>
                <a:latin typeface="Times New Roman"/>
                <a:ea typeface="隶书"/>
              </a:rPr>
              <a:t>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81320" y="5028840"/>
            <a:ext cx="2057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Times New Roman"/>
                <a:ea typeface="隶书"/>
              </a:rPr>
              <a:t>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6600"/>
                </a:solidFill>
                <a:latin typeface="Times New Roman"/>
                <a:ea typeface="隶书"/>
              </a:rPr>
              <a:t>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03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55680" y="-1033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隶书"/>
              </a:rPr>
              <a:t>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09480" y="457200"/>
          <a:ext cx="7848720" cy="1849320"/>
        </p:xfrm>
        <a:graphic>
          <a:graphicData uri="http://schemas.openxmlformats.org/drawingml/2006/table">
            <a:tbl>
              <a:tblPr/>
              <a:tblGrid>
                <a:gridCol w="838440"/>
                <a:gridCol w="3886200"/>
                <a:gridCol w="1295280"/>
                <a:gridCol w="609480"/>
                <a:gridCol w="1219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云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云的形态变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厚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天气征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羽毛像绫纱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丝丝缕缕的漂浮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最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最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象征晴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积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水面的鳞波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是成群成行的卷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很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很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无雨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积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棉花团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上午出现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傍晚消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2000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米左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较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阳光温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积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草原上雪白的羊群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扁球状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排列整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2000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米左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较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天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09480" y="2438280"/>
          <a:ext cx="7848720" cy="1676520"/>
        </p:xfrm>
        <a:graphic>
          <a:graphicData uri="http://schemas.openxmlformats.org/drawingml/2006/table">
            <a:tbl>
              <a:tblPr/>
              <a:tblGrid>
                <a:gridCol w="920880"/>
                <a:gridCol w="216000"/>
                <a:gridCol w="2496240"/>
                <a:gridCol w="2069280"/>
                <a:gridCol w="767520"/>
                <a:gridCol w="1378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云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变化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形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位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天气征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层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云聚集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向前推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白绸幕蒙住天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晴转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层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卷云越变越厚像毛玻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像毛玻璃遮着太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将下雨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雨层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高层云变得更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暗灰色云块密布天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更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雨雪连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积雨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积云迅速形成高大云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乌云密布天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更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雷雨冰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09480" y="4724280"/>
          <a:ext cx="7848720" cy="1919520"/>
        </p:xfrm>
        <a:graphic>
          <a:graphicData uri="http://schemas.openxmlformats.org/drawingml/2006/table">
            <a:tbl>
              <a:tblPr/>
              <a:tblGrid>
                <a:gridCol w="700200"/>
                <a:gridCol w="3262320"/>
                <a:gridCol w="1554120"/>
                <a:gridCol w="2332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光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产生和分布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色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天气征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产生在卷层云上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分布在日月周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里红外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日晕三更雨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月晕午时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产生在高积云边缘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里紫外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华环由小变大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转晴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;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有大变小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转阴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雨过天晴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在太阳对面的云幕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彩色圆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东虹轰隆西虹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早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晚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太阳照着对面的云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云层变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朝霞不出门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晚霞行千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245400" y="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形态的云与天气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4191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色彩的云与天气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86920" y="457200"/>
            <a:ext cx="4569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天上钩钩云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地下雨淋淋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江猪过河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大雨滂沱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云往东，车马通；云往南，水涨潭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云往西，披蓑衣；云往北，好晒麦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西北天开锁，明朝大太阳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久晴大雾阴，久阴大雾晴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日落射脚，三日内雨淋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云吃雾下，雾吃雨晴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早上乌云盖，无雨也风来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天上鲤鱼斑，明天晒谷不用翻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天空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天空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天空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天空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天空2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看云识天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峰峦　预兆　轻盈　均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崩塌　弥漫　征兆　一霎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千姿万态　变化无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257800"/>
            <a:ext cx="20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华文彩云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004" descr=""/>
          <p:cNvPicPr/>
          <p:nvPr/>
        </p:nvPicPr>
        <p:blipFill>
          <a:blip r:embed="rId2"/>
          <a:stretch/>
        </p:blipFill>
        <p:spPr>
          <a:xfrm>
            <a:off x="0" y="5335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山峰和山峦．峦，小而尖的山，或连绵的山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一会儿，形容时间极短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形容女子的动作，体态轻巧优美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（烟尘，雾气，水等）充满布满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事前显露出来的迹象．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即将出现的迹象－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2480" y="1363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峰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40320" y="182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一霎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6760" y="2430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轻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892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弥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30120" y="342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预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63080" y="396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征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1031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2:17:53Z</dcterms:created>
  <dc:creator>wutao</dc:creator>
  <dc:description/>
  <dc:language>en-US</dc:language>
  <cp:lastModifiedBy>zyb</cp:lastModifiedBy>
  <dcterms:modified xsi:type="dcterms:W3CDTF">2004-11-30T02:12:29Z</dcterms:modified>
  <cp:revision>100</cp:revision>
  <dc:subject/>
  <dc:title>PowerPoint 演示文稿</dc:title>
</cp:coreProperties>
</file>