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D7E1-D447-479E-89F0-3450FCC3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8C44-C5E0-4CB5-9822-AD1AFAAA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25B-3A6E-4E2B-BCE5-258F7A26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6D3-14E2-40BE-973E-67294DAD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2CF1-73B5-4501-8CDE-A9E8485C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0340-A1A0-4103-AE9C-7644F803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B026-2A6B-4B7A-A36D-18BE06EF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1D28-C5BF-4788-8ACD-EA7C1E57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3DAD-D72C-4672-8D4F-7CEC488E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1E03-B96C-4D9B-ABF3-EA7F8C4B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360F-039D-4AEF-B4F5-B5271B7D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44E0-BAE0-40A2-9613-F1B18886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90CE-0445-41A5-9ECC-C481895C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E32F-17CA-450F-A2B9-60B9B840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F1EA-A16D-457B-B7FD-DCB38FBA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A493-B4B7-44A9-884C-4C1FDB04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0A79-FC3A-46F4-B9DB-2F2E0E0A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0A41-1EF9-4FDB-BC9E-FD081509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40E3-C600-4E64-8702-47BE8C90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6481-489B-43F3-91C9-8113548A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A836-7E14-4B95-AB08-8971DBF4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3242-4435-4C80-95C7-2241242A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53E4-A981-403C-BF09-CF3AA234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0488-672B-4460-82F9-016D66BF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9514-F9C1-4B3D-A05F-F4824E4EB5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10663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2C8D-BA3C-4B05-9936-5333C2A366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12949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看 云 识 天 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卷层云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75760" y="260280"/>
            <a:ext cx="91152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华文彩云"/>
              </a:rPr>
              <a:t>         </a:t>
            </a:r>
            <a:r>
              <a:rPr b="1" lang="zh-CN" sz="4800" spc="-1" strike="noStrike">
                <a:solidFill>
                  <a:srgbClr val="ffcccc"/>
                </a:solidFill>
                <a:latin typeface="Arial"/>
                <a:ea typeface="华文彩云"/>
              </a:rPr>
              <a:t>卷  层  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高层云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-677160" y="1052640"/>
            <a:ext cx="20091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f47e7"/>
                </a:solidFill>
                <a:latin typeface="Arial"/>
                <a:ea typeface="华文彩云"/>
              </a:rPr>
              <a:t>  </a:t>
            </a:r>
            <a:r>
              <a:rPr b="1" lang="zh-CN" sz="6000" spc="-1" strike="noStrike">
                <a:solidFill>
                  <a:srgbClr val="ffcccc"/>
                </a:solidFill>
                <a:latin typeface="Arial"/>
                <a:ea typeface="华文彩云"/>
              </a:rPr>
              <a:t>高  层  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雨层云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424680" y="1133640"/>
            <a:ext cx="2561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cc"/>
                </a:solidFill>
                <a:latin typeface="Arial"/>
                <a:ea typeface="华文彩云"/>
              </a:rPr>
              <a:t>雨  层  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积雨云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4572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cc"/>
                </a:solidFill>
                <a:latin typeface="Times New Roman"/>
                <a:ea typeface="华文彩云"/>
              </a:rPr>
              <a:t>积  雨  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64000" cy="4440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500720" y="2565360"/>
            <a:ext cx="4643280" cy="4292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093080" y="1844640"/>
            <a:ext cx="358560" cy="576360"/>
          </a:xfrm>
          <a:prstGeom prst="downArrow">
            <a:avLst>
              <a:gd name="adj1" fmla="val 50000"/>
              <a:gd name="adj2" fmla="val 40186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79640" y="4724280"/>
            <a:ext cx="360360" cy="505080"/>
          </a:xfrm>
          <a:prstGeom prst="upArrow">
            <a:avLst>
              <a:gd name="adj1" fmla="val 50000"/>
              <a:gd name="adj2" fmla="val 35040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56360" y="620640"/>
            <a:ext cx="230328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日  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516640"/>
            <a:ext cx="216036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月 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1563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372360" y="105264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华文彩云"/>
              </a:rPr>
              <a:t>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5943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692360" y="907920"/>
            <a:ext cx="187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华文彩云"/>
              </a:rPr>
              <a:t>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8120" y="7617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谚  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7620120" cy="30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早上乌云盖，无雨也风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上鲤鱼斑，明天晒谷不用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上灰布悬，雨丝定连绵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朝霞不出门，晚霞行千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396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看 云 识 天 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40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形状                           光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066320" y="1981080"/>
            <a:ext cx="12970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205740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34320" y="182880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349360"/>
            <a:ext cx="1440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卷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卷积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积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高积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48000" y="2421000"/>
            <a:ext cx="1440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卷层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高层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雨层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积雨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514600"/>
            <a:ext cx="792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5373720"/>
            <a:ext cx="1584360" cy="703440"/>
          </a:xfrm>
          <a:prstGeom prst="rect">
            <a:avLst/>
          </a:prstGeom>
          <a:noFill/>
          <a:ln w="93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薄  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5373720"/>
            <a:ext cx="1655640" cy="703440"/>
          </a:xfrm>
          <a:prstGeom prst="rect">
            <a:avLst/>
          </a:prstGeom>
          <a:noFill/>
          <a:ln w="93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厚  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95280" y="1557360"/>
          <a:ext cx="8367480" cy="4614480"/>
        </p:xfrm>
        <a:graphic>
          <a:graphicData uri="http://schemas.openxmlformats.org/drawingml/2006/table">
            <a:tbl>
              <a:tblPr/>
              <a:tblGrid>
                <a:gridCol w="1844280"/>
                <a:gridCol w="4467600"/>
                <a:gridCol w="2055600"/>
              </a:tblGrid>
              <a:tr h="122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名  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形      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气情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969696"/>
                          </a:solidFill>
                          <a:uFillTx/>
                          <a:latin typeface="楷体_GB2312"/>
                          <a:ea typeface="楷体_GB2312"/>
                          <a:hlinkClick r:id="rId2" action="ppaction://hlinksldjump"/>
                        </a:rPr>
                        <a:t>卷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969696"/>
                          </a:solidFill>
                          <a:uFillTx/>
                          <a:latin typeface="楷体_GB2312"/>
                          <a:ea typeface="楷体_GB2312"/>
                          <a:hlinkClick r:id="rId3" action="ppaction://hlinksldjump"/>
                        </a:rPr>
                        <a:t>卷积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969696"/>
                          </a:solidFill>
                          <a:uFillTx/>
                          <a:latin typeface="楷体_GB2312"/>
                          <a:ea typeface="楷体_GB2312"/>
                          <a:hlinkClick r:id="rId4" action="ppaction://hlinksldjump"/>
                        </a:rPr>
                        <a:t>积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969696"/>
                          </a:solidFill>
                          <a:uFillTx/>
                          <a:latin typeface="楷体_GB2312"/>
                          <a:ea typeface="楷体_GB2312"/>
                          <a:hlinkClick r:id="rId5" action="ppaction://hlinksldjump"/>
                        </a:rPr>
                        <a:t>高积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457200" y="38088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阅读第三节，完成表格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6186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隶书"/>
              </a:rPr>
              <a:t>下一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69920"/>
            <a:ext cx="77724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阅读第四、五节，完成表格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880" y="1143000"/>
          <a:ext cx="8458200" cy="4903920"/>
        </p:xfrm>
        <a:graphic>
          <a:graphicData uri="http://schemas.openxmlformats.org/drawingml/2006/table">
            <a:tbl>
              <a:tblPr/>
              <a:tblGrid>
                <a:gridCol w="1753920"/>
                <a:gridCol w="4660560"/>
                <a:gridCol w="2043720"/>
              </a:tblGrid>
              <a:tr h="12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名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形       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气情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969696"/>
                          </a:solidFill>
                          <a:uFillTx/>
                          <a:latin typeface="楷体_GB2312"/>
                          <a:ea typeface="楷体_GB2312"/>
                          <a:hlinkClick r:id="rId2" action="ppaction://hlinksldjump"/>
                        </a:rPr>
                        <a:t>卷层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969696"/>
                          </a:solidFill>
                          <a:uFillTx/>
                          <a:latin typeface="楷体_GB2312"/>
                          <a:ea typeface="楷体_GB2312"/>
                          <a:hlinkClick r:id="rId3" action="ppaction://hlinksldjump"/>
                        </a:rPr>
                        <a:t>高层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969696"/>
                          </a:solidFill>
                          <a:uFillTx/>
                          <a:latin typeface="楷体_GB2312"/>
                          <a:ea typeface="楷体_GB2312"/>
                          <a:hlinkClick r:id="rId4" action="ppaction://hlinksldjump"/>
                        </a:rPr>
                        <a:t>雨层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969696"/>
                          </a:solidFill>
                          <a:uFillTx/>
                          <a:latin typeface="楷体_GB2312"/>
                          <a:ea typeface="楷体_GB2312"/>
                          <a:hlinkClick r:id="rId5" action="ppaction://hlinksldjump"/>
                        </a:rPr>
                        <a:t>积雨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7467480" y="6186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隶书"/>
              </a:rPr>
              <a:t>下一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阅读第六节，完成表格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1676520"/>
          <a:ext cx="7772400" cy="4114800"/>
        </p:xfrm>
        <a:graphic>
          <a:graphicData uri="http://schemas.openxmlformats.org/drawingml/2006/table">
            <a:tbl>
              <a:tblPr/>
              <a:tblGrid>
                <a:gridCol w="1714320"/>
                <a:gridCol w="4008600"/>
                <a:gridCol w="204948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名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云 彩 情 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气情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969696"/>
                          </a:solidFill>
                          <a:uFillTx/>
                          <a:latin typeface="楷体_GB2312"/>
                          <a:ea typeface="楷体_GB2312"/>
                          <a:hlinkClick r:id="rId2" action="ppaction://hlinksldjump"/>
                        </a:rPr>
                        <a:t>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969696"/>
                          </a:solidFill>
                          <a:uFillTx/>
                          <a:latin typeface="楷体_GB2312"/>
                          <a:ea typeface="楷体_GB2312"/>
                          <a:hlinkClick r:id="rId3" action="ppaction://hlinksldjump"/>
                        </a:rPr>
                        <a:t>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969696"/>
                          </a:solidFill>
                          <a:uFillTx/>
                          <a:latin typeface="楷体_GB2312"/>
                          <a:ea typeface="楷体_GB2312"/>
                          <a:hlinkClick r:id="rId4" action="ppaction://hlinksldjump"/>
                        </a:rPr>
                        <a:t>霞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卷积云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276720" y="685800"/>
            <a:ext cx="350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卷积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积云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56000" y="765000"/>
            <a:ext cx="37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彩云"/>
              </a:rPr>
              <a:t> 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华文彩云"/>
              </a:rPr>
              <a:t>积      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高积云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466920" y="1484280"/>
            <a:ext cx="23749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华文彩云"/>
              </a:rPr>
              <a:t>高 积 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05:23:23Z</dcterms:created>
  <dc:creator>wutao</dc:creator>
  <dc:description/>
  <dc:language>en-US</dc:language>
  <cp:lastModifiedBy>ymr</cp:lastModifiedBy>
  <dcterms:modified xsi:type="dcterms:W3CDTF">2006-09-06T01:14:50Z</dcterms:modified>
  <cp:revision>101</cp:revision>
  <dc:subject/>
  <dc:title>看云识天气</dc:title>
</cp:coreProperties>
</file>