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7C3-656A-4163-80E3-48D77BB7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677-4D5E-45D6-A537-623CCD2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985-525D-4AA5-B269-7E39F1D4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1AD-A362-4F60-A977-5779E0EB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8A8-95E4-462D-BDB3-DA0972E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1AC-26D6-4DA5-996D-EA54B724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49B-BBC2-4871-9368-03288F4C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5D9-4CB0-4C33-8491-EE00BFB6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28000" y="15480"/>
            <a:ext cx="20160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EF9-43C2-4FEB-811D-244489D2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7BA-209C-4972-848D-156AF4C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28A-CBA1-46E8-AB5F-2B19B85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CBA-8715-4C54-8FCE-4590105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28000" y="333000"/>
            <a:ext cx="20160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4000" y="6021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0000" y="5877000"/>
            <a:ext cx="29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4000" spc="-1" strike="noStrike">
                <a:solidFill>
                  <a:srgbClr val="0000ff"/>
                </a:solidFill>
                <a:latin typeface="Arial"/>
                <a:ea typeface="华文行楷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刘玲玲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5949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F30-C479-410A-9EF9-9E168216D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88000" y="333360"/>
            <a:ext cx="219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Arial"/>
              </a:rPr>
              <a:t>《看云识天气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看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方正姚体"/>
              </a:rPr>
              <a:t>看云识天气</a:t>
            </a:r>
            <a:br>
              <a:rPr sz="6600"/>
            </a:br>
            <a:endParaRPr b="0" lang="en-US" sz="6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2514600"/>
            <a:ext cx="228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3886200"/>
            <a:ext cx="2286000" cy="477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请欣赏影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2BD-B919-4D93-A02C-AFD54FB44D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AE4DB-9BF9-4ECF-BE1E-B6FD3BBCB2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19560" y="533520"/>
            <a:ext cx="2361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高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B74-A0DB-4048-AEA8-4F60075D99C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9D318-D0B9-4D40-9A95-56D4037B76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10280" y="762120"/>
            <a:ext cx="19051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卷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F99-F18A-4B2E-BC60-E54252C721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6BF69-D61A-4F9B-9692-F249754633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7640" y="228600"/>
            <a:ext cx="19810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高层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5D6-EA9B-4C04-A75E-D1105CA2265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01260-4AE6-452F-AECC-C875909304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48160" y="228600"/>
            <a:ext cx="2438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雨层云</a:t>
            </a:r>
            <a:endParaRPr b="0" lang="en-US" sz="48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D95-560A-4CEA-BA36-14CFF074EBB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5F83B-6184-4149-9324-F06D5E0FE5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5000" y="685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积雨云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D96-E825-425C-BB08-0A649DE0299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C591A-D31E-46FA-BE8A-C0082A7977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、朗读第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段课文填表</a:t>
            </a: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907920"/>
          <a:ext cx="8820360" cy="4730760"/>
        </p:xfrm>
        <a:graphic>
          <a:graphicData uri="http://schemas.openxmlformats.org/drawingml/2006/table">
            <a:tbl>
              <a:tblPr/>
              <a:tblGrid>
                <a:gridCol w="936720"/>
                <a:gridCol w="3227400"/>
                <a:gridCol w="1287360"/>
                <a:gridCol w="3368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29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133720" y="609588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52388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5146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38098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447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25909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447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590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小变大，转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7879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7242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晚霞东几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9CB-3A42-46D5-8099-7A9FF820CD8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39E24-229A-427D-864B-C2AA08477D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0280" y="304560"/>
            <a:ext cx="1371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微软美黑"/>
              </a:rPr>
              <a:t>晕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3C8-94D1-49CA-B61C-AB9B46D58FB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8807F-D31B-44D6-880B-A038951C59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81320" y="45684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华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43F-FA66-45AC-82DD-FEF7C1E5DA5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D6BC8-E5BB-4BF1-B034-55716E43C4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J2106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虹</a:t>
            </a:r>
            <a:endParaRPr b="0" lang="en-US" sz="5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983-ED0D-4CBE-B16C-4E2973C1048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01453-5DC5-47FE-B983-6DCE4FFB0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14600" y="5715000"/>
            <a:ext cx="838080" cy="42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5335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cc"/>
                </a:solidFill>
                <a:latin typeface="Arial"/>
                <a:ea typeface="楷体_GB2312"/>
              </a:rPr>
              <a:t>霞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63C-2C05-45DC-8D54-3DFF66D99AD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0440E-0EEC-47D3-9469-C3F55D415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鱼鳞天，不雨风也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瓦块云，热死人；梯梯云，干破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雨四边亮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雨顶上光。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起了鱼鳞斑，明日晒谷不用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起了泡泡云，不过三天雨淋淋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阳落地云来抢，不等半夜听雨响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勾勾云，地下雨淋淋。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乌云接日头，半夜雨淋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阳当中现，三日不见面。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早霞不出门，晚霞行千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早上云如山，黄昏雨涟涟。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上起棉花，地下踏粥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落乌云接，风雨定猛烈。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朝看天顶穿，暮看四脚悬。                             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落云里走，雨落半夜后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" descr=""/>
          <p:cNvPicPr/>
          <p:nvPr/>
        </p:nvPicPr>
        <p:blipFill>
          <a:blip r:embed="rId1"/>
          <a:stretch/>
        </p:blipFill>
        <p:spPr>
          <a:xfrm>
            <a:off x="6218280" y="4800600"/>
            <a:ext cx="2925720" cy="73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E22-4D38-43EB-82C4-BA4D8501BD0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C2137-8048-4509-A710-A002B825F9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91400" y="149544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有平实说明，又有生动说明，各举出一个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7931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体会文章语言特点（以第三段为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280" y="2133720"/>
            <a:ext cx="183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实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20560" y="2819520"/>
            <a:ext cx="86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卷云和卷积云都很高，那里水分少，他们一般不会带来雨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920" y="3276720"/>
            <a:ext cx="1591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动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4080" y="4038480"/>
            <a:ext cx="5301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积云是成群的扁球状的云块，排列很匀称，云块间露出碧蓝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572000"/>
            <a:ext cx="594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幕，远远望去，就像草原上雪白的羊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BE8-B112-4B04-B1F7-CC3BCE8A38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0468E-1DD6-4BDF-8343-C53189F33E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.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本节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１、合理设计表格的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２、用语生动简洁精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2BE-8D91-48F0-B726-9CD56D272E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78AE1-0307-4608-BBEB-08EAC252C2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260280"/>
            <a:ext cx="3041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836640"/>
            <a:ext cx="8136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请说下面几幅图片中的云的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456-575A-47BC-93F1-70E4FB6D00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3A41D-90FD-4F63-8B8E-F32D65882A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DB0-8AA9-4FFC-B575-F22ED192C060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AB401-9315-4AA2-A5D7-1B125F641864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CB2-73AA-4908-BE21-08CB175E91E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4026E-3722-4769-BC2F-3E82E78783E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05560" cy="4221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EEF-E674-4F1E-B1AF-C1331A9A160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45917-1385-4083-B61D-4E1C4F700071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190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7FE-6A2C-43E0-A4C5-F6EBB9F6FFC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63B6C-4687-4538-BBE0-75E92109BBC5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FBC-9FD7-47B7-83B1-155D27D00CC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F5DE1-4353-4872-B216-5AD0C0FA785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8DA-170A-48FA-B48D-E12F9006D31E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EEB99-96E0-4C75-A629-132F29F9250D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A1B-E133-4497-BFF1-5A472BD7F99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69CC0-6911-4323-8B2B-0E776FF45FD2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4114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1516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训练提取关键信息，用表格表现信息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品味本文以生动形象为主兼有平实特点的说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DA6-A87C-41B1-BA88-3C86F210EA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AEAE4-AC96-45F4-A504-BF38CB1B77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1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4191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3EF-E8FF-443F-9A44-C6406EE1FE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0C8EB-B9A2-48D6-8D1E-96C98AB9A3C3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39E-074F-4E67-B08B-87426B566A6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1FFC-4E53-45BB-BC24-62BCDBCF1A5A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3992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B7E-F278-4EBC-90A5-C7AFAE3DE00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9DC36-B8A2-4321-BFE2-554FE4A21C1B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267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46C-4AF3-4958-B2DA-4B538F30C86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4DA35-CEEF-4CCD-9545-1735805775E5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62800" cy="403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572-0D7B-4586-BB67-72FA9B91678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B36D9-5B5B-44EF-BB49-45FFA9DB7A2C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8360" y="620640"/>
            <a:ext cx="4032360" cy="397080"/>
          </a:xfrm>
          <a:custGeom>
            <a:avLst/>
            <a:gdLst/>
            <a:ahLst/>
            <a:rect l="l" t="t" r="r" b="b"/>
            <a:pathLst>
              <a:path w="2540" h="250">
                <a:moveTo>
                  <a:pt x="0" y="99"/>
                </a:moveTo>
                <a:cubicBezTo>
                  <a:pt x="174" y="174"/>
                  <a:pt x="348" y="250"/>
                  <a:pt x="544" y="235"/>
                </a:cubicBezTo>
                <a:cubicBezTo>
                  <a:pt x="740" y="220"/>
                  <a:pt x="1028" y="16"/>
                  <a:pt x="1179" y="8"/>
                </a:cubicBezTo>
                <a:cubicBezTo>
                  <a:pt x="1330" y="0"/>
                  <a:pt x="1345" y="182"/>
                  <a:pt x="1451" y="189"/>
                </a:cubicBezTo>
                <a:cubicBezTo>
                  <a:pt x="1557" y="196"/>
                  <a:pt x="1701" y="76"/>
                  <a:pt x="1814" y="53"/>
                </a:cubicBezTo>
                <a:cubicBezTo>
                  <a:pt x="1927" y="30"/>
                  <a:pt x="2040" y="45"/>
                  <a:pt x="2131" y="53"/>
                </a:cubicBezTo>
                <a:cubicBezTo>
                  <a:pt x="2222" y="61"/>
                  <a:pt x="2305" y="84"/>
                  <a:pt x="2358" y="99"/>
                </a:cubicBezTo>
                <a:cubicBezTo>
                  <a:pt x="2411" y="114"/>
                  <a:pt x="2419" y="137"/>
                  <a:pt x="2449" y="144"/>
                </a:cubicBezTo>
                <a:cubicBezTo>
                  <a:pt x="2479" y="151"/>
                  <a:pt x="2509" y="147"/>
                  <a:pt x="2540" y="144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556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请您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3AE-EA42-477F-AC5E-C4701D5A644C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2993B-7594-49A5-8589-3128DBCB3660}" type="datetime1">
              <a:rPr lang="en-US"/>
              <a:t>07/31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543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、快速阅读文章第二部分，圈点批注关键词语</a:t>
            </a:r>
            <a:br>
              <a:rPr sz="4400"/>
            </a:b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2920" y="2205000"/>
            <a:ext cx="397044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提炼内容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品味语言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513-4022-42D8-94CD-77DD4F84FF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83A1C-B87D-4B98-8F00-EDA2897783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28000" y="200880"/>
            <a:ext cx="2016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8580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二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段上下文有何关系？起什么作用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36232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薄云”“晴朗”；“低而厚密的云层”“阴雨风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承上说明“云的各种形态”，启下引出“云和天气”的关系。起承上启下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C24-57B9-4786-B3F9-CAFDA12364C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920E-E50C-48B7-A5EF-852A3BC7AB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6095520"/>
            <a:ext cx="1447560" cy="3812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下一页</a:t>
            </a:r>
            <a:endParaRPr b="0" lang="en-US" sz="28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23148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默读课文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9228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１）用表格归纳各种云的特点及与天气的关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143000"/>
          <a:ext cx="8915400" cy="4776840"/>
        </p:xfrm>
        <a:graphic>
          <a:graphicData uri="http://schemas.openxmlformats.org/drawingml/2006/table">
            <a:tbl>
              <a:tblPr/>
              <a:tblGrid>
                <a:gridCol w="1143000"/>
                <a:gridCol w="2233800"/>
                <a:gridCol w="1692360"/>
                <a:gridCol w="3846240"/>
              </a:tblGrid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3340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651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7124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432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36560"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371600" y="18288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羽毛像绫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1676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阳光可以透过它照到地面，天气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粼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475000"/>
            <a:ext cx="1067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很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24382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不会带来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89548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棉花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8954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89548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天空映着温和的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羊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352680"/>
            <a:ext cx="175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2000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3389400"/>
            <a:ext cx="396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云块间露出碧蓝的天空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846600"/>
            <a:ext cx="20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仿佛白色调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801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8019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向前推进，天气将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267080"/>
            <a:ext cx="1828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像毛玻璃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303800"/>
            <a:ext cx="914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低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259160"/>
            <a:ext cx="32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预示将要下雨或下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716360"/>
            <a:ext cx="160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布满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64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64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雨雪就开始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形成高大的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5334120"/>
            <a:ext cx="1218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马上就会下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51A-1C3C-48A6-8FF9-DFDA300DED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9C290-3BC0-477C-BBE3-108749D698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3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05720" y="685800"/>
            <a:ext cx="2016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卷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3F8-0A3F-4FF2-80D7-B7ADE34C8C9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15F54-45EA-455E-8202-C921ACA0CE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1320" y="685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卷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F18-75AE-4FD2-B483-E6D88B8767E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F3FE7-968C-4D54-B6D7-10B1D2BD9E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5715000"/>
            <a:ext cx="838080" cy="468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1680" y="53316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积云</a:t>
            </a:r>
            <a:endParaRPr b="0" lang="en-US" sz="44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485-DF6F-4E00-AA69-2C7E937DCFF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38AB9-63C8-4DDE-B275-C3D25E1A7B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4:04:14Z</dcterms:created>
  <dc:creator>wutao</dc:creator>
  <dc:description/>
  <dc:language>en-US</dc:language>
  <cp:lastModifiedBy>a</cp:lastModifiedBy>
  <dcterms:modified xsi:type="dcterms:W3CDTF">2004-12-16T05:02:08Z</dcterms:modified>
  <cp:revision>100</cp:revision>
  <dc:subject/>
  <dc:title>看云识天气 </dc:title>
</cp:coreProperties>
</file>