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type.wav" ContentType="audio/x-wav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C7A-F4CA-4D0B-9BDA-810B9486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6FD-4A58-4D31-8489-3542080D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1E2-ED08-46A9-8706-DF8633BB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4D5-7DE4-437D-8272-67420A05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E40-4DBD-4E55-B8B0-2107C6B8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C1D-B0B5-4081-BA6C-D8373855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252-E2DE-4416-82B7-861C691D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F59-898B-452A-952B-3B2B3FBB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28000" y="15480"/>
            <a:ext cx="20160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37A-C424-4AEF-9C5F-05456E5A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F29-E095-44CF-9D85-0E925B7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86F-82C2-431F-A692-CD0072C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7C9-D293-4095-BC0F-545B1B3A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28000" y="333000"/>
            <a:ext cx="20160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021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0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0000" y="5877000"/>
            <a:ext cx="291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4000" spc="-1" strike="noStrike">
                <a:solidFill>
                  <a:srgbClr val="0000ff"/>
                </a:solidFill>
                <a:latin typeface="Arial"/>
                <a:ea typeface="华文行楷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刘玲玲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5949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59D5-2F8B-48F1-903D-0A53CF20F5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88000" y="333360"/>
            <a:ext cx="219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ff33"/>
                </a:solidFill>
                <a:latin typeface="Arial"/>
              </a:rPr>
              <a:t>《看云识天气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1752480"/>
            <a:ext cx="8915040" cy="4570560"/>
            <a:chOff x="0" y="1752480"/>
            <a:chExt cx="8915040" cy="4570560"/>
          </a:xfrm>
        </p:grpSpPr>
        <p:sp>
          <p:nvSpPr>
            <p:cNvPr id="44" name=""/>
            <p:cNvSpPr/>
            <p:nvPr/>
          </p:nvSpPr>
          <p:spPr>
            <a:xfrm>
              <a:off x="0" y="1752480"/>
              <a:ext cx="891504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752480"/>
              <a:ext cx="891504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_x000b__x000c_"/>
                </a:rPr>
                <a:t>唐代诗人刘禹锡在《竹枝词》中写道，“东边日出西边雨，道是无晴却有晴”，生动地描绘了一种有趣的天气现象，说明作者对这种自然现象观察得非常细致。因为天气与人类的生活息息相关，所以，千百年来，人们也在一直留心观察自然界，以图掌握规律，为人类服务。事实上，天气的变化也自有它的规律，自有它的征兆。现在，我们来看一组图片，你能说出它们与天气有怎样的关系吗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_x000b__x000c_"/>
                </a:rPr>
                <a:t>?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_x000b__x000c_"/>
                </a:rPr>
                <a:t>今天我们来学习一篇科学小品文《看云识天气》 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F3E-8BE4-4FB9-8670-E75D9708AF38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1756D-B161-40DD-8565-DA30D5A3A3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4114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1516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训练提取关键信息，用表格表征信息的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品味本文生动形象的说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172-6EE7-4B85-9979-39719CC02C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5CE97-408F-4C71-A733-DFD9FEFA6C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1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6491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、快速阅读，圈点批注</a:t>
            </a:r>
            <a:br>
              <a:rPr sz="4400"/>
            </a:b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72072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.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内容要点（结构划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划出文中描写的较优美的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89D-B17F-431F-90D2-4E311E707A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28FD7-01F3-4226-9BEB-72A5C31C3E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87948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云和天气的密切关系，说明识天气可以看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2076480"/>
            <a:ext cx="835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二（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——6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，怎样看云识天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029040"/>
            <a:ext cx="755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三（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，看云识天气的目的。方法和注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4724280"/>
            <a:ext cx="61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――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－总说——分说——总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2920"/>
            <a:ext cx="38862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内容要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1E3-F397-4707-B920-778166213A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CC47C-E6F0-445A-A431-A7CBC91206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3178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语段精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1049400"/>
            <a:ext cx="853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课文第一段是怎样的结构形式？从第一段，看本文说明语言的生动形象，你可以举哪些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8000" y="2133720"/>
            <a:ext cx="61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总——分——总”的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姿态万千”总说云的形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变化无常”总说云的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33577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段上下文有何关系？起什么作用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070520"/>
            <a:ext cx="64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薄云”“晴朗”；“低而厚密的云层”“阴雨风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承上说明“云的各种形态”，启下引出“云和天气”的关系。起承上启下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2DB-39F7-44AD-BD37-E73CACA0C8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52C72-D11A-46B7-BE8F-609264BE60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6095520"/>
            <a:ext cx="1447560" cy="3812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下一页</a:t>
            </a:r>
            <a:endParaRPr b="0" lang="en-US" sz="28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23148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默读课文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9228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１）用表格归纳各种云的特点及与天气的关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1143000"/>
          <a:ext cx="8915400" cy="4746600"/>
        </p:xfrm>
        <a:graphic>
          <a:graphicData uri="http://schemas.openxmlformats.org/drawingml/2006/table">
            <a:tbl>
              <a:tblPr/>
              <a:tblGrid>
                <a:gridCol w="1143000"/>
                <a:gridCol w="2233800"/>
                <a:gridCol w="1692360"/>
                <a:gridCol w="3846240"/>
              </a:tblGrid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83340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卷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21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7365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371600" y="18288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羽毛像绫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1676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阳光可以透过它照到地面，天气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粼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2475000"/>
            <a:ext cx="1067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很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243828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不会带来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895480"/>
            <a:ext cx="19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棉花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895480"/>
            <a:ext cx="175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2000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895480"/>
            <a:ext cx="335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天空映着温和的阳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羊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352680"/>
            <a:ext cx="175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2000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389400"/>
            <a:ext cx="396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云块间露出碧蓝的天空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8466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仿佛白色调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801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38019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向前推进，天气将转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267080"/>
            <a:ext cx="1828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毛玻璃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303800"/>
            <a:ext cx="914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低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4259160"/>
            <a:ext cx="32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预示将要下雨或下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716360"/>
            <a:ext cx="160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布满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64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64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雨雪就开始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形成高大的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5334120"/>
            <a:ext cx="1218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334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马上就会下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E6C-A37E-41D4-8D06-2611C8E2630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CB0BF-F786-4801-AE18-38FC06589D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47640" y="609120"/>
            <a:ext cx="23670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卷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153640" cy="3962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66720" y="6094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气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1F8-7E88-4918-AD71-06795BA4584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8B242-86D1-437D-AB87-0840C93774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57240" y="8377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卷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w-055-27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651-0B4B-420F-8351-E2B8A3BABE7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F5EC5-4D74-4811-A760-8B5CE91DFF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33560" y="914040"/>
            <a:ext cx="1981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4680" y="1905120"/>
            <a:ext cx="8218440" cy="3316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F1D-80E3-4F05-8790-90377F166D2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BAF4A-A328-40E0-8586-6B7EBF8BD8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52680" y="91404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高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91520" cy="360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618-C078-4D5A-BC8F-118D3EBFD2D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9E7F9-E6CF-4A5F-81D3-E567706E77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57600" y="83772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隶书"/>
              </a:rPr>
              <a:t>卷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0592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096-CDDE-4BDE-8B36-9DAF59AFB8F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5C86C-15E4-484D-81D3-822C8EAF6C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w-049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8375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99"/>
                </a:solidFill>
                <a:latin typeface="Arial"/>
                <a:ea typeface="方正姚体"/>
              </a:rPr>
              <a:t>看云识天气</a:t>
            </a:r>
            <a:br>
              <a:rPr sz="6600"/>
            </a:br>
            <a:endParaRPr b="0" lang="en-US" sz="9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2514600"/>
            <a:ext cx="228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A85-248E-444A-9DCA-7C7FDDA7FE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A0DBE-6075-4B1B-8070-3F4D9AF8C7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" dur="1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04960" y="761760"/>
            <a:ext cx="19810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幼圆"/>
              </a:rPr>
              <a:t>高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730-6742-4F04-92CB-DF41CE8B818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91083-22EA-4DEB-A113-13395738A8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0920" y="838080"/>
            <a:ext cx="2057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雨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34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578-AB3B-4B2D-AA2A-CA787807628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23844-3524-4B08-BD68-121B423F52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05320" y="83772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积雨云</a:t>
            </a: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35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556-A9F6-478F-AFCB-23DF58A9A74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3F4D9-F197-46E5-B3C5-F4399425D2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举例说明这部分说明语言的生动、形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557360"/>
            <a:ext cx="6553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运用贴切的比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276640"/>
            <a:ext cx="5185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运用拟人的手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2959200"/>
            <a:ext cx="43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用描写的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84B-E574-42C1-903F-FB03760146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32882-981E-4057-8978-FDBE6FA5EE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、朗读第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段课文填表</a:t>
            </a: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914400"/>
          <a:ext cx="8820360" cy="4730760"/>
        </p:xfrm>
        <a:graphic>
          <a:graphicData uri="http://schemas.openxmlformats.org/drawingml/2006/table">
            <a:tbl>
              <a:tblPr/>
              <a:tblGrid>
                <a:gridCol w="936720"/>
                <a:gridCol w="3227400"/>
                <a:gridCol w="1287360"/>
                <a:gridCol w="33688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133720" y="6095880"/>
            <a:ext cx="1447560" cy="3812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523880"/>
            <a:ext cx="281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卷层云上，分布在日月周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5146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高积云边缘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8098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雨过天晴，在太阳对面的云幕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4724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早、晚，太阳照着对面的云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44792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红外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59092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紫外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1447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晕三更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晕午时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5909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小变大，转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大变小，转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78792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彩色圆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47242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云层变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朝霞西阴雨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晚霞东几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6B2-99D6-4C37-95EE-093EEF20F49C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6BCB2-3CAD-4246-80F7-D912BF52AC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52320" y="457200"/>
            <a:ext cx="1295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微软美黑"/>
              </a:rPr>
              <a:t>晕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399360"/>
            <a:ext cx="121932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w-054-20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911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6CA-8CFC-4343-9B04-8525B835FC09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1EF66-9131-4001-93E4-662F254086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华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39936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w-397-0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A56-C741-4F85-81F3-8F7B3DA113A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5189C-87F6-4633-A388-4D77511FF3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52320" y="1218960"/>
            <a:ext cx="201636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虹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1" name="BJ210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3962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802-B468-445B-8B63-601878CB4B4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64736-A7A9-4781-93B4-5F119BB5C1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8640" y="9907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霞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77320" cy="3571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A41-E925-4831-BD10-4BCDB20DAD1F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FFBD0-8669-4F72-B2D7-08CF077961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88920" y="2286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细读课文第六段完成下列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05720" y="1523880"/>
            <a:ext cx="13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请找出能够概括这段文字的中心内容的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04320" y="3048120"/>
            <a:ext cx="52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找出“晕”和“华”在外观上的相同点和不同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39625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“朝霞不出门，晚霞行千里”是天气谚语，在文中找出另外的天气谚语；或许，你在课外还收集到一些天气谚语，请把你在文中找到的，以及你在课外收集到的天气谚语，写出两三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A5C-B27E-42B1-A2A0-42CD18503DF4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2C96B-6E6D-4800-B9B8-1B113DF738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26600" y="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imes New Roman"/>
                <a:ea typeface="隶书"/>
              </a:rPr>
              <a:t>各种形象的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头巾" descr=""/>
          <p:cNvPicPr/>
          <p:nvPr/>
        </p:nvPicPr>
        <p:blipFill>
          <a:blip r:embed="rId1"/>
          <a:stretch/>
        </p:blipFill>
        <p:spPr>
          <a:xfrm>
            <a:off x="0" y="725400"/>
            <a:ext cx="9144000" cy="6132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8480" y="5900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海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320" y="-57240"/>
            <a:ext cx="24382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欣赏图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AFC-9A22-4A41-ADA9-0FE37F4DE62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86F8B-07D7-4AF9-AFC2-30A6471EF816}" type="datetime1">
              <a:rPr lang="en-US"/>
              <a:t>07/31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07600" y="9414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我们还可以根据云上的光彩现象，推测天气的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7440" y="17334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相同点：都是圆形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93360" y="2295360"/>
            <a:ext cx="52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同点：产生地点不同。晕产生在卷层云上，华产生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高积云的边缘部分；排列顺序不同。晕里红外紫，华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紫外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48240" y="3965400"/>
            <a:ext cx="542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傍晚观察到彩虹必在东方，晚霞也在东方，预示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气不会下雨。晚上又观察到月亮周围有光环，如果是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晕，明天午时会有风；如果是月华，华环一般会由小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大，预示明天好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AE0-1557-4FC8-AA71-19215C9CDB1F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4FE31-5E63-4315-8954-B63BAFA02C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什么是谚语？谚语是在群众中流传的固定语句，用简单通俗的话反映出深刻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关于天气的一些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鱼鳞鳞，不雨风也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瓦块云，热死人；梯梯云，干破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有雨四边亮，无雨顶上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天上起了鱼鳞斑，明日晒谷不用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天上起了泡泡云，不过三天雨淋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B8A-6E11-4DB9-8822-292C10DEE84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448A5-CB87-42FF-A356-8FEAA6AF7E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.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本节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如何用表格表征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１、合理设计表格的项目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２、用语简洁精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C8B-3ABE-471A-B121-F6F3116A2C9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28989-C6AF-4E03-9CCA-A586EECC5A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280" y="260280"/>
            <a:ext cx="3041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836640"/>
            <a:ext cx="8136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请说下面几幅图片中的云的类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E62-CE70-490C-8F7A-1E5DA102D3D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84482-E1BC-469D-AC88-931F68CD68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3962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762120"/>
            <a:ext cx="2286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8380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积雨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B7D-9BD6-496B-B4A1-DB2B743238DD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9C3E4-74EF-4673-B9BD-66CA722003F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8380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卷积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99A-6618-46CE-833C-BB701EFB87D2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6DCF3-230B-4C5C-AEE6-6002E0DF438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57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积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A49-B3C7-4D76-A6B6-9975A632AD24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0541E-11FF-4C25-AF1E-D5B885FD846B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762120"/>
            <a:ext cx="1981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幼圆"/>
              </a:rPr>
              <a:t>高层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815-E763-4DE3-90EE-BE1523A39F57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0F0E0-D0E8-433F-BBBA-AF005825E3E4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6094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雨层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416-EFBA-436C-8755-1874DCD0DBB0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B0307-2104-4FB5-917E-9FC18ABDB45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57200"/>
            <a:ext cx="2361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高积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C9C-B32A-4E21-8770-BD030F4DC55A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B27C4-3992-447A-AE39-04A32D6EB912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像狗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67240" y="1606680"/>
            <a:ext cx="164340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640-41D2-4850-9E75-4E532CF9DB2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5746B-F302-4B97-B4E7-52B0A154796D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419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080" y="457200"/>
            <a:ext cx="851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卷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B1F-4731-4248-A0A2-FB121BF8DB9D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33492-23E1-4C66-9DD5-07CC8006D49D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838080"/>
            <a:ext cx="1905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隶书"/>
              </a:rPr>
              <a:t>卷层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ABD-486A-4D8F-A88B-3638BF70246F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8C081-5E7B-4365-8162-F046D314AC14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3992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80880"/>
            <a:ext cx="1143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457200"/>
            <a:ext cx="2895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D7D-978A-4120-AB1F-3416FC943A8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7D950-D3F2-4F42-A6CB-E105B061D4E2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426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FC4-44A7-4981-ABEC-00FC2C551CB1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F015F-A660-4BD2-BD0C-EE2445FC5427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62800" cy="4039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ADE-1933-44C3-9067-05F3C232F44D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30840-BE78-4B26-9AC2-BD0C1FFFC5E5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3962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F91-781E-4532-B329-DC062D9DDF10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E9433-3941-493E-9B79-909B1D601687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8" name="w-055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F74-ECAE-4607-ABAB-22F51F182084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47848-6C81-4F54-9020-D24FB77C2A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_11989" descr=""/>
          <p:cNvPicPr/>
          <p:nvPr/>
        </p:nvPicPr>
        <p:blipFill>
          <a:blip r:embed="rId1"/>
          <a:stretch/>
        </p:blipFill>
        <p:spPr>
          <a:xfrm>
            <a:off x="990720" y="0"/>
            <a:ext cx="7238880" cy="677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1FA-7531-4C54-9362-389F11D26105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88E17-17BD-4EAA-824E-2A98411B15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862488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.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察这一周的云的情况，并预测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成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[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造句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]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天上的云……像峰峦，像河流，像雄狮，像奔马……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◆远处的霓红灯亮了，……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◆每月光照在地上，像…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E72-3F4E-490C-941B-2AE47D522D45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E461F-C7B4-4BC6-93FC-1ECCD37EC9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兔子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02080" y="1811520"/>
            <a:ext cx="164340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9D2-0B7E-434E-BF85-6E366982899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81E1B-5822-4EFC-9E65-8D9830A7DBCE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鸭子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88000" y="3412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鸭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1E1-82E5-4139-9923-E888DAF27DD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25ADC-EA9B-463A-AFDB-888B8302EFB6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鱼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49280" y="685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572-E225-45C7-BE3C-47AEEB8B2AB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AEB45-BEE9-4C24-8F20-E9F758944372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像奔马云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73720" y="-1033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奔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266-6C76-4C88-A8C8-C1157DC0F5B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98213-CC2F-4303-8E25-D2E30AEFB39E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像羽毛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92840" y="289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羽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F7B-1622-4ACA-860F-16AF08236F7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685CD-331D-42CD-8B5D-81D2E47CEC75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4:04:14Z</dcterms:created>
  <dc:creator>wutao</dc:creator>
  <dc:description/>
  <dc:language>en-US</dc:language>
  <cp:lastModifiedBy>jxsz3</cp:lastModifiedBy>
  <dcterms:modified xsi:type="dcterms:W3CDTF">2004-02-23T02:48:24Z</dcterms:modified>
  <cp:revision>100</cp:revision>
  <dc:subject/>
  <dc:title>看云识天气 </dc:title>
</cp:coreProperties>
</file>