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E0B5-BCC9-4A81-B611-4DDC99EF7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D6DA-D9D1-4933-9028-12C0371E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0E3C-887F-4DA2-A21E-44DA2BE16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389C-B571-4689-B59F-21B3085C4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BFD9-E23A-4BE1-A518-537A36DA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CAF1-D9D5-4BBA-B23D-2FE37392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C2F8-0862-496D-A1B2-BB7EBADC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1EFD-E005-41DB-B02E-01F7E42F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39A9-D500-4BB7-B87C-6D6F1997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B19B-8B5F-40CA-B5C7-4BF21DB8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3303-80C2-4AB9-BF70-7A209444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2653-4B04-412B-A7F9-18F33EC2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0917-584D-4034-A6BC-F3A0D5287D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eather.he.cninfo.net/yuntu/gcy/1.jpg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www.weather.he.cninfo.net/yuntu/gcy/3.jpg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www.weather.he.cninfo.net/yuntu/gjy/1.jpg" TargetMode="External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eather.he.cninfo.net/yuntu/jy/4.jpg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www.weather.he.cninfo.net/yuntu/jy/3.jpg" TargetMode="External"/><Relationship Id="rId5" Type="http://schemas.openxmlformats.org/officeDocument/2006/relationships/image" Target="../media/image14.jpeg"/><Relationship Id="rId6" Type="http://schemas.openxmlformats.org/officeDocument/2006/relationships/hyperlink" Target="http://www.weather.he.cninfo.net/yuntu/jcy/1.jpg" TargetMode="External"/><Relationship Id="rId7" Type="http://schemas.openxmlformats.org/officeDocument/2006/relationships/image" Target="../media/image15.jpeg"/><Relationship Id="rId8" Type="http://schemas.openxmlformats.org/officeDocument/2006/relationships/hyperlink" Target="http://www.weather.he.cninfo.net/yuntu/jcy/4.jpg" TargetMode="External"/><Relationship Id="rId9" Type="http://schemas.openxmlformats.org/officeDocument/2006/relationships/image" Target="../media/image16.jpeg"/><Relationship Id="rId10" Type="http://schemas.openxmlformats.org/officeDocument/2006/relationships/hyperlink" Target="http://www.weather.he.cninfo.net/yuntu/jjy/2.jpg" TargetMode="External"/><Relationship Id="rId11" Type="http://schemas.openxmlformats.org/officeDocument/2006/relationships/image" Target="../media/image17.jpeg"/><Relationship Id="rId12" Type="http://schemas.openxmlformats.org/officeDocument/2006/relationships/hyperlink" Target="http://www.weather.he.cninfo.net/yuntu/jjy/4.jpg" TargetMode="External"/><Relationship Id="rId13" Type="http://schemas.openxmlformats.org/officeDocument/2006/relationships/image" Target="../media/image18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1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094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826640" y="2270160"/>
            <a:ext cx="566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6600ff"/>
                </a:solidFill>
                <a:latin typeface="隶书"/>
                <a:ea typeface="隶书"/>
              </a:rPr>
              <a:t>看 云 识 天 气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76520" y="2937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新课标七年级第一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006080" y="58896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：举例说明这部分说明语言的生动、形象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85720" y="1308240"/>
            <a:ext cx="23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运用贴切的比喻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25640" y="2133720"/>
            <a:ext cx="20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运用引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48120" y="3068640"/>
            <a:ext cx="246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用描写的语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931760" y="900000"/>
            <a:ext cx="24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朗读读第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段课文填表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611280" y="549360"/>
          <a:ext cx="7993080" cy="6003720"/>
        </p:xfrm>
        <a:graphic>
          <a:graphicData uri="http://schemas.openxmlformats.org/drawingml/2006/table">
            <a:tbl>
              <a:tblPr/>
              <a:tblGrid>
                <a:gridCol w="1079280"/>
                <a:gridCol w="2694240"/>
                <a:gridCol w="1170000"/>
                <a:gridCol w="3049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光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产生和分布情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光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天气征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产生在卷层云上，分布在日月周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里红外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日晕三更雨，月晕午时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产生在高积云边缘部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里紫外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华环由小变大，转晴华环由大变小，转阴雨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雨过天晴，在太阳对面的云幕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彩色圆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东虹轰隆西虹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早、晚，太阳照着对面的云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云层变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朝霞西阴雨袭晚霞东几天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92200" y="857160"/>
            <a:ext cx="736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6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这段没有用比喻、拟人的修辞手法，没有细致的描绘，怎样使语言鲜明生动的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350800" y="1341360"/>
            <a:ext cx="3015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总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如何用表格表征信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１、合理设计表格的项目。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２、用语简洁精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093680" y="284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课堂活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26920" y="2565360"/>
            <a:ext cx="7696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请说出下面的图片中的云的类型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t1(3)" descr=""/>
          <p:cNvPicPr/>
          <p:nvPr/>
        </p:nvPicPr>
        <p:blipFill>
          <a:blip r:embed="rId2"/>
          <a:stretch/>
        </p:blipFill>
        <p:spPr>
          <a:xfrm>
            <a:off x="1447920" y="320040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45" name="t1" descr=""/>
          <p:cNvPicPr/>
          <p:nvPr/>
        </p:nvPicPr>
        <p:blipFill>
          <a:blip r:embed="rId3"/>
          <a:stretch/>
        </p:blipFill>
        <p:spPr>
          <a:xfrm>
            <a:off x="228600" y="609480"/>
            <a:ext cx="2743200" cy="1833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62800" y="2438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积云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73960" y="5029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积雨云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t3(2)" descr=""/>
          <p:cNvPicPr/>
          <p:nvPr/>
        </p:nvPicPr>
        <p:blipFill>
          <a:blip r:embed="rId4"/>
          <a:stretch/>
        </p:blipFill>
        <p:spPr>
          <a:xfrm>
            <a:off x="3200400" y="609480"/>
            <a:ext cx="2743200" cy="1828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05320" y="2362320"/>
            <a:ext cx="22096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层积云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t3(3)" descr=""/>
          <p:cNvPicPr/>
          <p:nvPr/>
        </p:nvPicPr>
        <p:blipFill>
          <a:blip r:embed="rId5"/>
          <a:stretch/>
        </p:blipFill>
        <p:spPr>
          <a:xfrm>
            <a:off x="6172200" y="609480"/>
            <a:ext cx="2666880" cy="1828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781680" y="2362320"/>
            <a:ext cx="18288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层云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5029200"/>
            <a:ext cx="21337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雨层云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t4(4)" descr=""/>
          <p:cNvPicPr/>
          <p:nvPr/>
        </p:nvPicPr>
        <p:blipFill>
          <a:blip r:embed="rId6"/>
          <a:stretch/>
        </p:blipFill>
        <p:spPr>
          <a:xfrm>
            <a:off x="5105520" y="3200400"/>
            <a:ext cx="2743200" cy="1828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92560" y="579132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大部分低云都可能产生降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下雨-17" descr=""/>
          <p:cNvPicPr/>
          <p:nvPr/>
        </p:nvPicPr>
        <p:blipFill>
          <a:blip r:embed="rId7"/>
          <a:stretch/>
        </p:blipFill>
        <p:spPr>
          <a:xfrm>
            <a:off x="8327880" y="6122880"/>
            <a:ext cx="816120" cy="7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7212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09480" y="228600"/>
            <a:ext cx="228600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网络资源：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447920" y="3352680"/>
            <a:ext cx="57150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http://www.metech.org.cn/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143000" y="1905120"/>
            <a:ext cx="6400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行楷"/>
              </a:rPr>
              <a:t>气象科技网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38240" y="3162240"/>
            <a:ext cx="8869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t1(7)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10080" y="2514600"/>
            <a:ext cx="2743200" cy="1981080"/>
          </a:xfrm>
          <a:prstGeom prst="rect">
            <a:avLst/>
          </a:prstGeom>
          <a:ln w="0">
            <a:noFill/>
          </a:ln>
        </p:spPr>
      </p:pic>
      <p:pic>
        <p:nvPicPr>
          <p:cNvPr id="58" name="t3(5)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90720" y="380880"/>
            <a:ext cx="2743200" cy="1879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837440" y="4724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层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t1(1)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990720" y="2590920"/>
            <a:ext cx="2743200" cy="1930320"/>
          </a:xfrm>
          <a:prstGeom prst="rect">
            <a:avLst/>
          </a:prstGeom>
          <a:ln w="0">
            <a:noFill/>
          </a:ln>
        </p:spPr>
      </p:pic>
      <p:pic>
        <p:nvPicPr>
          <p:cNvPr id="61" name="t4(6)" descr=""/>
          <p:cNvPicPr/>
          <p:nvPr/>
        </p:nvPicPr>
        <p:blipFill>
          <a:blip r:embed="rId8"/>
          <a:stretch/>
        </p:blipFill>
        <p:spPr>
          <a:xfrm>
            <a:off x="5410080" y="380880"/>
            <a:ext cx="2743200" cy="1981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257160" y="46483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积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92200" y="533412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高层云常产生降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薄的高积云一般无降水产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23120" y="457200"/>
            <a:ext cx="1277640" cy="24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      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10520" y="48006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卷云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1280" y="4724280"/>
            <a:ext cx="22100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卷层云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t4(7)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85800"/>
            <a:ext cx="2743200" cy="1828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3080" y="4724280"/>
            <a:ext cx="22860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卷积云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33720" y="571500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高云一般不产生降水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t3(7)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266688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71" name="t1(9)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276720" y="68580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72" name="t4(8)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276720" y="266688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73" name="t2(9)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172200" y="2666880"/>
            <a:ext cx="2743200" cy="1854360"/>
          </a:xfrm>
          <a:prstGeom prst="rect">
            <a:avLst/>
          </a:prstGeom>
          <a:ln w="0">
            <a:noFill/>
          </a:ln>
        </p:spPr>
      </p:pic>
      <p:pic>
        <p:nvPicPr>
          <p:cNvPr id="74" name="t4(9)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172200" y="685800"/>
            <a:ext cx="2743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1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2743200" cy="2133720"/>
          </a:xfrm>
          <a:prstGeom prst="rect">
            <a:avLst/>
          </a:prstGeom>
          <a:ln w="0">
            <a:noFill/>
          </a:ln>
        </p:spPr>
      </p:pic>
      <p:pic>
        <p:nvPicPr>
          <p:cNvPr id="76" name="t2" descr=""/>
          <p:cNvPicPr/>
          <p:nvPr/>
        </p:nvPicPr>
        <p:blipFill>
          <a:blip r:embed="rId3"/>
          <a:stretch/>
        </p:blipFill>
        <p:spPr>
          <a:xfrm>
            <a:off x="3352680" y="1295280"/>
            <a:ext cx="2590920" cy="2133720"/>
          </a:xfrm>
          <a:prstGeom prst="rect">
            <a:avLst/>
          </a:prstGeom>
          <a:ln w="0">
            <a:noFill/>
          </a:ln>
        </p:spPr>
      </p:pic>
      <p:pic>
        <p:nvPicPr>
          <p:cNvPr id="77" name="22" descr=""/>
          <p:cNvPicPr/>
          <p:nvPr/>
        </p:nvPicPr>
        <p:blipFill>
          <a:blip r:embed="rId4"/>
          <a:stretch/>
        </p:blipFill>
        <p:spPr>
          <a:xfrm>
            <a:off x="6248520" y="1295280"/>
            <a:ext cx="2590560" cy="2133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209600" y="4038480"/>
            <a:ext cx="688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 云      中 云       高 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68360" y="1125360"/>
            <a:ext cx="79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说明云和天气的密切关系，说明通过看云可以识天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20560" y="2185920"/>
            <a:ext cx="20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——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怎样看云识天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40480" y="3481560"/>
            <a:ext cx="132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看云识天气的目的。方法和注意事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13920" y="4489560"/>
            <a:ext cx="415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――－总说——分说——总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387080" y="4046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四、语段精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1052640"/>
            <a:ext cx="81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课文第一段是怎样的结构形式？从第一段，看本文说明语言的生动形象，你可以举哪些例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57640" y="2276640"/>
            <a:ext cx="3496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总——分——总”的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姿态万千”总说云的形态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化无常”总说云的特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35480" y="3789360"/>
            <a:ext cx="434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第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段上下文有何关系？起什么作用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00000" y="4653000"/>
            <a:ext cx="750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薄云”“晴朗”；“低而厚密的云层”“阴雨风雪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承上说明“云的各种形态”，启下引出“云和天气”的关系。起承上启下的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92200" y="900000"/>
            <a:ext cx="750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默读课文第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．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１）用表格归纳各种云的特点及与天气的关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324000" y="0"/>
          <a:ext cx="8353440" cy="6514920"/>
        </p:xfrm>
        <a:graphic>
          <a:graphicData uri="http://schemas.openxmlformats.org/drawingml/2006/table">
            <a:tbl>
              <a:tblPr/>
              <a:tblGrid>
                <a:gridCol w="1224000"/>
                <a:gridCol w="2952720"/>
                <a:gridCol w="1295280"/>
                <a:gridCol w="2881440"/>
              </a:tblGrid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种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形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位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天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卷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像羽毛像绫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最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阳光可以透过它照到地面，天气晴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卷积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像粼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很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它不会带来雨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积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像棉花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r>
                        <a:rPr b="1" lang="zh-CN" sz="24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米左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在天空映着温和的阳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高积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像羊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r>
                        <a:rPr b="1" lang="zh-CN" sz="24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米左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云块间露出碧蓝的天空天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卷层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仿佛白色调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它向前推进，天气将转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高层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像毛玻璃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低 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它预示将要下雨或下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雨层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布满天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更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雨雪就开始下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积雨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形成高大的云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更低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马上就会下暴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6T06:53:00Z</dcterms:created>
  <dc:creator>wutao</dc:creator>
  <dc:description/>
  <dc:language>en-US</dc:language>
  <cp:lastModifiedBy>ymr</cp:lastModifiedBy>
  <dcterms:modified xsi:type="dcterms:W3CDTF">2006-09-06T01:18:27Z</dcterms:modified>
  <cp:revision>101</cp:revision>
  <dc:subject/>
  <dc:title>PowerPoint 演示文稿</dc:title>
</cp:coreProperties>
</file>