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34.gif" ContentType="image/gif"/>
  <Override PartName="/ppt/media/image25.jpeg" ContentType="image/jpeg"/>
  <Override PartName="/ppt/media/image20.jpeg" ContentType="image/jpeg"/>
  <Override PartName="/ppt/media/image19.gif" ContentType="image/gif"/>
  <Override PartName="/ppt/media/image17.gif" ContentType="image/gif"/>
  <Override PartName="/ppt/media/image21.png" ContentType="image/png"/>
  <Override PartName="/ppt/media/image16.gif" ContentType="image/gif"/>
  <Override PartName="/ppt/media/image28.jpeg" ContentType="image/jpeg"/>
  <Override PartName="/ppt/media/image15.gif" ContentType="image/gif"/>
  <Override PartName="/ppt/media/image18.jpeg" ContentType="image/jpeg"/>
  <Override PartName="/ppt/media/image36.png" ContentType="image/png"/>
  <Override PartName="/ppt/media/image13.gif" ContentType="image/gif"/>
  <Override PartName="/ppt/media/chimes.wav" ContentType="audio/x-wav"/>
  <Override PartName="/ppt/media/image8.gif" ContentType="image/gif"/>
  <Override PartName="/ppt/media/image38.gif" ContentType="image/gif"/>
  <Override PartName="/ppt/media/image37.png" ContentType="image/png"/>
  <Override PartName="/ppt/media/image9.gif" ContentType="image/gif"/>
  <Override PartName="/ppt/media/image39.gif" ContentType="image/gif"/>
  <Override PartName="/ppt/media/image10.gif" ContentType="image/gif"/>
  <Override PartName="/ppt/media/image11.gif" ContentType="image/gif"/>
  <Override PartName="/ppt/media/image30.jpeg" ContentType="image/jpeg"/>
  <Override PartName="/ppt/media/image12.gif" ContentType="image/gif"/>
  <Override PartName="/ppt/media/image24.jpeg" ContentType="image/jpeg"/>
  <Override PartName="/ppt/media/image32.gif" ContentType="image/gif"/>
  <Override PartName="/ppt/media/image26.jpeg" ContentType="image/jpeg"/>
  <Override PartName="/ppt/media/image6.jpeg" ContentType="image/jpeg"/>
  <Override PartName="/ppt/media/image1.jpeg" ContentType="image/jpeg"/>
  <Override PartName="/ppt/media/image22.jpeg" ContentType="image/jpeg"/>
  <Override PartName="/ppt/media/image33.gif" ContentType="image/gif"/>
  <Override PartName="/ppt/media/image3.gif" ContentType="image/gif"/>
  <Override PartName="/ppt/media/image2.jpeg" ContentType="image/jpeg"/>
  <Override PartName="/ppt/media/image23.jpeg" ContentType="image/jpeg"/>
  <Override PartName="/ppt/media/image35.png" ContentType="image/png"/>
  <Override PartName="/ppt/media/image5.png" ContentType="image/png"/>
  <Override PartName="/ppt/media/image7.gif" ContentType="image/gif"/>
  <Override PartName="/ppt/media/image29.jpeg" ContentType="image/jpeg"/>
  <Override PartName="/ppt/media/image31.jpeg" ContentType="image/jpeg"/>
  <Override PartName="/ppt/media/image1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40E-4C9F-4031-A551-E6509F5B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BC0-EE20-4266-88F3-4740D9B5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A4A-B0E3-495A-99C4-7454D73D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885-CF41-428A-A4BB-70691110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0C7-C4B9-4319-B611-0C0FE10E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DD61-2BC7-45F1-9195-D8A1A9FA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4BF-82CA-456D-990F-E80722C9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F83-4EAB-4A22-861C-C2531AD8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BDA-667F-4FC8-B687-D736ECAD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6589-EEC8-4CCF-AF09-C6D6F609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143-530B-457E-8196-CD4BA47C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B70-5ED5-4520-8FA7-25C718F5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AD1C-DFE1-4719-8081-759186E39F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1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1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1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1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6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6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16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6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1.xml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22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6.jpeg"/><Relationship Id="rId3" Type="http://schemas.openxmlformats.org/officeDocument/2006/relationships/slide" Target="slide10.xml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7.gif"/><Relationship Id="rId14" Type="http://schemas.openxmlformats.org/officeDocument/2006/relationships/slide" Target="slide11.xml"/><Relationship Id="rId15" Type="http://schemas.openxmlformats.org/officeDocument/2006/relationships/image" Target="../media/image8.gif"/><Relationship Id="rId16" Type="http://schemas.openxmlformats.org/officeDocument/2006/relationships/slide" Target="slide12.xml"/><Relationship Id="rId17" Type="http://schemas.openxmlformats.org/officeDocument/2006/relationships/image" Target="../media/image9.gif"/><Relationship Id="rId18" Type="http://schemas.openxmlformats.org/officeDocument/2006/relationships/slide" Target="slide13.xml"/><Relationship Id="rId19" Type="http://schemas.openxmlformats.org/officeDocument/2006/relationships/image" Target="../media/image10.gif"/><Relationship Id="rId20" Type="http://schemas.openxmlformats.org/officeDocument/2006/relationships/slide" Target="slide14.xml"/><Relationship Id="rId21" Type="http://schemas.openxmlformats.org/officeDocument/2006/relationships/image" Target="../media/image11.gif"/><Relationship Id="rId22" Type="http://schemas.openxmlformats.org/officeDocument/2006/relationships/slide" Target="slide15.xml"/><Relationship Id="rId23" Type="http://schemas.openxmlformats.org/officeDocument/2006/relationships/image" Target="../media/image12.gif"/><Relationship Id="rId24" Type="http://schemas.openxmlformats.org/officeDocument/2006/relationships/slide" Target="slide16.xml"/><Relationship Id="rId25" Type="http://schemas.openxmlformats.org/officeDocument/2006/relationships/image" Target="../media/image13.gif"/><Relationship Id="rId26" Type="http://schemas.openxmlformats.org/officeDocument/2006/relationships/slide" Target="slide17.xml"/><Relationship Id="rId27" Type="http://schemas.openxmlformats.org/officeDocument/2006/relationships/image" Target="../media/image14.gif"/><Relationship Id="rId28" Type="http://schemas.openxmlformats.org/officeDocument/2006/relationships/slide" Target="slide18.xml"/><Relationship Id="rId29" Type="http://schemas.openxmlformats.org/officeDocument/2006/relationships/image" Target="../media/image15.gif"/><Relationship Id="rId30" Type="http://schemas.openxmlformats.org/officeDocument/2006/relationships/slide" Target="slide11.xml"/><Relationship Id="rId31" Type="http://schemas.openxmlformats.org/officeDocument/2006/relationships/image" Target="../media/image6.jpeg"/><Relationship Id="rId32" Type="http://schemas.openxmlformats.org/officeDocument/2006/relationships/slide" Target="slide12.xml"/><Relationship Id="rId33" Type="http://schemas.openxmlformats.org/officeDocument/2006/relationships/image" Target="../media/image6.jpeg"/><Relationship Id="rId34" Type="http://schemas.openxmlformats.org/officeDocument/2006/relationships/image" Target="../media/image16.gif"/><Relationship Id="rId35" Type="http://schemas.openxmlformats.org/officeDocument/2006/relationships/image" Target="../media/image7.gif"/><Relationship Id="rId36" Type="http://schemas.openxmlformats.org/officeDocument/2006/relationships/image" Target="../media/image7.gif"/><Relationship Id="rId37" Type="http://schemas.openxmlformats.org/officeDocument/2006/relationships/image" Target="../media/image7.gif"/><Relationship Id="rId38" Type="http://schemas.openxmlformats.org/officeDocument/2006/relationships/image" Target="../media/image17.gif"/><Relationship Id="rId39" Type="http://schemas.openxmlformats.org/officeDocument/2006/relationships/image" Target="../media/image17.gif"/><Relationship Id="rId40" Type="http://schemas.openxmlformats.org/officeDocument/2006/relationships/image" Target="../media/image17.gif"/><Relationship Id="rId41" Type="http://schemas.openxmlformats.org/officeDocument/2006/relationships/image" Target="../media/image17.gif"/><Relationship Id="rId42" Type="http://schemas.openxmlformats.org/officeDocument/2006/relationships/image" Target="../media/image17.gif"/><Relationship Id="rId43" Type="http://schemas.openxmlformats.org/officeDocument/2006/relationships/image" Target="../media/image7.gif"/><Relationship Id="rId44" Type="http://schemas.openxmlformats.org/officeDocument/2006/relationships/image" Target="../media/image8.gif"/><Relationship Id="rId4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620640"/>
            <a:ext cx="3168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333399"/>
                </a:solidFill>
                <a:latin typeface="Arial"/>
                <a:ea typeface="华文行楷"/>
              </a:rPr>
              <a:t>看云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33360" y="1989000"/>
            <a:ext cx="1262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3399"/>
                </a:solidFill>
                <a:latin typeface="Arial"/>
                <a:ea typeface="幼圆"/>
              </a:rPr>
              <a:t>识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580800" y="692280"/>
            <a:ext cx="1963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ffff"/>
                </a:solidFill>
                <a:latin typeface="Arial"/>
                <a:ea typeface="华文行楷"/>
              </a:rPr>
              <a:t>天气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44760" y="620640"/>
            <a:ext cx="14094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丝丝缕缕地漂浮着，有时像一片白色的羽毛，有时像一块洁白的绫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6804000" y="522936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华文隶书"/>
              </a:rPr>
              <a:t>卷  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8556480" y="62485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rcRect l="0" t="555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311840" y="620640"/>
            <a:ext cx="667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卷云成群成行地排列在空中好像微风吹过水面引起的粼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5940360" y="5516640"/>
            <a:ext cx="32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卷 积 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8556480" y="62485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75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积云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86240" y="304920"/>
            <a:ext cx="14094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像棉花团，上午出现，傍晚渐渐消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00720" y="5516640"/>
            <a:ext cx="16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6095880" y="4724280"/>
            <a:ext cx="25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隶书"/>
                <a:ea typeface="华文隶书"/>
              </a:rPr>
              <a:t>积   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rcRect l="0" t="0" r="0" b="4401"/>
          <a:stretch/>
        </p:blipFill>
        <p:spPr>
          <a:xfrm>
            <a:off x="0" y="0"/>
            <a:ext cx="975672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09720" y="620640"/>
            <a:ext cx="458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2280" y="333360"/>
            <a:ext cx="7290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像草原上洁白的羊群，成群的扁球状排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6300720" y="558972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高 积 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9144000" y="62485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rcRect l="0" t="0" r="0" b="44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164960" y="1197000"/>
            <a:ext cx="7290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天空渐渐出现一层薄云，仿佛蒙上了白色的绸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6012000" y="494172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隶书"/>
              </a:rPr>
              <a:t>卷层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556480" y="62485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rcRect l="0" t="0" r="0" b="44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250640" y="907920"/>
            <a:ext cx="729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隔着云看太阳和月亮，就像隔了一层毛玻璃，朦胧不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5940360" y="52293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Arial"/>
                <a:ea typeface="华文隶书"/>
              </a:rPr>
              <a:t>高层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8556480" y="62485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662480" y="765000"/>
            <a:ext cx="6678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云压得更低、变得更厚，太阳和月亮都躲藏了起来，天空被暗灰色的云块密密层层地布满了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5940360" y="486900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Arial"/>
                <a:ea typeface="华文隶书"/>
              </a:rPr>
              <a:t> </a:t>
            </a:r>
            <a:r>
              <a:rPr b="1" lang="zh-CN" sz="6000" spc="-1" strike="noStrike">
                <a:solidFill>
                  <a:srgbClr val="00ff00"/>
                </a:solidFill>
                <a:latin typeface="Arial"/>
                <a:ea typeface="华文隶书"/>
              </a:rPr>
              <a:t>雨层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8556480" y="62485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24640" y="907920"/>
            <a:ext cx="1826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形成高大的云山，群峰争奇，耸人天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6300720" y="5373720"/>
            <a:ext cx="28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ff00"/>
                </a:solidFill>
                <a:latin typeface="Arial"/>
                <a:ea typeface="华文隶书"/>
              </a:rPr>
              <a:t>积雨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8556480" y="62485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72640" y="3063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ff33"/>
                </a:solidFill>
                <a:latin typeface="Times New Roman"/>
                <a:ea typeface="隶书"/>
              </a:rPr>
              <a:t>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8556480" y="62485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华" descr=""/>
          <p:cNvPicPr/>
          <p:nvPr/>
        </p:nvPicPr>
        <p:blipFill>
          <a:blip r:embed="rId1"/>
          <a:stretch/>
        </p:blipFill>
        <p:spPr>
          <a:xfrm>
            <a:off x="-1066680" y="-312840"/>
            <a:ext cx="10210680" cy="74836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304920"/>
            <a:ext cx="1447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556480" y="62485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a1c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flipH="1">
            <a:off x="1044000" y="1844640"/>
            <a:ext cx="88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99"/>
                </a:solidFill>
                <a:latin typeface="Arial"/>
                <a:ea typeface="幼圆"/>
              </a:rPr>
              <a:t>看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幼圆"/>
              </a:rPr>
              <a:t>云</a:t>
            </a:r>
            <a:r>
              <a:rPr b="1" lang="zh-CN" sz="4400" spc="-1" strike="noStrike">
                <a:solidFill>
                  <a:srgbClr val="ff6699"/>
                </a:solidFill>
                <a:latin typeface="Arial"/>
                <a:ea typeface="幼圆"/>
              </a:rPr>
              <a:t>识天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1268280"/>
            <a:ext cx="288720" cy="4465800"/>
          </a:xfrm>
          <a:custGeom>
            <a:avLst/>
            <a:gdLst>
              <a:gd name="textAreaLeft" fmla="*/ 184680 w 288720"/>
              <a:gd name="textAreaRight" fmla="*/ 289080 w 288720"/>
              <a:gd name="textAreaTop" fmla="*/ 116280 h 4465800"/>
              <a:gd name="textAreaBottom" fmla="*/ 4349520 h 446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8640" y="798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看云可识天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81952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怎样看云识天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5280" y="51912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看云识天气的目的，方法和注意事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2438280"/>
            <a:ext cx="288720" cy="2232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9240" y="2338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形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19112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光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07840" y="3962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Arial"/>
                <a:ea typeface="幼圆"/>
              </a:rPr>
              <a:t>（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56944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  <a:ea typeface="幼圆"/>
              </a:rPr>
              <a:t>（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1628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</a:rPr>
              <a:t>（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2133720"/>
            <a:ext cx="228600" cy="936360"/>
          </a:xfrm>
          <a:custGeom>
            <a:avLst/>
            <a:gdLst>
              <a:gd name="textAreaLeft" fmla="*/ 66960 w 228600"/>
              <a:gd name="textAreaRight" fmla="*/ 228960 w 228600"/>
              <a:gd name="textAreaTop" fmla="*/ 38880 h 936360"/>
              <a:gd name="textAreaBottom" fmla="*/ 89748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99ccff"/>
          </a:solidFill>
          <a:ln w="507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30920" y="1752480"/>
            <a:ext cx="27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薄云：</a:t>
            </a:r>
            <a:r>
              <a:rPr b="1" lang="zh-CN" sz="2800" spc="-1" strike="noStrike">
                <a:solidFill>
                  <a:srgbClr val="ff6699"/>
                </a:solidFill>
                <a:latin typeface="Arial"/>
                <a:ea typeface="幼圆"/>
              </a:rPr>
              <a:t>（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251460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低而厚的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"/>
              </a:rPr>
              <a:t>（阴雨风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380988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38862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4572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4572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19520" y="22860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速读，整体感知，理清结构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380880" y="304920"/>
            <a:ext cx="1524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8556480" y="6248520"/>
            <a:ext cx="58752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8556480" y="62485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rcRect l="0" t="5556" r="0" b="0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12840" y="8240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朝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rcRect l="0" t="5558" r="0" b="0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7240680" y="8985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晚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556480" y="6248520"/>
            <a:ext cx="587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0492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Book Antiqua"/>
              </a:rPr>
              <a:t>学生自我发现，小到一个词语、句子，大到几个段落，可谓俯拾皆是。下面请大家用“美在……，因为……”的句式，就文章的语言说一句评论式的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541008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Book Antiqua"/>
              </a:rPr>
              <a:t>语言生动形象严密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8000" y="6021360"/>
            <a:ext cx="1116000" cy="836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2362320" y="22860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说读，探究语言之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2743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Book Antiqua"/>
                <a:ea typeface="楷体_GB2312"/>
              </a:rPr>
              <a:t>本文的语言美在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Book Antiqua"/>
                <a:ea typeface="楷体_GB2312"/>
              </a:rPr>
              <a:t>它们有时把天空点缀得很美丽，有时又把天空笼罩得很阴森。刚才还是白云朵朵，阳光灿烂；一霎间却又是乌云密布，大雨倾盆。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Book Antiqua"/>
                <a:ea typeface="楷体_GB2312"/>
              </a:rPr>
              <a:t>因为它运用了对比的修辞手法，突出地显示了天气的天化无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155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1155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1155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1155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155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1155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1155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1155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baed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09480" y="3808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      </a:t>
            </a:r>
            <a:r>
              <a:rPr b="1" lang="zh-CN" sz="2800" spc="-1" strike="noStrike">
                <a:solidFill>
                  <a:srgbClr val="333399"/>
                </a:solidFill>
                <a:latin typeface="Book Antiqua"/>
              </a:rPr>
              <a:t>描写准确而生动，不仅形象具体，而且有动态特点。用“向上凸起”、“高大的云山”、“群峰争奇”、“耸入天顶”等词语写由积云到积雨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8288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       </a:t>
            </a:r>
            <a:r>
              <a:rPr b="1" lang="zh-CN" sz="2800" spc="-1" strike="noStrike">
                <a:solidFill>
                  <a:srgbClr val="333399"/>
                </a:solidFill>
                <a:latin typeface="Book Antiqua"/>
              </a:rPr>
              <a:t>最后两句话体现了说明文语言的严密性，它与前文中的“往往…‘常常…‘有时’’等词语是相照应的，表明使用词语的准确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429000"/>
            <a:ext cx="8534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      </a:t>
            </a:r>
            <a:r>
              <a:rPr b="1" lang="zh-CN" sz="2800" spc="-1" strike="noStrike">
                <a:solidFill>
                  <a:srgbClr val="333399"/>
                </a:solidFill>
                <a:latin typeface="Book Antiqua"/>
              </a:rPr>
              <a:t>用词准确生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Book Antiqua"/>
              </a:rPr>
              <a:t>用比喻拟人。“有时像一片白色的羽毛，有时像——块洁白的绫纱”说明卷云的轻盈和洁白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Book Antiqua"/>
              </a:rPr>
              <a:t>写卷层云变成高层云时，用“这时的卷层云得改名换姓，该叫高层云了。</a:t>
            </a:r>
            <a:r>
              <a:rPr b="1" lang="zh-CN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aeea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14400" y="685800"/>
            <a:ext cx="7280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Book Antiqua"/>
              </a:rPr>
              <a:t>仿照课文造句。 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Book Antiqua"/>
              </a:rPr>
              <a:t>    示例：天上的云……像峰峦，像河流，像雄狮，像奔马…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e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34560" y="404280"/>
            <a:ext cx="820908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fa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fa004"/>
                </a:solidFill>
                <a:latin typeface="Arial"/>
              </a:rPr>
              <a:t>A</a:t>
            </a:r>
            <a:r>
              <a:rPr b="1" i="1" lang="zh-CN" sz="3600" spc="-1" strike="noStrike">
                <a:solidFill>
                  <a:srgbClr val="0fa004"/>
                </a:solidFill>
                <a:latin typeface="Arial"/>
              </a:rPr>
              <a:t>站军姿的时候，我的双腿就像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fa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fa004"/>
                </a:solidFill>
                <a:latin typeface="Arial"/>
              </a:rPr>
              <a:t>B</a:t>
            </a:r>
            <a:r>
              <a:rPr b="1" i="1" lang="zh-CN" sz="3600" spc="-1" strike="noStrike">
                <a:solidFill>
                  <a:srgbClr val="0fa004"/>
                </a:solidFill>
                <a:latin typeface="Arial"/>
              </a:rPr>
              <a:t>皎洁的月光照在地上，河边的杨柳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fa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fa004"/>
                </a:solidFill>
                <a:latin typeface="Arial"/>
              </a:rPr>
              <a:t>C</a:t>
            </a:r>
            <a:r>
              <a:rPr b="1" i="1" lang="zh-CN" sz="3600" spc="-1" strike="noStrike">
                <a:solidFill>
                  <a:srgbClr val="0fa004"/>
                </a:solidFill>
                <a:latin typeface="Arial"/>
              </a:rPr>
              <a:t>拿着失败的试卷，小明的心情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fa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fa004"/>
                </a:solidFill>
                <a:latin typeface="Arial"/>
              </a:rPr>
              <a:t>D</a:t>
            </a:r>
            <a:r>
              <a:rPr b="1" i="1" lang="zh-CN" sz="3600" spc="-1" strike="noStrike">
                <a:solidFill>
                  <a:srgbClr val="0fa004"/>
                </a:solidFill>
                <a:latin typeface="Arial"/>
              </a:rPr>
              <a:t>远处的霓虹灯亮了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fa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fa004"/>
                </a:solidFill>
                <a:latin typeface="Arial"/>
              </a:rPr>
              <a:t>E</a:t>
            </a:r>
            <a:r>
              <a:rPr b="1" i="1" lang="zh-CN" sz="3600" spc="-1" strike="noStrike">
                <a:solidFill>
                  <a:srgbClr val="0fa004"/>
                </a:solidFill>
                <a:latin typeface="Arial"/>
              </a:rPr>
              <a:t>每当贾老师发怒的时候，他的眼睛就像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59280" y="450864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联想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920000" y="5373720"/>
            <a:ext cx="12240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e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66680" y="1143000"/>
            <a:ext cx="66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Book Antiqua"/>
              </a:rPr>
              <a:t>课文讲的是“看云识天气”，其实在现实生活中，我们不仅仅是通过“看云”才能识别“天气”，我们可以看“动物”、“植物”、“某种现象”或“一些感觉”等都可以帮我们识别天气，有的方法特别灵，有的已形成了谚语，被广为流传。你能说出一两条来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248520" y="4876920"/>
            <a:ext cx="2209680" cy="16761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2362320" y="22860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寻读，课外延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天空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57200" y="914400"/>
            <a:ext cx="8001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隶书"/>
              </a:rPr>
              <a:t>积累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隶书"/>
              </a:rPr>
              <a:t>峰峦：山峰和山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隶书"/>
              </a:rPr>
              <a:t>绫纱：薄的丝织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隶书"/>
              </a:rPr>
              <a:t>粼波：水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隶书"/>
              </a:rPr>
              <a:t>弥漫：（烟尘、雾气等）充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隶书"/>
              </a:rPr>
              <a:t>姿态万千：形容姿态多种多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1089000" cy="10893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2556000" y="981000"/>
            <a:ext cx="3600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41400">
                  <a:solidFill>
                    <a:srgbClr val="99ccff"/>
                  </a:solidFill>
                  <a:miter/>
                </a:ln>
                <a:solidFill>
                  <a:srgbClr val="00ccff"/>
                </a:solidFill>
                <a:latin typeface="幼圆"/>
              </a:rPr>
              <a:t>练  习</a:t>
            </a:r>
            <a:endParaRPr b="1" lang="en-US" sz="1800" spc="1" strike="noStrike">
              <a:ln w="41400">
                <a:solidFill>
                  <a:srgbClr val="99ccff"/>
                </a:solidFill>
                <a:miter/>
              </a:ln>
              <a:solidFill>
                <a:srgbClr val="00ccff"/>
              </a:solidFill>
              <a:latin typeface="幼圆"/>
              <a:ea typeface="幼圆"/>
            </a:endParaRPr>
          </a:p>
        </p:txBody>
      </p:sp>
      <p:sp>
        <p:nvSpPr>
          <p:cNvPr id="267" name=""/>
          <p:cNvSpPr/>
          <p:nvPr/>
        </p:nvSpPr>
        <p:spPr>
          <a:xfrm>
            <a:off x="971640" y="1989000"/>
            <a:ext cx="72723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220968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华文琥珀"/>
              </a:rPr>
              <a:t>1</a:t>
            </a: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华文琥珀"/>
              </a:rPr>
              <a:t>、你能改正下面词语中的错别字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2971800"/>
            <a:ext cx="734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幼圆"/>
                <a:ea typeface="幼圆"/>
              </a:rPr>
              <a:t>锋 峦   绫 纱   鳞 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幼圆"/>
                <a:ea typeface="幼圆"/>
              </a:rPr>
              <a:t>弥 慢   姿态万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223640" cy="1224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971640" y="1989000"/>
            <a:ext cx="72723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905120"/>
            <a:ext cx="770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339933"/>
                </a:solidFill>
                <a:uFillTx/>
                <a:latin typeface="幼圆"/>
                <a:ea typeface="幼圆"/>
              </a:rPr>
              <a:t>锋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（峰）</a:t>
            </a:r>
            <a:r>
              <a:rPr b="1" lang="zh-CN" sz="4800" spc="-1" strike="noStrike">
                <a:solidFill>
                  <a:srgbClr val="339933"/>
                </a:solidFill>
                <a:latin typeface="幼圆"/>
                <a:ea typeface="幼圆"/>
              </a:rPr>
              <a:t>峦    绫纱（√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33"/>
                </a:solidFill>
                <a:latin typeface="幼圆"/>
                <a:ea typeface="幼圆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339933"/>
                </a:solidFill>
                <a:uFillTx/>
                <a:latin typeface="幼圆"/>
                <a:ea typeface="幼圆"/>
              </a:rPr>
              <a:t>鳞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（粼）</a:t>
            </a:r>
            <a:r>
              <a:rPr b="1" lang="zh-CN" sz="4800" spc="-1" strike="noStrike">
                <a:solidFill>
                  <a:srgbClr val="339933"/>
                </a:solidFill>
                <a:latin typeface="幼圆"/>
                <a:ea typeface="幼圆"/>
              </a:rPr>
              <a:t>波    弥</a:t>
            </a:r>
            <a:r>
              <a:rPr b="1" lang="zh-CN" sz="4800" spc="-1" strike="noStrike" u="sng">
                <a:solidFill>
                  <a:srgbClr val="339933"/>
                </a:solidFill>
                <a:uFillTx/>
                <a:latin typeface="幼圆"/>
                <a:ea typeface="幼圆"/>
              </a:rPr>
              <a:t>慢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（漫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33"/>
                </a:solidFill>
                <a:latin typeface="幼圆"/>
                <a:ea typeface="幼圆"/>
              </a:rPr>
              <a:t>姿态万千（√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a1c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362320" y="22860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朗读，理清内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371600"/>
            <a:ext cx="7940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听读，批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．云和天气到底有怎样的关系</a:t>
            </a: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依次介绍了哪些云和光彩？它们各有怎样的特征</a:t>
            </a: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分别预示怎样的天气情况</a:t>
            </a: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请你设计一种表格来完成，看谁设计的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6668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天空的薄云，往往是天气晴朗的象征；那些低而厚密的云层，常常是阴雨风雪的预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467480" y="5410080"/>
            <a:ext cx="990720" cy="952560"/>
          </a:xfrm>
          <a:prstGeom prst="rect">
            <a:avLst/>
          </a:prstGeom>
          <a:ln w="0">
            <a:noFill/>
          </a:ln>
        </p:spPr>
      </p:pic>
      <p:grpSp>
        <p:nvGrpSpPr>
          <p:cNvPr id="274" name=""/>
          <p:cNvGrpSpPr/>
          <p:nvPr/>
        </p:nvGrpSpPr>
        <p:grpSpPr>
          <a:xfrm>
            <a:off x="914400" y="1676520"/>
            <a:ext cx="7315200" cy="992880"/>
            <a:chOff x="914400" y="1676520"/>
            <a:chExt cx="7315200" cy="992880"/>
          </a:xfrm>
        </p:grpSpPr>
        <p:sp>
          <p:nvSpPr>
            <p:cNvPr id="275" name=""/>
            <p:cNvSpPr/>
            <p:nvPr/>
          </p:nvSpPr>
          <p:spPr>
            <a:xfrm>
              <a:off x="914400" y="1676520"/>
              <a:ext cx="525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A.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高积云是成群的扁球状的云块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14400" y="220968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B.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高积云是成群的扁球状的云块，就像草原上雪白的羊群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00200" y="266688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67816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33520" y="3352680"/>
            <a:ext cx="7238880" cy="1015920"/>
            <a:chOff x="533520" y="3352680"/>
            <a:chExt cx="7238880" cy="1015920"/>
          </a:xfrm>
        </p:grpSpPr>
        <p:sp>
          <p:nvSpPr>
            <p:cNvPr id="280" name=""/>
            <p:cNvSpPr/>
            <p:nvPr/>
          </p:nvSpPr>
          <p:spPr>
            <a:xfrm>
              <a:off x="533520" y="3352680"/>
              <a:ext cx="7238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A.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云压得更低，变得更厚，太阳和月亮都躲藏了起来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B.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云压得更低，变得更厚，太阳和月亮都被云遮盖了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0720" y="388620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33520" y="4724280"/>
            <a:ext cx="6858000" cy="1015920"/>
            <a:chOff x="533520" y="4724280"/>
            <a:chExt cx="6858000" cy="1015920"/>
          </a:xfrm>
        </p:grpSpPr>
        <p:sp>
          <p:nvSpPr>
            <p:cNvPr id="283" name=""/>
            <p:cNvSpPr/>
            <p:nvPr/>
          </p:nvSpPr>
          <p:spPr>
            <a:xfrm>
              <a:off x="533520" y="4724280"/>
              <a:ext cx="6858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A.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人家的孩子又白又胖，你的孩子又脏又瘦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B.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人家的孩子就像刚出笼的白馒头，你的孩子就像街上耍把戏的猴子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66680" y="563868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762120" y="60199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1992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9c08"/>
                </a:solidFill>
                <a:latin typeface="Times New Roman"/>
                <a:ea typeface="华文彩云"/>
              </a:rPr>
              <a:t>探索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99072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琥珀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琥珀"/>
              </a:rPr>
              <a:t>、比较下边每组两句的表达效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2" name="chimes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14400" y="1371600"/>
            <a:ext cx="769608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40eac"/>
                </a:solidFill>
                <a:latin typeface="黑体"/>
                <a:ea typeface="黑体"/>
              </a:rPr>
              <a:t>小台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40eac"/>
                </a:solidFill>
                <a:latin typeface="黑体"/>
                <a:ea typeface="黑体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40eac"/>
                </a:solidFill>
                <a:latin typeface="黑体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a40eac"/>
                </a:solidFill>
                <a:latin typeface="黑体"/>
                <a:ea typeface="黑体"/>
              </a:rPr>
              <a:t>在校运会上，我获得一份奖品——一盏漂亮的小台灯。这盏台灯造型很简单，也很优美。细长的灯柱罩着一个长圆形的灯罩。最引人注目的是它的颜色 ，是粉红色的。灯罩和灯柱的底部都点缀着卡通图案和小花，使台灯看起来更加美观。台灯的材料是塑料的，所以比较轻，使用起来就更为方便了。台灯的灯罩可以随意拆下，可以看见里面有一个小电灯泡。当将白色的电线接上电源，灯泡便透过灯罩发出光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40eac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40eac"/>
                </a:solidFill>
                <a:latin typeface="黑体"/>
                <a:ea typeface="黑体"/>
              </a:rPr>
              <a:t>这盏小台灯将成为我房间里一个最美丽的摆设，也将成为我学习中最好的伙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477120" y="5105520"/>
            <a:ext cx="1828800" cy="1447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181480" y="5791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回应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24080" y="68580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晴天云简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8600" y="1447920"/>
          <a:ext cx="8610480" cy="4824360"/>
        </p:xfrm>
        <a:graphic>
          <a:graphicData uri="http://schemas.openxmlformats.org/drawingml/2006/table">
            <a:tbl>
              <a:tblPr/>
              <a:tblGrid>
                <a:gridCol w="1336680"/>
                <a:gridCol w="3235320"/>
                <a:gridCol w="1371600"/>
                <a:gridCol w="990360"/>
                <a:gridCol w="1676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华文新魏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华文新魏"/>
                        </a:rPr>
                        <a:t>云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华文新魏"/>
                        </a:rPr>
                        <a:t>云的形态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华文新魏"/>
                        </a:rPr>
                        <a:t>高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华文新魏"/>
                        </a:rPr>
                        <a:t>厚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华文新魏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266760" y="228600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卷   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63640" y="2641680"/>
            <a:ext cx="26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63840" y="221472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Arial"/>
              </a:rPr>
              <a:t>像羽毛像绫纱，丝丝缕缕地漂浮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278604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19840" y="2286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Arial"/>
              </a:rPr>
              <a:t>最 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32560" y="5667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2286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Arial"/>
              </a:rPr>
              <a:t>最 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24560" y="2286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Arial"/>
              </a:rPr>
              <a:t>象征晴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4" action="ppaction://hlinksldjump"/>
          </p:cNvPr>
          <p:cNvSpPr/>
          <p:nvPr/>
        </p:nvSpPr>
        <p:spPr>
          <a:xfrm>
            <a:off x="266760" y="32050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卷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35120" y="31338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像水面的鳞波，是成群成行的卷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92560" y="32767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很 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3276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很  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6200" y="327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无雨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80360" y="378936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58136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257040" y="419112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积    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0920" y="4724280"/>
            <a:ext cx="24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25760" y="404640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像棉花团，上午出现，傍晚消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426708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2000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米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34120" y="41911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较  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80360" y="46530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41911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阳光温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595008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9840" y="57373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高积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6093000"/>
            <a:ext cx="27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08200" y="5305320"/>
            <a:ext cx="31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草原上雪白的羊群，扁球状，排列整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16440" y="512604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59480" y="609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00720" y="609912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3480" y="57373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较  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24720" y="6093000"/>
            <a:ext cx="11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51640" y="602136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573732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  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340000" y="438120"/>
            <a:ext cx="49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雨雪冰雹云层变化简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628640"/>
          <a:ext cx="8893080" cy="4146840"/>
        </p:xfrm>
        <a:graphic>
          <a:graphicData uri="http://schemas.openxmlformats.org/drawingml/2006/table">
            <a:tbl>
              <a:tblPr/>
              <a:tblGrid>
                <a:gridCol w="1125360"/>
                <a:gridCol w="2475000"/>
                <a:gridCol w="2449440"/>
                <a:gridCol w="1079640"/>
                <a:gridCol w="1763640"/>
              </a:tblGrid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云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变化过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形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位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395280" y="270828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0" y="256536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卷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2781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2487600"/>
            <a:ext cx="22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卷云聚集，向前推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24360" y="2492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像白绸幕蒙住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88000" y="249228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41000" y="2565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晴转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179280" y="33764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高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53280" y="335772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卷云越变越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24360" y="3284640"/>
            <a:ext cx="23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像毛玻璃遮着太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3357720"/>
            <a:ext cx="5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51640" y="3500280"/>
            <a:ext cx="14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将下雨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雨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436572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层云变得更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51280" y="422100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暗灰色云块密布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67400" y="4240080"/>
            <a:ext cx="77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76720" y="4365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雨雪连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500688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积云迅速形成高大云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508464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积雨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5084640"/>
            <a:ext cx="20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乌云密布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508464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24720" y="508464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雷雨冰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6093000"/>
            <a:ext cx="54144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348000" y="0"/>
            <a:ext cx="914400" cy="4572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5076360" y="1125360"/>
            <a:ext cx="1219320" cy="6098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343080" y="1790280"/>
            <a:ext cx="533160" cy="1219320"/>
          </a:xfrm>
          <a:prstGeom prst="wedgeRectCallout">
            <a:avLst>
              <a:gd name="adj1" fmla="val -101787"/>
              <a:gd name="adj2" fmla="val 216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352680"/>
            <a:ext cx="1143000" cy="45720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4800600"/>
            <a:ext cx="1219320" cy="45720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267080" y="4952160"/>
            <a:ext cx="609840" cy="38124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3733920"/>
            <a:ext cx="990720" cy="457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4572000"/>
            <a:ext cx="1295280" cy="45720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2362320"/>
            <a:ext cx="1219320" cy="3808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19640" y="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卷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89680" y="1239840"/>
            <a:ext cx="100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卷积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积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209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高积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4572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雨层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2286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卷层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34290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高层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4800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积雨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5943600"/>
            <a:ext cx="761760" cy="4572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11280" y="549360"/>
          <a:ext cx="7993080" cy="5937120"/>
        </p:xfrm>
        <a:graphic>
          <a:graphicData uri="http://schemas.openxmlformats.org/drawingml/2006/table">
            <a:tbl>
              <a:tblPr/>
              <a:tblGrid>
                <a:gridCol w="1079280"/>
                <a:gridCol w="2694240"/>
                <a:gridCol w="1170000"/>
                <a:gridCol w="3049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光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产生和分布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光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803520" y="12952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55800" y="25146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32120" y="4267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55800" y="54864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99072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产生在卷层云上，分布在日月周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22860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产生在高积云边缘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3733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雨过天晴，在太阳对面的云幕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52578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早、晚，太阳照着对面的云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1066680"/>
            <a:ext cx="12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里红外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2286000"/>
            <a:ext cx="92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里紫外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3429000"/>
            <a:ext cx="76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彩色圆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5410080"/>
            <a:ext cx="121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云层变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106668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晕三更雨，月晕午时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1905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华环由小变大，转晴华环由大变小，转阴雨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525780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朝霞西阴雨袭晚霞东几天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16240" y="3809880"/>
            <a:ext cx="21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东虹轰隆西虹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a1c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362320" y="68580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演读，变换表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67652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Book Antiqua"/>
              </a:rPr>
              <a:t>请大家任选一种云，以第一称的方式作自我介绍</a:t>
            </a:r>
            <a:r>
              <a:rPr b="1" lang="zh-CN" sz="2800" spc="-1" strike="noStrike">
                <a:solidFill>
                  <a:srgbClr val="ff0000"/>
                </a:solidFill>
                <a:latin typeface="Book Antiqua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介绍要求：①充分利用描写云彩的语言材料；②让别人明白你将会带来怎样的天气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334980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示例：“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Hai 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！大家好，我叫卷云，我常丝丝缕缕地飘浮着，有时像一片白色的羽毛，有时像一块洁白的绫纱。别看我身子很单薄，可我最轻盈，站得也最高，阳光可以透过我照到地面。我很受欢迎，因为我会给大家带来晴朗的天气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75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480060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33720" cy="1658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438280" y="0"/>
            <a:ext cx="1981440" cy="1614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4800600" y="0"/>
            <a:ext cx="1981080" cy="1573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7086600" y="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0" y="2286000"/>
            <a:ext cx="2057400" cy="1905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>
            <a:off x="2438280" y="2286000"/>
            <a:ext cx="1981440" cy="1905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4800600" y="2286000"/>
            <a:ext cx="1981080" cy="1905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1"/>
          <a:stretch/>
        </p:blipFill>
        <p:spPr>
          <a:xfrm>
            <a:off x="7162920" y="2286000"/>
            <a:ext cx="1981080" cy="1905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2"/>
          <a:stretch/>
        </p:blipFill>
        <p:spPr>
          <a:xfrm>
            <a:off x="0" y="4800600"/>
            <a:ext cx="2133720" cy="2057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3"/>
          <a:stretch/>
        </p:blipFill>
        <p:spPr>
          <a:xfrm>
            <a:off x="609480" y="380880"/>
            <a:ext cx="846360" cy="914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971800" y="380880"/>
            <a:ext cx="892080" cy="914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410080" y="380880"/>
            <a:ext cx="86832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7772400" y="38088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609480" y="2819520"/>
            <a:ext cx="857520" cy="914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3048120" y="2819520"/>
            <a:ext cx="868320" cy="91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5356080" y="2819520"/>
            <a:ext cx="892440" cy="914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7772400" y="2743200"/>
            <a:ext cx="835200" cy="914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762120" y="5410080"/>
            <a:ext cx="857160" cy="914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2438280" y="4800600"/>
            <a:ext cx="198144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4800600" y="4800600"/>
            <a:ext cx="2133720" cy="2057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4"/>
          <a:stretch/>
        </p:blipFill>
        <p:spPr>
          <a:xfrm>
            <a:off x="3352680" y="5410080"/>
            <a:ext cx="835200" cy="914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5"/>
          <a:stretch/>
        </p:blipFill>
        <p:spPr>
          <a:xfrm>
            <a:off x="2743200" y="5410080"/>
            <a:ext cx="846000" cy="914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6"/>
          <a:stretch/>
        </p:blipFill>
        <p:spPr>
          <a:xfrm>
            <a:off x="5105520" y="5410080"/>
            <a:ext cx="846000" cy="914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7"/>
          <a:stretch/>
        </p:blipFill>
        <p:spPr>
          <a:xfrm>
            <a:off x="5715000" y="5410080"/>
            <a:ext cx="846000" cy="914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8"/>
          <a:stretch/>
        </p:blipFill>
        <p:spPr>
          <a:xfrm>
            <a:off x="2057400" y="0"/>
            <a:ext cx="38088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9"/>
          <a:stretch/>
        </p:blipFill>
        <p:spPr>
          <a:xfrm>
            <a:off x="4419720" y="0"/>
            <a:ext cx="38088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0"/>
          <a:stretch/>
        </p:blipFill>
        <p:spPr>
          <a:xfrm>
            <a:off x="6781680" y="0"/>
            <a:ext cx="3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1"/>
          <a:stretch/>
        </p:blipFill>
        <p:spPr>
          <a:xfrm>
            <a:off x="0" y="1600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2"/>
          <a:stretch/>
        </p:blipFill>
        <p:spPr>
          <a:xfrm>
            <a:off x="0" y="419112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3"/>
          <a:stretch/>
        </p:blipFill>
        <p:spPr>
          <a:xfrm>
            <a:off x="7459560" y="5410080"/>
            <a:ext cx="846360" cy="914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4"/>
          <a:stretch/>
        </p:blipFill>
        <p:spPr>
          <a:xfrm>
            <a:off x="7947000" y="5410080"/>
            <a:ext cx="892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07:48:11Z</dcterms:created>
  <dc:creator>wutao</dc:creator>
  <dc:description/>
  <dc:language>en-US</dc:language>
  <cp:lastModifiedBy>a</cp:lastModifiedBy>
  <dcterms:modified xsi:type="dcterms:W3CDTF">2004-12-16T05:19:21Z</dcterms:modified>
  <cp:revision>100</cp:revision>
  <dc:subject/>
  <dc:title>幻灯片 1</dc:title>
</cp:coreProperties>
</file>