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chimes.wav" ContentType="audio/x-wav"/>
  <Override PartName="/ppt/media/image13.gif" ContentType="image/gif"/>
  <Override PartName="/ppt/media/image16.jpeg" ContentType="image/jpeg"/>
  <Override PartName="/ppt/media/image11.gif" ContentType="image/gif"/>
  <Override PartName="/ppt/media/image6.gif" ContentType="image/gif"/>
  <Override PartName="/ppt/media/image21.gif" ContentType="image/gif"/>
  <Override PartName="/ppt/media/image20.png" ContentType="image/png"/>
  <Override PartName="/ppt/media/image2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23.gif" ContentType="image/gif"/>
  <Override PartName="/ppt/media/image17.jpeg" ContentType="image/jpeg"/>
  <Override PartName="/ppt/media/image15.jpeg" ContentType="image/jpeg"/>
  <Override PartName="/ppt/media/image14.gif" ContentType="image/gif"/>
  <Override PartName="/ppt/media/image22.gif" ContentType="image/gif"/>
  <Override PartName="/ppt/media/image4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666-FE02-46FC-8351-6F848F32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601-9BB3-42B0-BB5F-0DB093B0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BCF-570E-4A41-9854-0ADA8947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720-C599-4E6F-8702-3011FF33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E427-AFFA-4AF0-B905-B11F79C6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F9E0-3EBF-4639-872A-EB7B0EF9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0E01-8FAD-448D-9CCA-49BEBB44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C88F-E7D9-4A12-8DBD-4994E56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3556-C7C9-463B-BA73-018D403E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ABE9-298B-43D6-A699-3BAE3086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3282-FED1-4DCD-A7B2-791355AE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A40-7696-4DA8-8836-526C61EB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8F5D-5AB0-4679-996D-DA63DE7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462C-DA43-4407-9363-1BC38698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35BC-844E-4080-81B3-29A960E7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CDA4-95A6-4089-AD01-0B628713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AA9B-AD52-4D9E-9BFD-904FE0CD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488F-621A-40B2-B0FE-F66387C9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EE0E-1CCB-4D7E-AE87-F69648F0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2004C-93A1-42CF-87EC-4F4401F8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81E4-8040-4858-A854-FCF94564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6A286-CA02-4A5F-BE3A-7A7345D7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D35-9FA1-4737-8F08-6CD0F8D7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950D-9E04-47DE-9282-14897669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5733-D286-49F1-B4CF-4B31E5C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1EBA-3A01-4779-B087-0B95FB00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C4D79-FA7F-4908-BD21-A0FD0DAC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2F7F-C244-4736-9D0F-A8D76375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5C1C-4FD5-4A43-BA53-9D56F26D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8F709-7629-4295-BFEE-CF8057C8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5E03D-FAC7-4D02-8629-DC06F2F8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D8D8-5AA5-42D2-A4E6-8990A456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21ED-DAD0-4136-9F24-3E98108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0BA-496B-489B-9C47-57496E2C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9BA64-4163-432E-836C-F37FDB10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5B67-E0A5-469B-A9DA-FA471442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C2574-F6F0-4C3F-8F94-AEBD22B6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6C5DB-B155-49DC-A89B-95FE340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CD18-C162-4328-B1C6-40A5137F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BCEF5-4247-4A23-A07A-1C9D864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AC259-6BDA-45B2-9DCF-9C093846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26DE6-7658-4A1D-875E-437D3926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6A23-A50B-4D60-AC9C-AA2B740C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BC30-16FE-40F4-8594-28C22A54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8B5-0974-43AB-983B-A0DBAC0E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FF6C-81E3-4400-9C67-5169EEF6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ADBBF-1C62-4DD2-A883-A72A4BAB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4F090-765E-4E81-9040-CEDC98F6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CFD99-BF18-436B-881F-DA1EA0BA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3F66D-FC11-44E4-98AC-B2C9DF1C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DFBFC-9AB8-4F47-961D-38B46A2D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F5607-435D-4C60-9D0B-77831A88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4BAA9-C8A1-4846-BE0D-30BA30B6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FECA6-B293-4942-A6C1-DFDC2272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CAB6-EEC1-4F42-AC22-39EB68EC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2AE-53E4-4FA9-9D82-6150B790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52B29-C6EA-4EA8-8BB1-2A09BC27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22D8C-F629-43BD-B5C5-479950C4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83AC-A015-4279-B9D5-9450FE31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42B06-FA82-421C-9455-6DDCF093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37F53-985F-43DC-96DE-88F39C93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F68D8-28E7-47A3-B79A-C9895278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4B9B-2555-4B9D-9A2F-C560D1DB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4A659-3340-4136-ABC0-15AF8174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0C9C1-9D96-4393-8835-8DD2C0CD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D5DA8-EB3B-4E56-87DA-426FE962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02B-C4F7-40B2-9EF2-0BACB54C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A5C80-9517-49F0-A9AB-C7047495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DF859-4EF9-41BB-B5FD-3AC64C4E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9F74B-7CAF-4052-BE27-3DF35C16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10EE7-8F30-4FA6-A8F4-8640140D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F9384-E018-4231-96A9-9DC29D13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E6C6D-9E78-43FD-822F-5A6CC853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E13C1-D865-485E-AA7C-35B66C56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3BB89-5FA3-4ADB-8589-B29778A0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BADD3-FBE9-4AE3-9D01-5A6D23CA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2E3E4-B8C1-4FA3-B567-9285C1F3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336-13F1-41E7-B5EA-CDA7317F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B4196-8050-425B-B99E-7B704BB2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A2C7E-AC5B-45C4-BB1F-90AC9029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ED83D-0632-46FE-9454-D090019C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4A967-3F68-4B07-9C37-F8B7E035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A534-A48B-4577-BEE8-C78B41AA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C302B-B614-458E-BBDA-75C3B1EB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C4CF3-77CA-4256-BEC2-2A563E40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B8015-97BC-49E2-9188-A8B777F5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6DD0B-D7BF-4F62-BFA9-6B86C347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51D31-3291-4B7A-95F9-8B3376EB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A51-DB4E-478F-A147-C57EE7BB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54268-69A1-4896-B376-02BA5D57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BC2D9-C1A9-4A2B-8D91-F7772884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336D3-A066-47C1-BFB4-CBF21987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A09B8-C289-4432-BBA8-8F4F4CFD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A72B1-E323-4B00-9CB1-02625A78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04CCA-DE77-4B90-8213-C5FD9992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2F6D-29A7-4BE6-83B2-4AF0C65D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927F-8B81-4335-9461-6C0DCF6FC98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AAB4-08A3-4249-B1D6-E7EDF5871B3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5214-3920-4C95-967A-963E2568CC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D9AC-6475-41A4-9385-C91B397E8E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6ACE-E8D9-44D0-B86C-F14651AAD4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F2B2-4FDE-4492-805E-060B27C517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15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61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75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89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03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17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31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45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47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4ACF-3247-42B7-BCA5-47EE266A83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603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17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dt" idx="22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ftr" idx="2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610F-90D7-40D9-AA3E-773B58ACB9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67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://www.sucai.com/viewpic.php?picid=27905" TargetMode="External"/><Relationship Id="rId4" Type="http://schemas.openxmlformats.org/officeDocument/2006/relationships/hyperlink" Target="http://www.sucai.com/viewpic.php?picid=27905" TargetMode="Externa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hyperlink" Target="http://www.sucai.com/viewpic.php?picid=27905" TargetMode="Externa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cai.com/viewpic.php?picid=53931" TargetMode="External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gif"/><Relationship Id="rId3" Type="http://schemas.openxmlformats.org/officeDocument/2006/relationships/image" Target="../media/image8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6259680" cy="1189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omic Sans MS"/>
                <a:ea typeface="隶书"/>
              </a:rPr>
              <a:t>看云识天气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3716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</a:rPr>
              <a:t>透光高积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-18288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0" y="5867280"/>
            <a:ext cx="9144000" cy="990720"/>
            <a:chOff x="0" y="5867280"/>
            <a:chExt cx="9144000" cy="990720"/>
          </a:xfrm>
        </p:grpSpPr>
        <p:grpSp>
          <p:nvGrpSpPr>
            <p:cNvPr id="904" name=""/>
            <p:cNvGrpSpPr/>
            <p:nvPr/>
          </p:nvGrpSpPr>
          <p:grpSpPr>
            <a:xfrm>
              <a:off x="0" y="5867280"/>
              <a:ext cx="9144000" cy="990720"/>
              <a:chOff x="0" y="5867280"/>
              <a:chExt cx="9144000" cy="990720"/>
            </a:xfrm>
          </p:grpSpPr>
          <p:grpSp>
            <p:nvGrpSpPr>
              <p:cNvPr id="905" name=""/>
              <p:cNvGrpSpPr/>
              <p:nvPr/>
            </p:nvGrpSpPr>
            <p:grpSpPr>
              <a:xfrm>
                <a:off x="0" y="5867280"/>
                <a:ext cx="9144000" cy="990720"/>
                <a:chOff x="0" y="5867280"/>
                <a:chExt cx="9144000" cy="99072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0" y="5867280"/>
                  <a:ext cx="560808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7" name=""/>
                <p:cNvGrpSpPr/>
                <p:nvPr/>
              </p:nvGrpSpPr>
              <p:grpSpPr>
                <a:xfrm>
                  <a:off x="0" y="5867280"/>
                  <a:ext cx="9144000" cy="170280"/>
                  <a:chOff x="0" y="5867280"/>
                  <a:chExt cx="9144000" cy="17028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0" y="5867280"/>
                    <a:ext cx="6095880" cy="170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0" y="5867280"/>
                    <a:ext cx="9144000" cy="16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云块常呈扁圆形、瓦块、水波状的密集云条，成群、成行、成波状排列。透光高积云会带来的晴好天气。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0" name=""/>
              <p:cNvSpPr/>
              <p:nvPr/>
            </p:nvSpPr>
            <p:spPr>
              <a:xfrm>
                <a:off x="0" y="5867280"/>
                <a:ext cx="9144000" cy="990720"/>
              </a:xfrm>
              <a:prstGeom prst="rect">
                <a:avLst/>
              </a:prstGeom>
              <a:noFill/>
              <a:ln w="0">
                <a:solidFill>
                  <a:srgbClr val="00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"/>
            <p:cNvSpPr/>
            <p:nvPr/>
          </p:nvSpPr>
          <p:spPr>
            <a:xfrm>
              <a:off x="0" y="5867280"/>
              <a:ext cx="9144000" cy="9907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395280" y="1268280"/>
          <a:ext cx="8136000" cy="4608720"/>
        </p:xfrm>
        <a:graphic>
          <a:graphicData uri="http://schemas.openxmlformats.org/drawingml/2006/table">
            <a:tbl>
              <a:tblPr/>
              <a:tblGrid>
                <a:gridCol w="1027080"/>
                <a:gridCol w="3581640"/>
                <a:gridCol w="1079280"/>
                <a:gridCol w="1008360"/>
                <a:gridCol w="143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云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云的形态变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高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厚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卷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卷积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3" name=""/>
          <p:cNvSpPr/>
          <p:nvPr/>
        </p:nvSpPr>
        <p:spPr>
          <a:xfrm>
            <a:off x="3348000" y="549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2cc6"/>
                </a:solidFill>
                <a:latin typeface="Comic Sans MS"/>
              </a:rPr>
              <a:t>晴天云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4" name=""/>
          <p:cNvGraphicFramePr/>
          <p:nvPr/>
        </p:nvGraphicFramePr>
        <p:xfrm>
          <a:off x="539640" y="1052640"/>
          <a:ext cx="7777440" cy="4736880"/>
        </p:xfrm>
        <a:graphic>
          <a:graphicData uri="http://schemas.openxmlformats.org/drawingml/2006/table">
            <a:tbl>
              <a:tblPr/>
              <a:tblGrid>
                <a:gridCol w="973080"/>
                <a:gridCol w="2710080"/>
                <a:gridCol w="1736640"/>
                <a:gridCol w="973080"/>
                <a:gridCol w="138456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云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"/>
          <p:cNvSpPr/>
          <p:nvPr/>
        </p:nvSpPr>
        <p:spPr>
          <a:xfrm>
            <a:off x="1979640" y="260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2cc6"/>
                </a:solidFill>
                <a:latin typeface="Comic Sans MS"/>
              </a:rPr>
              <a:t>雨雪冰雹云层变化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"/>
          <p:cNvGraphicFramePr/>
          <p:nvPr/>
        </p:nvGraphicFramePr>
        <p:xfrm>
          <a:off x="684360" y="1052640"/>
          <a:ext cx="7704000" cy="4752720"/>
        </p:xfrm>
        <a:graphic>
          <a:graphicData uri="http://schemas.openxmlformats.org/drawingml/2006/table">
            <a:tbl>
              <a:tblPr/>
              <a:tblGrid>
                <a:gridCol w="1008000"/>
                <a:gridCol w="3095640"/>
                <a:gridCol w="1368360"/>
                <a:gridCol w="223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产生和分布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色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7" name=""/>
          <p:cNvSpPr/>
          <p:nvPr/>
        </p:nvSpPr>
        <p:spPr>
          <a:xfrm>
            <a:off x="2771640" y="40464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云的光彩简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58920" y="765000"/>
            <a:ext cx="302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395280" y="1268280"/>
          <a:ext cx="8136000" cy="4608720"/>
        </p:xfrm>
        <a:graphic>
          <a:graphicData uri="http://schemas.openxmlformats.org/drawingml/2006/table">
            <a:tbl>
              <a:tblPr/>
              <a:tblGrid>
                <a:gridCol w="1027080"/>
                <a:gridCol w="3581640"/>
                <a:gridCol w="1079280"/>
                <a:gridCol w="1008360"/>
                <a:gridCol w="143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云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云的形态变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高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厚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卷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卷积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高积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0" name=""/>
          <p:cNvSpPr/>
          <p:nvPr/>
        </p:nvSpPr>
        <p:spPr>
          <a:xfrm>
            <a:off x="3348000" y="549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2cc6"/>
                </a:solidFill>
                <a:latin typeface="Comic Sans MS"/>
              </a:rPr>
              <a:t>晴天云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403280" y="1773360"/>
            <a:ext cx="7056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像羽毛、像绫纱、             最高     最薄    象征晴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丝丝缕缕地飘浮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403280" y="2852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像鳞波是成群成行的卷云    很高    很薄     无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476360" y="357336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像棉花团 上午出现</a:t>
            </a:r>
            <a:r>
              <a:rPr b="0" lang="zh-CN" sz="2000" spc="-1" strike="noStrike">
                <a:solidFill>
                  <a:srgbClr val="060bec"/>
                </a:solidFill>
                <a:latin typeface="Comic Sans MS"/>
              </a:rPr>
              <a:t>        </a:t>
            </a:r>
            <a:r>
              <a:rPr b="0" lang="zh-CN" sz="2000" spc="-1" strike="noStrike">
                <a:solidFill>
                  <a:srgbClr val="060bec"/>
                </a:solidFill>
                <a:latin typeface="Comic Sans MS"/>
              </a:rPr>
              <a:t>2000</a:t>
            </a:r>
            <a:r>
              <a:rPr b="0" lang="zh-CN" sz="2000" spc="-1" strike="noStrike">
                <a:solidFill>
                  <a:srgbClr val="060bec"/>
                </a:solidFill>
                <a:latin typeface="Comic Sans MS"/>
              </a:rPr>
              <a:t>米左右   </a:t>
            </a: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较薄   阳光温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傍晚消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476360" y="4797360"/>
            <a:ext cx="727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2cc6"/>
                </a:solidFill>
                <a:latin typeface="Comic Sans MS"/>
              </a:rPr>
              <a:t>像草原上雪白的羊群</a:t>
            </a:r>
            <a:r>
              <a:rPr b="0" lang="zh-CN" sz="1800" spc="-1" strike="noStrike">
                <a:solidFill>
                  <a:srgbClr val="5f2cc6"/>
                </a:solidFill>
                <a:latin typeface="Comic Sans MS"/>
              </a:rPr>
              <a:t>     </a:t>
            </a:r>
            <a:r>
              <a:rPr b="0" lang="zh-CN" sz="2000" spc="-1" strike="noStrike">
                <a:solidFill>
                  <a:srgbClr val="5f2cc6"/>
                </a:solidFill>
                <a:latin typeface="Comic Sans MS"/>
              </a:rPr>
              <a:t>2000</a:t>
            </a:r>
            <a:r>
              <a:rPr b="0" lang="zh-CN" sz="2000" spc="-1" strike="noStrike">
                <a:solidFill>
                  <a:srgbClr val="5f2cc6"/>
                </a:solidFill>
                <a:latin typeface="Comic Sans MS"/>
              </a:rPr>
              <a:t>米左右</a:t>
            </a:r>
            <a:r>
              <a:rPr b="0" lang="zh-CN" sz="1800" spc="-1" strike="noStrike">
                <a:solidFill>
                  <a:srgbClr val="5f2cc6"/>
                </a:solidFill>
                <a:latin typeface="Comic Sans MS"/>
              </a:rPr>
              <a:t>    </a:t>
            </a:r>
            <a:r>
              <a:rPr b="0" lang="zh-CN" sz="2400" spc="-1" strike="noStrike">
                <a:solidFill>
                  <a:srgbClr val="5f2cc6"/>
                </a:solidFill>
                <a:latin typeface="Comic Sans MS"/>
              </a:rPr>
              <a:t>较薄      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2cc6"/>
                </a:solidFill>
                <a:latin typeface="Comic Sans MS"/>
              </a:rPr>
              <a:t>扁球状 排列匀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979640" y="260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2cc6"/>
                </a:solidFill>
                <a:latin typeface="Comic Sans MS"/>
              </a:rPr>
              <a:t>雨雪冰雹云层变化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900000" y="105264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539640" y="1052640"/>
          <a:ext cx="8353440" cy="5195880"/>
        </p:xfrm>
        <a:graphic>
          <a:graphicData uri="http://schemas.openxmlformats.org/drawingml/2006/table">
            <a:tbl>
              <a:tblPr/>
              <a:tblGrid>
                <a:gridCol w="1044720"/>
                <a:gridCol w="2911320"/>
                <a:gridCol w="1865520"/>
                <a:gridCol w="1044360"/>
                <a:gridCol w="148752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云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卷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卷云聚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向前推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像白绸幕蒙住天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晴转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卷云越变越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像毛玻璃遮着太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将下雨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雨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高层云变得更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暗灰色云块密布天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更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雨雪连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积雨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积云迅速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成高大云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乌云密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天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更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Arial"/>
                        </a:rPr>
                        <a:t>雷雨冰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8532720" y="630864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35280" y="170028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771640" y="40464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云的光彩简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684360" y="1052640"/>
          <a:ext cx="7704000" cy="4824360"/>
        </p:xfrm>
        <a:graphic>
          <a:graphicData uri="http://schemas.openxmlformats.org/drawingml/2006/table">
            <a:tbl>
              <a:tblPr/>
              <a:tblGrid>
                <a:gridCol w="1008000"/>
                <a:gridCol w="3095640"/>
                <a:gridCol w="1368360"/>
                <a:gridCol w="223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产生和分布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色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天气征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产生在高层云上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分布在日月周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里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外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日晕三更雨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60bec"/>
                          </a:solidFill>
                          <a:latin typeface="Comic Sans MS"/>
                        </a:rPr>
                        <a:t>月晕午时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产生在高层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边缘部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里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外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华环由小变大，转晴；由大变小，转阴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雨过天晴，在太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对面的云幕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彩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圆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东虹轰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f2cc6"/>
                          </a:solidFill>
                          <a:latin typeface="Comic Sans MS"/>
                        </a:rPr>
                        <a:t>西虹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早、晚，太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照着对面的云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云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变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朝霞不出门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雨</a:t>
                      </a: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晚霞行千里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25210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0bec"/>
                </a:solidFill>
                <a:latin typeface="Comic Sans MS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7" name="" descr="bar0024.gif (5555 字节)"/>
          <p:cNvPicPr/>
          <p:nvPr/>
        </p:nvPicPr>
        <p:blipFill>
          <a:blip r:embed="rId1"/>
          <a:stretch/>
        </p:blipFill>
        <p:spPr>
          <a:xfrm>
            <a:off x="0" y="1484280"/>
            <a:ext cx="8381880" cy="13500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bar0024.gif (5555 字节)"/>
          <p:cNvPicPr/>
          <p:nvPr/>
        </p:nvPicPr>
        <p:blipFill>
          <a:blip r:embed="rId2"/>
          <a:stretch/>
        </p:blipFill>
        <p:spPr>
          <a:xfrm>
            <a:off x="395280" y="1268280"/>
            <a:ext cx="4648320" cy="74880"/>
          </a:xfrm>
          <a:prstGeom prst="rect">
            <a:avLst/>
          </a:prstGeom>
          <a:ln w="0">
            <a:noFill/>
          </a:ln>
        </p:spPr>
      </p:pic>
      <p:grpSp>
        <p:nvGrpSpPr>
          <p:cNvPr id="939" name=""/>
          <p:cNvGrpSpPr/>
          <p:nvPr/>
        </p:nvGrpSpPr>
        <p:grpSpPr>
          <a:xfrm>
            <a:off x="8763120" y="3162240"/>
            <a:ext cx="290520" cy="495360"/>
            <a:chOff x="8763120" y="3162240"/>
            <a:chExt cx="290520" cy="495360"/>
          </a:xfrm>
        </p:grpSpPr>
        <p:grpSp>
          <p:nvGrpSpPr>
            <p:cNvPr id="940" name=""/>
            <p:cNvGrpSpPr/>
            <p:nvPr/>
          </p:nvGrpSpPr>
          <p:grpSpPr>
            <a:xfrm>
              <a:off x="8763120" y="3162240"/>
              <a:ext cx="290520" cy="495360"/>
              <a:chOff x="8763120" y="3162240"/>
              <a:chExt cx="290520" cy="495360"/>
            </a:xfrm>
          </p:grpSpPr>
          <p:sp>
            <p:nvSpPr>
              <p:cNvPr id="941" name=""/>
              <p:cNvSpPr/>
              <p:nvPr/>
            </p:nvSpPr>
            <p:spPr>
              <a:xfrm>
                <a:off x="8763120" y="3162240"/>
                <a:ext cx="29052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00b200"/>
                    </a:solidFill>
                    <a:uFillTx/>
                    <a:latin typeface="宋体"/>
                    <a:hlinkClick r:id="rId3"/>
                  </a:rPr>
                  <a:t>  </a:t>
                </a:r>
                <a:r>
                  <a:rPr b="0" lang="zh-CN" sz="2900" spc="-1" strike="noStrike">
                    <a:solidFill>
                      <a:srgbClr val="003300"/>
                    </a:solidFill>
                    <a:latin typeface="宋体"/>
                  </a:rPr>
                  <a:t> </a:t>
                </a:r>
                <a:r>
                  <a:rPr b="0" lang="zh-CN" sz="900" spc="-1" strike="noStrike">
                    <a:solidFill>
                      <a:srgbClr val="003300"/>
                    </a:solidFill>
                    <a:latin typeface="宋体"/>
                  </a:rPr>
                  <a:t>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763120" y="3162240"/>
                <a:ext cx="290520" cy="495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8763120" y="3162240"/>
              <a:ext cx="290520" cy="495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77080" y="5373720"/>
            <a:ext cx="2133720" cy="132696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611280" y="1557360"/>
            <a:ext cx="792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记叙文中，</a:t>
            </a: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比喻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是一种修辞方法；说明文中，运用比喻来说明事物，叫做比喻说明法，一般简称为</a:t>
            </a: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打比方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。课文中打比方的运用，</a:t>
            </a:r>
            <a:r>
              <a:rPr b="0" lang="zh-CN" sz="2400" spc="-1" strike="noStrike">
                <a:solidFill>
                  <a:srgbClr val="060bec"/>
                </a:solidFill>
                <a:latin typeface="Comic Sans MS"/>
              </a:rPr>
              <a:t>使得行文生动活泼，饶有趣味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。请仿照示例造句，从形状入手，展开充分的想像和联想，既考虑静态，又兼顾动态，以求动静结合之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天上的云……像峰峦，像河流，像雄狮，像奔马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造句：（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）夜幕四合，周围的群山，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）远处的霓虹灯亮了，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195640" y="62064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揣摩语言的生动形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258920" y="4437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像驼峰，像闸门，像卧佛、像长蛇，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258920" y="5300640"/>
            <a:ext cx="61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像眼睛，像流星，像彩绸，像长虹，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900000" y="47628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bec"/>
                </a:solidFill>
                <a:latin typeface="Comic Sans MS"/>
              </a:rPr>
              <a:t>积累文中的有关谚语，了解识别天气变化的常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971640" y="1989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文中出现的谚语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" descr="smile12.gif (25670 字节)"/>
          <p:cNvPicPr/>
          <p:nvPr/>
        </p:nvPicPr>
        <p:blipFill>
          <a:blip r:embed="rId1"/>
          <a:stretch/>
        </p:blipFill>
        <p:spPr>
          <a:xfrm>
            <a:off x="755640" y="4653000"/>
            <a:ext cx="1506600" cy="150660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6804000" y="4581360"/>
            <a:ext cx="1655640" cy="155268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1476360" y="2637000"/>
            <a:ext cx="5543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“</a:t>
            </a: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日晕三更雨，月晕午时风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“</a:t>
            </a: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东虹轰隆西虹雨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“</a:t>
            </a:r>
            <a:r>
              <a:rPr b="1" lang="zh-CN" sz="3000" spc="-1" strike="noStrike">
                <a:solidFill>
                  <a:srgbClr val="5f2cc6"/>
                </a:solidFill>
                <a:latin typeface="Comic Sans MS"/>
              </a:rPr>
              <a:t>朝霞不出门，晚霞行千里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1908000" y="333360"/>
            <a:ext cx="6048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有雨天边亮，无雨头顶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云自东北起，必定有风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天上花花云，地上晒死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天上钩钩云，地上雨淋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棉花云，雨快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日晕三更雨，月晕午时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亮生毛，大雨冲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天上鲤鱼斑，明天晒谷不用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云往东，刮阵风；云往西，披蓑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山戴帽，大雨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云吃雾下，雾吃云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黑猪过河，大雨滂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-186840" y="476280"/>
            <a:ext cx="16426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60bec"/>
                </a:solidFill>
                <a:latin typeface="Comic Sans MS"/>
              </a:rPr>
              <a:t>部分谚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1"/>
          <a:stretch/>
        </p:blipFill>
        <p:spPr>
          <a:xfrm>
            <a:off x="6804000" y="4653000"/>
            <a:ext cx="17874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9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9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9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9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9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9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338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快速阅读课文，概括课文内容要点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②理清文章的思路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③领会运用比喻的妙处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④培养观察自然的兴趣和留心自然现象的习惯。 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002.gif (9401 字节)"/>
          <p:cNvPicPr/>
          <p:nvPr/>
        </p:nvPicPr>
        <p:blipFill>
          <a:blip r:embed="rId2"/>
          <a:stretch/>
        </p:blipFill>
        <p:spPr>
          <a:xfrm>
            <a:off x="3924360" y="26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line003.gif (11170 字节)"/>
          <p:cNvPicPr/>
          <p:nvPr/>
        </p:nvPicPr>
        <p:blipFill>
          <a:blip r:embed="rId3"/>
          <a:stretch/>
        </p:blipFill>
        <p:spPr>
          <a:xfrm>
            <a:off x="0" y="2133720"/>
            <a:ext cx="8305920" cy="1443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line003.gif (11170 字节)"/>
          <p:cNvPicPr/>
          <p:nvPr/>
        </p:nvPicPr>
        <p:blipFill>
          <a:blip r:embed="rId4"/>
          <a:stretch/>
        </p:blipFill>
        <p:spPr>
          <a:xfrm>
            <a:off x="684360" y="404640"/>
            <a:ext cx="98280" cy="59436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620640"/>
            <a:ext cx="2232000" cy="138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456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f7057"/>
                </a:solidFill>
                <a:latin typeface="Arial"/>
              </a:rPr>
              <a:t>部分成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61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年之计在于春     春暖花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春风得意                春风化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七月流火                吴牛喘月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秋山寒林                秋高气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叶知秋                秋毫之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日三秋                雪窖冰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数九天气                雪上加霜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9" name="" descr="smile12.gif (25670 字节)"/>
          <p:cNvPicPr/>
          <p:nvPr/>
        </p:nvPicPr>
        <p:blipFill>
          <a:blip r:embed="rId2"/>
          <a:stretch/>
        </p:blipFill>
        <p:spPr>
          <a:xfrm>
            <a:off x="7236000" y="4797360"/>
            <a:ext cx="1506240" cy="15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38163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合作探究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云为什么有时是白色的，有时是黑色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虹、晕、华、霞等云彩是怎么形成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形成研究报告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2" name="" descr="line003.gif (11170 字节)"/>
          <p:cNvPicPr/>
          <p:nvPr/>
        </p:nvPicPr>
        <p:blipFill>
          <a:blip r:embed="rId2"/>
          <a:stretch/>
        </p:blipFill>
        <p:spPr>
          <a:xfrm>
            <a:off x="0" y="1268280"/>
            <a:ext cx="8305920" cy="1447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684360" y="1340280"/>
            <a:ext cx="880416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22280" y="18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8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3"/>
          <a:stretch/>
        </p:blipFill>
        <p:spPr>
          <a:xfrm>
            <a:off x="7885080" y="1773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655640" cy="155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85080" y="404640"/>
            <a:ext cx="743040" cy="108612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4"/>
          <a:stretch/>
        </p:blipFill>
        <p:spPr>
          <a:xfrm>
            <a:off x="324000" y="4813200"/>
            <a:ext cx="1871640" cy="151128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755640" y="692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读一读，写一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971640" y="1557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55640" y="1628640"/>
            <a:ext cx="8064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峦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兆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轻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均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崩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塌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弥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漫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兆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霎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间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千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姿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万态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        )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变化无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170028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835280" y="1557360"/>
            <a:ext cx="6769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luán        zhào         y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yún          ta           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zhào           sh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z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179280" y="236520"/>
            <a:ext cx="8172720" cy="66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听读课文，思考：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．云和天气到底有怎样的关系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找原文的句子）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．本文主要介绍了哪些云及其光彩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它们各有怎样的特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分别预示怎样的天气情况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请你设计一种表格来完成，看谁设计的好。 四人小组合作学习，共同完成上述题目。）</a:t>
            </a:r>
            <a:r>
              <a:rPr b="0" lang="zh-CN" sz="2800" spc="-1" strike="noStrike">
                <a:solidFill>
                  <a:srgbClr val="060be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晴天云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雨雪冰雹云层变化简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云的光彩简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11280" y="1197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bec"/>
                </a:solidFill>
                <a:latin typeface="Comic Sans MS"/>
              </a:rPr>
              <a:t>天空的薄云，往往是天气晴朗的象征；那些低而厚密的云层，常常是阴雨风雪的预兆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7308720" y="37162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6659640" y="494172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520" y="73008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下面是我们搜集到的各种云的图片，请同学们欣赏。每幅照片包括下列文字内容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1258920" y="3284280"/>
            <a:ext cx="4965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、云的名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2</a:t>
            </a: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、云的特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cc00ff"/>
                </a:solidFill>
                <a:latin typeface="Arial"/>
              </a:rPr>
              <a:t>、天气情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096920" y="2309760"/>
            <a:ext cx="6950160" cy="2195280"/>
            <a:chOff x="1096920" y="2309760"/>
            <a:chExt cx="6950160" cy="2195280"/>
          </a:xfrm>
        </p:grpSpPr>
        <p:sp>
          <p:nvSpPr>
            <p:cNvPr id="840" name=""/>
            <p:cNvSpPr/>
            <p:nvPr/>
          </p:nvSpPr>
          <p:spPr>
            <a:xfrm>
              <a:off x="1096920" y="2309760"/>
              <a:ext cx="69501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96920" y="2309760"/>
              <a:ext cx="6950160" cy="21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3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2" name="" descr="01-09-008-04.gif (22138 字节)"/>
          <p:cNvPicPr/>
          <p:nvPr/>
        </p:nvPicPr>
        <p:blipFill>
          <a:blip r:embed="rId2"/>
          <a:stretch/>
        </p:blipFill>
        <p:spPr>
          <a:xfrm>
            <a:off x="6553080" y="4114800"/>
            <a:ext cx="2194200" cy="219384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line003.gif (11170 字节)"/>
          <p:cNvPicPr/>
          <p:nvPr/>
        </p:nvPicPr>
        <p:blipFill>
          <a:blip r:embed="rId3"/>
          <a:stretch/>
        </p:blipFill>
        <p:spPr>
          <a:xfrm>
            <a:off x="395280" y="2708280"/>
            <a:ext cx="8305920" cy="14436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4"/>
          <a:stretch/>
        </p:blipFill>
        <p:spPr>
          <a:xfrm>
            <a:off x="395280" y="587700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98440" y="76320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</a:rPr>
              <a:t>淡积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0" y="5734080"/>
            <a:ext cx="9144000" cy="914400"/>
            <a:chOff x="0" y="5734080"/>
            <a:chExt cx="9144000" cy="914400"/>
          </a:xfrm>
        </p:grpSpPr>
        <p:grpSp>
          <p:nvGrpSpPr>
            <p:cNvPr id="850" name=""/>
            <p:cNvGrpSpPr/>
            <p:nvPr/>
          </p:nvGrpSpPr>
          <p:grpSpPr>
            <a:xfrm>
              <a:off x="0" y="5734080"/>
              <a:ext cx="9144000" cy="914400"/>
              <a:chOff x="0" y="5734080"/>
              <a:chExt cx="9144000" cy="914400"/>
            </a:xfrm>
          </p:grpSpPr>
          <p:grpSp>
            <p:nvGrpSpPr>
              <p:cNvPr id="851" name=""/>
              <p:cNvGrpSpPr/>
              <p:nvPr/>
            </p:nvGrpSpPr>
            <p:grpSpPr>
              <a:xfrm>
                <a:off x="0" y="5734080"/>
                <a:ext cx="9144000" cy="914400"/>
                <a:chOff x="0" y="5734080"/>
                <a:chExt cx="9144000" cy="9144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0" y="5734080"/>
                  <a:ext cx="84121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3" name=""/>
                <p:cNvGrpSpPr/>
                <p:nvPr/>
              </p:nvGrpSpPr>
              <p:grpSpPr>
                <a:xfrm>
                  <a:off x="0" y="5734080"/>
                  <a:ext cx="9144000" cy="157320"/>
                  <a:chOff x="0" y="5734080"/>
                  <a:chExt cx="9144000" cy="15732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0" y="5734080"/>
                    <a:ext cx="9144000" cy="15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5" name=""/>
                  <p:cNvGrpSpPr/>
                  <p:nvPr/>
                </p:nvGrpSpPr>
                <p:grpSpPr>
                  <a:xfrm>
                    <a:off x="0" y="5734080"/>
                    <a:ext cx="9144000" cy="150120"/>
                    <a:chOff x="0" y="5734080"/>
                    <a:chExt cx="9144000" cy="150120"/>
                  </a:xfrm>
                </p:grpSpPr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0" y="5734080"/>
                      <a:ext cx="9144000" cy="15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0" y="5734080"/>
                      <a:ext cx="9144000" cy="15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底部较平，顶部凸起，云块之间多不相连而孤立存在，它所带来的好天气常常比较稳定持续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58" name=""/>
              <p:cNvSpPr/>
              <p:nvPr/>
            </p:nvSpPr>
            <p:spPr>
              <a:xfrm>
                <a:off x="0" y="5734080"/>
                <a:ext cx="9144000" cy="914400"/>
              </a:xfrm>
              <a:prstGeom prst="rect">
                <a:avLst/>
              </a:prstGeom>
              <a:noFill/>
              <a:ln w="0">
                <a:solidFill>
                  <a:srgbClr val="00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>
              <a:off x="0" y="5734080"/>
              <a:ext cx="9144000" cy="914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98440" y="76320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积雨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-127476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0" y="5486400"/>
            <a:ext cx="9144000" cy="1371600"/>
            <a:chOff x="0" y="5486400"/>
            <a:chExt cx="9144000" cy="1371600"/>
          </a:xfrm>
        </p:grpSpPr>
        <p:grpSp>
          <p:nvGrpSpPr>
            <p:cNvPr id="865" name=""/>
            <p:cNvGrpSpPr/>
            <p:nvPr/>
          </p:nvGrpSpPr>
          <p:grpSpPr>
            <a:xfrm>
              <a:off x="0" y="5486400"/>
              <a:ext cx="9144000" cy="1371600"/>
              <a:chOff x="0" y="5486400"/>
              <a:chExt cx="9144000" cy="137160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0" y="5486400"/>
                <a:ext cx="9144000" cy="1371600"/>
                <a:chOff x="0" y="5486400"/>
                <a:chExt cx="9144000" cy="137160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0" y="5486400"/>
                  <a:ext cx="6100920" cy="13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8" name=""/>
                <p:cNvGrpSpPr/>
                <p:nvPr/>
              </p:nvGrpSpPr>
              <p:grpSpPr>
                <a:xfrm>
                  <a:off x="0" y="5486400"/>
                  <a:ext cx="9144000" cy="235800"/>
                  <a:chOff x="0" y="5486400"/>
                  <a:chExt cx="9144000" cy="23580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0" y="5486400"/>
                    <a:ext cx="6631560" cy="23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0" y="5486400"/>
                    <a:ext cx="9144000" cy="22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云浓而厚，云体庞大如耸立高山，顶部开始冻结，轮廓模糊，有的有毛丝般纤维结构，底部十分阴暗，起伏明显，常带来阴雨天气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1" name=""/>
              <p:cNvSpPr/>
              <p:nvPr/>
            </p:nvSpPr>
            <p:spPr>
              <a:xfrm>
                <a:off x="0" y="5486400"/>
                <a:ext cx="9144000" cy="1371600"/>
              </a:xfrm>
              <a:prstGeom prst="rect">
                <a:avLst/>
              </a:prstGeom>
              <a:noFill/>
              <a:ln w="0">
                <a:solidFill>
                  <a:srgbClr val="00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0" y="5486400"/>
              <a:ext cx="9144000" cy="1371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98440" y="76320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</a:rPr>
              <a:t>层积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-10746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0" y="5464080"/>
            <a:ext cx="9144000" cy="1393920"/>
            <a:chOff x="0" y="5464080"/>
            <a:chExt cx="9144000" cy="1393920"/>
          </a:xfrm>
        </p:grpSpPr>
        <p:grpSp>
          <p:nvGrpSpPr>
            <p:cNvPr id="878" name=""/>
            <p:cNvGrpSpPr/>
            <p:nvPr/>
          </p:nvGrpSpPr>
          <p:grpSpPr>
            <a:xfrm>
              <a:off x="0" y="5464080"/>
              <a:ext cx="9144000" cy="1393920"/>
              <a:chOff x="0" y="5464080"/>
              <a:chExt cx="9144000" cy="1393920"/>
            </a:xfrm>
          </p:grpSpPr>
          <p:grpSp>
            <p:nvGrpSpPr>
              <p:cNvPr id="879" name=""/>
              <p:cNvGrpSpPr/>
              <p:nvPr/>
            </p:nvGrpSpPr>
            <p:grpSpPr>
              <a:xfrm>
                <a:off x="0" y="5464080"/>
                <a:ext cx="9144000" cy="1393560"/>
                <a:chOff x="0" y="5464080"/>
                <a:chExt cx="9144000" cy="139356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0" y="5464080"/>
                  <a:ext cx="6300720" cy="13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0" y="5464080"/>
                  <a:ext cx="9144000" cy="239400"/>
                  <a:chOff x="0" y="5464080"/>
                  <a:chExt cx="9144000" cy="23940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0" y="5464080"/>
                    <a:ext cx="6849000" cy="23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0" y="5464080"/>
                    <a:ext cx="91440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为结构稀松的大团块</a:t>
                    </a:r>
                    <a:r>
                      <a:rPr b="0" lang="zh-CN" sz="900" spc="-1" strike="noStrike">
                        <a:solidFill>
                          <a:srgbClr val="000000"/>
                        </a:solidFill>
                        <a:latin typeface="Times New Roman"/>
                        <a:ea typeface="_x000b__x000c_"/>
                      </a:rPr>
                      <a:t>、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大云条组成，常成行、成群或波状排列，这种云又称雷雨云或冰川云。它能带来雷暴雨的天气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4" name=""/>
              <p:cNvSpPr/>
              <p:nvPr/>
            </p:nvSpPr>
            <p:spPr>
              <a:xfrm>
                <a:off x="0" y="5464080"/>
                <a:ext cx="9144000" cy="1393920"/>
              </a:xfrm>
              <a:prstGeom prst="rect">
                <a:avLst/>
              </a:prstGeom>
              <a:noFill/>
              <a:ln w="0">
                <a:solidFill>
                  <a:srgbClr val="00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0" y="5464080"/>
              <a:ext cx="9144000" cy="1393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5720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98440" y="76320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</a:rPr>
              <a:t>絮状高积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-1335240" y="13604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0" y="5562720"/>
            <a:ext cx="9144000" cy="1295280"/>
            <a:chOff x="0" y="5562720"/>
            <a:chExt cx="9144000" cy="1295280"/>
          </a:xfrm>
        </p:grpSpPr>
        <p:grpSp>
          <p:nvGrpSpPr>
            <p:cNvPr id="891" name="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grpSp>
            <p:nvGrpSpPr>
              <p:cNvPr id="892" name=""/>
              <p:cNvGrpSpPr/>
              <p:nvPr/>
            </p:nvGrpSpPr>
            <p:grpSpPr>
              <a:xfrm>
                <a:off x="0" y="5562720"/>
                <a:ext cx="9144000" cy="1295280"/>
                <a:chOff x="0" y="5562720"/>
                <a:chExt cx="9144000" cy="129528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0" y="5562720"/>
                  <a:ext cx="604296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4" name=""/>
                <p:cNvGrpSpPr/>
                <p:nvPr/>
              </p:nvGrpSpPr>
              <p:grpSpPr>
                <a:xfrm>
                  <a:off x="0" y="5562720"/>
                  <a:ext cx="9144000" cy="465840"/>
                  <a:chOff x="0" y="5562720"/>
                  <a:chExt cx="9144000" cy="46584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0" y="5562720"/>
                    <a:ext cx="6568920" cy="22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0" y="5562720"/>
                    <a:ext cx="9144000" cy="465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絮状高积云是降水发展的标志，民间有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"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棉花云，雨快临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"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的说法，在它开始形成后的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15-20</a:t>
                    </a:r>
                    <a:r>
                      <a:rPr b="0" lang="zh-CN" sz="2800" spc="-1" strike="noStrike">
                        <a:solidFill>
                          <a:srgbClr val="ff0000"/>
                        </a:solidFill>
                        <a:latin typeface="Times New Roman"/>
                        <a:ea typeface="隶书"/>
                      </a:rPr>
                      <a:t>小时内有可能带来雨水天气。</a:t>
                    </a:r>
                    <a:br>
                      <a:rPr sz="2800"/>
                    </a:br>
                    <a:br>
                      <a:rPr sz="2800"/>
                    </a:br>
                    <a:r>
                      <a:rPr b="0" lang="zh-CN" sz="900" spc="-1" strike="noStrike">
                        <a:solidFill>
                          <a:srgbClr val="000000"/>
                        </a:solidFill>
                        <a:latin typeface="Times New Roman"/>
                        <a:ea typeface="_x000b__x000c_"/>
                      </a:rPr>
                      <a:t>　　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7" name=""/>
              <p:cNvSpPr/>
              <p:nvPr/>
            </p:nvSpPr>
            <p:spPr>
              <a:xfrm>
                <a:off x="0" y="5562720"/>
                <a:ext cx="9144000" cy="1295280"/>
              </a:xfrm>
              <a:prstGeom prst="rect">
                <a:avLst/>
              </a:prstGeom>
              <a:noFill/>
              <a:ln w="0">
                <a:solidFill>
                  <a:srgbClr val="00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0" y="5562720"/>
              <a:ext cx="9144000" cy="12952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2:35:53Z</dcterms:created>
  <dc:creator>wutao</dc:creator>
  <dc:description/>
  <dc:language>en-US</dc:language>
  <cp:lastModifiedBy>zyb</cp:lastModifiedBy>
  <dcterms:modified xsi:type="dcterms:W3CDTF">2004-11-30T02:11:36Z</dcterms:modified>
  <cp:revision>100</cp:revision>
  <dc:subject/>
  <dc:title>看云识天气</dc:title>
</cp:coreProperties>
</file>