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whoosh.wav" ContentType="audio/x-wav"/>
  <Override PartName="/ppt/media/image10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push.wav" ContentType="audio/x-wav"/>
  <Override PartName="/ppt/media/image2.jpeg" ContentType="image/jpeg"/>
  <Override PartName="/ppt/media/hammer.wav" ContentType="audio/x-wav"/>
  <Override PartName="/ppt/media/image20.jpeg" ContentType="image/jpeg"/>
  <Override PartName="/ppt/media/image23.jpeg" ContentType="image/jpeg"/>
  <Override PartName="/ppt/media/image24.jpeg" ContentType="image/jpeg"/>
  <Override PartName="/ppt/media/drumroll.wav" ContentType="audio/x-wav"/>
  <Override PartName="/ppt/media/image30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27.jpeg" ContentType="image/jpeg"/>
  <Override PartName="/ppt/media/image29.jpeg" ContentType="image/jpeg"/>
  <Override PartName="/ppt/media/suction.wav" ContentType="audio/x-wav"/>
  <Override PartName="/ppt/media/image28.gif" ContentType="image/gif"/>
  <Override PartName="/ppt/media/image8.png" ContentType="image/png"/>
  <Override PartName="/ppt/media/image14.jpeg" ContentType="image/jpeg"/>
  <Override PartName="/ppt/media/image31.png" ContentType="image/png"/>
  <Override PartName="/ppt/media/image22.jpeg" ContentType="image/jpeg"/>
  <Override PartName="/ppt/media/cashreg.wav" ContentType="audio/x-wav"/>
  <Override PartName="/ppt/media/image12.jpeg" ContentType="image/jpeg"/>
  <Override PartName="/ppt/media/image6.jpeg" ContentType="image/jpeg"/>
  <Override PartName="/ppt/media/type.wav" ContentType="audio/x-wav"/>
  <Override PartName="/ppt/media/wind.wav" ContentType="audio/x-wav"/>
  <Override PartName="/ppt/media/chimes.wav" ContentType="audio/x-wav"/>
  <Override PartName="/ppt/media/image21.jpeg" ContentType="image/jpeg"/>
  <Override PartName="/ppt/media/camera.wav" ContentType="audio/x-wav"/>
  <Override PartName="/ppt/media/image16.jpeg" ContentType="image/jpeg"/>
  <Override PartName="/ppt/media/laser.wav" ContentType="audio/x-wav"/>
  <Override PartName="/ppt/media/image5.gif" ContentType="image/gif"/>
  <Override PartName="/ppt/media/image7.jpeg" ContentType="image/jpeg"/>
  <Override PartName="/ppt/media/image3.jpeg" ContentType="image/jpeg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2DA-19D1-4901-AD18-362E2236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A25-CE4F-4789-8C83-B941AE97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931-967D-468A-8CEF-72A8149B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A08-97A0-40E0-995A-A3DFB63A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903-3EC3-4C7C-928B-8CD14B5D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391-BC84-470B-9AAF-2B5F9D7F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A40-EC96-4D8B-BD52-38458EE1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1E6-F5CF-41D8-A23C-632D2BE3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236-279D-4F67-8408-A4785442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8E8-A8D6-4D1D-8036-7D183AE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41D-92ED-4315-8A0A-CD108FE8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101-8259-4E82-A0ED-815C9943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6DE2-1A57-4889-B69A-B0E9D7C48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audio" Target="../media/wind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voltage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laser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gif"/><Relationship Id="rId3" Type="http://schemas.openxmlformats.org/officeDocument/2006/relationships/image" Target="../media/image5.gif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audio" Target="../media/wind.wav"/><Relationship Id="rId4" Type="http://schemas.openxmlformats.org/officeDocument/2006/relationships/audio" Target="../media/laser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hammer.wav"/><Relationship Id="rId3" Type="http://schemas.openxmlformats.org/officeDocument/2006/relationships/audio" Target="../media/cashreg.wav"/><Relationship Id="rId4" Type="http://schemas.openxmlformats.org/officeDocument/2006/relationships/audio" Target="../media/voltag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765000"/>
            <a:ext cx="424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看云识天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4920" y="-27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详细研究云的光彩与天气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620640"/>
            <a:ext cx="82803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云上有哪几种光彩？云的光彩特征怎样？预示着什么天气？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图表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920" y="2492280"/>
          <a:ext cx="8999640" cy="4206960"/>
        </p:xfrm>
        <a:graphic>
          <a:graphicData uri="http://schemas.openxmlformats.org/drawingml/2006/table">
            <a:tbl>
              <a:tblPr/>
              <a:tblGrid>
                <a:gridCol w="844560"/>
                <a:gridCol w="3232080"/>
                <a:gridCol w="1470240"/>
                <a:gridCol w="3452760"/>
              </a:tblGrid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产生和分布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色  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天 气 征 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042920" y="306864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生在卷云上，分布在日月周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8720" y="321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里红外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2920" y="3141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晕三更雨，月晕午时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4005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生在高积云边缘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里紫外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400536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华环由小变大，转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华环由大变小，转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69840" y="49118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过天晴，在太阳对面的云幕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50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彩色圆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508464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虹轰隆西虹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580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早、晚，太阳照着对面的云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5924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云层变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580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朝霞西阴雨袭，晚霞东几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2920" y="333360"/>
            <a:ext cx="684000" cy="668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76160" y="3284640"/>
            <a:ext cx="581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通过表格的填写可以看出，作者抓住了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事物的特征——云和天气的关系，同时有一定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合理说明顺序——总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58920" y="620640"/>
            <a:ext cx="1873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723960" cy="706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58920" y="981000"/>
            <a:ext cx="3025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语言赏析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"/>
          <p:cNvSpPr/>
          <p:nvPr/>
        </p:nvSpPr>
        <p:spPr>
          <a:xfrm>
            <a:off x="1582560" y="4076640"/>
            <a:ext cx="63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打比方不仅使文章生动，更重要的是让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的特征更加鲜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27280" y="2349360"/>
            <a:ext cx="2521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打比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30360" y="5229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海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81760" y="987840"/>
            <a:ext cx="152100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00"/>
                </a:solidFill>
                <a:latin typeface="Arial"/>
              </a:rPr>
              <a:t>兔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81600" y="549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0000"/>
                </a:solidFill>
                <a:latin typeface="Arial"/>
                <a:ea typeface="楷体_GB2312"/>
              </a:rPr>
              <a:t>鸭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19160" y="189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认一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04920" y="47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峰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27160" y="98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一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28920" y="100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点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67360" y="9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20080" y="90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91000" y="40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72080" y="40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19360" y="155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840" y="155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头转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55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月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492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崩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99720" y="24210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峰峦：山峰和山峦。峦，小而尖的山，或连绵的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81360" y="29973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一霎间：一会儿，形容时间极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82080" y="3500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预兆：事情显露出来的迹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10480" y="4076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轻盈：文中形容卷云像女子的动作、体态一样轻巧优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95960" y="4724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弥漫：  （烟尘、雾气、水等）充满、布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75720" y="5300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征兆：即将出现的迹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69360" y="5805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崩塌：崩裂而倒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10640" y="4762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luá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1080" y="981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sh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75000" y="98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360" y="10047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zhu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9334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lí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60360" y="4046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m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1557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yū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7440" y="1484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yù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9000" y="14842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bēng t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73080"/>
            <a:ext cx="4516560" cy="6524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16360" y="144360"/>
            <a:ext cx="4349880" cy="6524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422280" y="0"/>
            <a:ext cx="1033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日  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02440" y="907920"/>
            <a:ext cx="1033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日  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164360" y="6424560"/>
              <a:ext cx="197964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Arial"/>
                </a:rPr>
                <a:t>月    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48000" y="5492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24360" y="6356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91120" y="620640"/>
            <a:ext cx="66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27280" y="979560"/>
            <a:ext cx="2735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357336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领会运用比喻的妙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40000" y="4292280"/>
            <a:ext cx="59040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培养学生观察自然的兴趣</a:t>
            </a:r>
            <a:br>
              <a:rPr sz="3200"/>
            </a:b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和留心自然现象的习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1989000"/>
            <a:ext cx="6335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了解云的变化与天气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2781360"/>
            <a:ext cx="540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理清文章的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23960" cy="706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268360" y="83664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类别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7" name=""/>
          <p:cNvSpPr/>
          <p:nvPr/>
        </p:nvSpPr>
        <p:spPr>
          <a:xfrm>
            <a:off x="4003200" y="2637000"/>
            <a:ext cx="152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分类别是把事物按照一定的标准分成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干类别，一类一类加以说明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7440" y="4365720"/>
            <a:ext cx="623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这种分类方法不仅能够把不同事物的不同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说得更明白，而且还会说明的条理更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4920" y="333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〈二〉品味用词的准确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1052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、云就像天气的“招牌”，天上挂什么云，就将出现什么样的天气。“招牌”这个词用得好，好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39337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、第二段里“往往”“常常”两个副词起什么作用？去掉好不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2492280"/>
            <a:ext cx="76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楷体_GB2312"/>
              </a:rPr>
              <a:t>归纳：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“招牌”是商店的标志，云是天气变化的标志。把“云”比喻成“招牌”写出了云和天气的关系密切，说明看云可以识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720" y="501336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楷体_GB2312"/>
              </a:rPr>
              <a:t>归纳：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不能去掉。“往往”“常常”指一般是这样的，但又不是绝无例外。说明得恰如其分，表现了说明语言的准确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26920" y="1341360"/>
            <a:ext cx="8317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有关天气的谚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云绞云，雨淋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鱼鳞天，不雨也风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雷公先唱歌，有雨必不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云往东，刮阵风；云往西，披蓑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先雷后雨，其雨必小；先雨后雷，其雨必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9080" y="507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拓展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24000" y="6292800"/>
            <a:ext cx="8569080" cy="565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04760" y="60480"/>
            <a:ext cx="7952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6292800"/>
            <a:ext cx="8569080" cy="565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8569080" cy="565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539640" y="141300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课文小结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1294200" y="3284640"/>
            <a:ext cx="686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通过对文章的学习，不仅了解了看云可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天气的内容，还学习了怎样将事物说清楚，并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握了一半说明文的说明文的说明方法，那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抓特征、理顺序、用方法、语言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95640" y="1052640"/>
            <a:ext cx="11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Arial"/>
                <a:ea typeface="黑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194236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5688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唐代诗人刘禹锡在《竹枝词》中写道，“东边日出西边雨，道是无晴却有晴”，生动地描绘了一种有趣的天气现象，事实上，天气的变化也自有它的规律自有它的征兆。今天我们来学习一篇科学小品文——《看云识天气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3080" y="91584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初读课文，讨论全文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2060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云是天气的招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2544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二、怎样看云识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4560" y="283860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不同形态的云和天气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5840" y="37018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云的光彩和天气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471024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三、看云识天气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2263680"/>
            <a:ext cx="214200" cy="2735280"/>
          </a:xfrm>
          <a:custGeom>
            <a:avLst/>
            <a:gdLst>
              <a:gd name="textAreaLeft" fmla="*/ 136800 w 214200"/>
              <a:gd name="textAreaRight" fmla="*/ 214560 w 21420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2920" y="3054240"/>
            <a:ext cx="144720" cy="1123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9160 h 1123920"/>
              <a:gd name="textAreaBottom" fmla="*/ 1094760 h 112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066760"/>
            <a:ext cx="40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一、看云可以识天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72396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0920" y="260280"/>
            <a:ext cx="29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研读欣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3420720" y="2565360"/>
            <a:ext cx="432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这是一篇科普说明文，那么学习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普说明人我们可以遵循以下规律，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抓特征、理顺序、用方法、语言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。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上四个方面去研读一篇文章，会更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30120" y="907920"/>
            <a:ext cx="511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本文主要介绍了哪些云及其光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它们各有怎样的特征？分别预示怎样的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气情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你设计一种表格来完成，在表中填写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应的特征。看谁设计的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73640" y="416880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制表之前先阅读课文，边读边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、共有几种类型的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、表格如何设计的简洁明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72396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9440" y="11592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Arial"/>
                <a:ea typeface="华文行楷"/>
              </a:rPr>
              <a:t>详细研究云的形态同天气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2360" y="765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卷云、卷积云、积云、高积云的形态、位置厚度怎样？与天气有何关系？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图表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2920" y="1844640"/>
          <a:ext cx="8893080" cy="4097160"/>
        </p:xfrm>
        <a:graphic>
          <a:graphicData uri="http://schemas.openxmlformats.org/drawingml/2006/table">
            <a:tbl>
              <a:tblPr/>
              <a:tblGrid>
                <a:gridCol w="960480"/>
                <a:gridCol w="4132080"/>
                <a:gridCol w="1208160"/>
                <a:gridCol w="933480"/>
                <a:gridCol w="165888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云 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形  态  变  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位  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厚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卷 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卷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积 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474920" y="2421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白色羽毛，丝丝缕缕地飘浮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56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 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16720" y="256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51640" y="2565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象征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3254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水面的鳞波，卷云成群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 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3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80360" y="34034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 雨 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4148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棉花团，上午出现，傍晚消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4076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千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4221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80360" y="429264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阳光温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羊群，由扁球状云块排列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5084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千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51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24720" y="522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  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61657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说明：这些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薄云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是天气晴朗的象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6000" y="18900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雨天的四种云的变化过程、形态、位置怎样？与天气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5805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说明：这些都是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低而厚密的云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，是阴雨风雪的预兆。积云形成积雨云是夏天特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916280"/>
          <a:ext cx="8937720" cy="3744360"/>
        </p:xfrm>
        <a:graphic>
          <a:graphicData uri="http://schemas.openxmlformats.org/drawingml/2006/table">
            <a:tbl>
              <a:tblPr/>
              <a:tblGrid>
                <a:gridCol w="1368360"/>
                <a:gridCol w="2457360"/>
                <a:gridCol w="2799000"/>
                <a:gridCol w="830160"/>
                <a:gridCol w="1482840"/>
              </a:tblGrid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云  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变 化 过 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形   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08000" y="1197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图表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4920" y="2608200"/>
            <a:ext cx="23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云聚集，向前推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2708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白绸幕蒙住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75640" y="26845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26845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晴 转 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34765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层云越变越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34034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毛玻璃遮着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429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96360" y="340344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下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4149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层云变得更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083120"/>
            <a:ext cx="2449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暗灰色云块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32720" y="4149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96360" y="41958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雪连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4840200"/>
            <a:ext cx="230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积云迅速形成高大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乌云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49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494172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雷雨冰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10:18:28Z</dcterms:created>
  <dc:creator>wutao</dc:creator>
  <dc:description/>
  <dc:language>en-US</dc:language>
  <cp:lastModifiedBy>Billgates</cp:lastModifiedBy>
  <dcterms:modified xsi:type="dcterms:W3CDTF">2004-11-24T00:19:20Z</dcterms:modified>
  <cp:revision>100</cp:revision>
  <dc:subject/>
  <dc:title>看云识天气</dc:title>
</cp:coreProperties>
</file>