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16.jpeg" ContentType="image/jpeg"/>
  <Override PartName="/ppt/media/image8.wmf" ContentType="image/x-wmf"/>
  <Override PartName="/ppt/media/image5.png" ContentType="image/png"/>
  <Override PartName="/ppt/media/image10.jpeg" ContentType="image/jpeg"/>
  <Override PartName="/ppt/media/image9.wmf" ContentType="image/x-wmf"/>
  <Override PartName="/ppt/media/image2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chimes.wav" ContentType="audio/x-wav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F30-90A7-4EDF-AFCA-C4697205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F21-8379-4B88-8FDA-D4D4B1D4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1EC-1CA5-438E-BEDC-34244BB8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8FA-2EBE-4D6B-8A4F-86CA31AC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5B75-1CCC-4F2C-B6A7-C9AE1D04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8E54-B38E-447A-9FCE-9992D6C1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01B8-211B-421A-A8CA-813534F4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E91E-B12D-4EEB-89D9-69C47C48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0FFA-AC3B-4B35-BB2E-8E42D869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31DF-8329-4DB2-B50B-9AE23D3A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0194-AC7B-450E-AD2F-BB918CB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62E-491F-43A2-8DCB-FB242F85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8BC8-4233-4AAD-94E9-979FABC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95FE-84A6-4694-A7D7-43EE50E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AC16-45CB-42A4-A548-8B2FCBEE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A08A-2A0D-45B0-B7E8-12196500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D8BB-3D31-44A0-B5ED-ED4AC625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22F-EFA8-4FA7-B60A-8D770422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FF0-9F67-407F-8BE0-6335D6E6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66E-73ED-4BB1-8419-B4AA18AB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2B3-288C-45A4-9AF3-96AAA98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B11-0157-4E68-B7B0-E4FC1918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186-2331-4ED8-AA01-626FFD09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3F7-1629-4FEE-A230-E461320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744E-304B-44FE-A86D-7BC39884C447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7F3D-4A35-4BEC-8C34-C80F676F2A79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fengjing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2057400"/>
            <a:ext cx="762012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欣赏图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352680" y="6156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卷积云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1" name="juanjiyun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juanyun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153280" cy="5410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05320" y="615636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卷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jiyun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96080" cy="5790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5320" y="6156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积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352680" y="6156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卷层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juancengyun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076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gaojiyun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124080" y="61563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高积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gaocengyun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24080" y="6156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高层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jiyuyun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077320" cy="5410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05320" y="615636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积雨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雨层云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586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581280" y="61563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雨层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Tahoma"/>
                <a:ea typeface="仿宋_GB2312"/>
              </a:rPr>
              <a:t>    </a:t>
            </a:r>
            <a:r>
              <a:rPr b="1" lang="zh-CN" sz="6600" spc="-1" strike="noStrike">
                <a:solidFill>
                  <a:srgbClr val="3366ff"/>
                </a:solidFill>
                <a:latin typeface="Tahoma"/>
                <a:ea typeface="仿宋_GB2312"/>
              </a:rPr>
              <a:t>你认识这些云了吗？</a:t>
            </a:r>
            <a:br>
              <a:rPr sz="6600"/>
            </a:br>
            <a:r>
              <a:rPr b="1" lang="zh-CN" sz="5400" spc="-1" strike="noStrike">
                <a:solidFill>
                  <a:srgbClr val="f82812"/>
                </a:solidFill>
                <a:latin typeface="Tahoma"/>
              </a:rPr>
              <a:t>考考你：</a:t>
            </a:r>
            <a:br>
              <a:rPr sz="5400"/>
            </a:br>
            <a:r>
              <a:rPr b="1" lang="zh-CN" sz="5400" spc="-1" strike="noStrike">
                <a:solidFill>
                  <a:srgbClr val="00cc00"/>
                </a:solidFill>
                <a:latin typeface="Tahoma"/>
              </a:rPr>
              <a:t>作者是怎样描述这些云的？你也来写一写，好不好？</a:t>
            </a:r>
            <a:br>
              <a:rPr sz="5400"/>
            </a:b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28600" y="45720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要求：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、把要说明的事物描述清楚。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、用上比喻的修辞手法。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1752480"/>
            <a:ext cx="6553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看云识天气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层积云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层积云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层积云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层积云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层积云1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93" name="层积云2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层积云3" descr=""/>
          <p:cNvPicPr/>
          <p:nvPr/>
        </p:nvPicPr>
        <p:blipFill>
          <a:blip r:embed="rId4"/>
          <a:stretch/>
        </p:blipFill>
        <p:spPr>
          <a:xfrm>
            <a:off x="0" y="2362320"/>
            <a:ext cx="5867280" cy="4825800"/>
          </a:xfrm>
          <a:prstGeom prst="rect">
            <a:avLst/>
          </a:prstGeom>
          <a:ln w="0">
            <a:noFill/>
          </a:ln>
        </p:spPr>
      </p:pic>
      <p:pic>
        <p:nvPicPr>
          <p:cNvPr id="195" name="层积云4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8120" y="1066680"/>
            <a:ext cx="37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82812"/>
                </a:solidFill>
                <a:latin typeface="Times New Roman"/>
                <a:ea typeface="仿宋_GB2312"/>
              </a:rPr>
              <a:t>层积云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94f3d"/>
                </a:solidFill>
                <a:latin typeface="Times New Roman"/>
              </a:rPr>
              <a:t>反馈交流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速读课文交流思考，看看本节课有哪些收获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、第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自然段在全文中起什么作用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、第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自然段总结四种薄云的特点的一句话是什么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、举例说明看云识天气对工农业的生产的好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66880" y="114300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0105"/>
                </a:solidFill>
                <a:latin typeface="Times New Roman"/>
              </a:rPr>
              <a:t>云的光彩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2133720"/>
          <a:ext cx="7848720" cy="4521240"/>
        </p:xfrm>
        <a:graphic>
          <a:graphicData uri="http://schemas.openxmlformats.org/drawingml/2006/table">
            <a:tbl>
              <a:tblPr/>
              <a:tblGrid>
                <a:gridCol w="1828800"/>
                <a:gridCol w="3403800"/>
                <a:gridCol w="26161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光名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色彩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天气征兆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晕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华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虹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霞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438280" y="28954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里红外紫                   日晕三更雨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37339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里紫外红</a:t>
            </a: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华环由小变大                             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5105520"/>
            <a:ext cx="6781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彩色圆弧</a:t>
            </a: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东虹轰隆，西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云层变红                  朝霞不出门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月晕午时风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4114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转晴，由大变小转阴雨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5410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雨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晚霞行千里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3048120"/>
            <a:ext cx="42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9" name="晕日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210" name="月晕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5248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日晕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486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月晕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华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6934320" cy="5105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62520" y="6156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华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彩虹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216" name="虹" descr=""/>
          <p:cNvPicPr/>
          <p:nvPr/>
        </p:nvPicPr>
        <p:blipFill>
          <a:blip r:embed="rId3"/>
          <a:stretch/>
        </p:blipFill>
        <p:spPr>
          <a:xfrm>
            <a:off x="4800600" y="2895480"/>
            <a:ext cx="3962520" cy="3124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09680" y="5029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144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检查预习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0968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、字词正音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棉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絮</a:t>
            </a:r>
            <a:r>
              <a:rPr b="0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  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峰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峦</a:t>
            </a:r>
            <a:r>
              <a:rPr b="0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一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霎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间  预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兆</a:t>
            </a:r>
            <a:r>
              <a:rPr b="0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日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晕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弥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漫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、理解词语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仿宋_GB2312"/>
                <a:ea typeface="仿宋_GB2312"/>
              </a:rPr>
              <a:t>预兆 轻盈 弥漫 姿态万千 变化无常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晚霞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219" name="霞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962160" cy="3352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57400" y="4876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霞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、从文章题目《看云识天气》就可看出文章说明的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是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a0a0e"/>
                </a:solidFill>
                <a:latin typeface="Tahoma"/>
              </a:rPr>
              <a:t>和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，也可看出说明的中心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是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a0a0e"/>
                </a:solidFill>
                <a:latin typeface="Tahoma"/>
              </a:rPr>
              <a:t>和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的关系，由此可见，题目即本篇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的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、说明文重在说明。“说”得准确生动，目的在于使人“明”。文章一开头，连用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了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个比喻，描写了云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的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    。又用两相对比的词语“白云朵朵”“乌云密布”等描写云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的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   。作者之所以这样描写，是为了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说明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。（末一空，填上最恰当的句子的序号：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云真是姿态万千、变化无常。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云把天空点缀得很美丽。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云就像天气的招牌。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1981080"/>
            <a:ext cx="609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981080"/>
            <a:ext cx="609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2438280"/>
            <a:ext cx="609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438280"/>
            <a:ext cx="609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2057400"/>
            <a:ext cx="8380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3657600"/>
            <a:ext cx="457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4038480"/>
            <a:ext cx="14479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4495680"/>
            <a:ext cx="990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1066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38080"/>
            <a:ext cx="89154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、第一自然段的作用是                   ，             。所以作者接着具体说明了云的形态和光彩的变化同天气变化的关系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94f3d"/>
                </a:solidFill>
                <a:latin typeface="Times New Roman"/>
                <a:ea typeface="隶书"/>
              </a:rPr>
              <a:t>小结</a:t>
            </a:r>
            <a:r>
              <a:rPr b="1" lang="zh-CN" sz="6000" spc="-1" strike="noStrike">
                <a:solidFill>
                  <a:srgbClr val="170105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94f3d"/>
                </a:solidFill>
                <a:latin typeface="Times New Roman"/>
              </a:rPr>
              <a:t>说明文中的描写同记叙文中的描写有着明显的区别。记叙文中的描写是为了把人物和事件记叙得生动形象，而说明文中的描写则是为了把事物说得准确明白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1600200"/>
            <a:ext cx="1752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1600200"/>
            <a:ext cx="15242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</a:rPr>
              <a:t>讨论分析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812"/>
                </a:solidFill>
                <a:latin typeface="Tahoma"/>
              </a:rPr>
              <a:t>平实说明</a:t>
            </a:r>
            <a:r>
              <a:rPr b="0" lang="zh-CN" sz="3200" spc="-1" strike="noStrike">
                <a:solidFill>
                  <a:srgbClr val="170105"/>
                </a:solidFill>
                <a:latin typeface="Tahoma"/>
              </a:rPr>
              <a:t>：语言平易，朴实无华，一目了然，不过多的描写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812"/>
                </a:solidFill>
                <a:latin typeface="Tahoma"/>
              </a:rPr>
              <a:t>生动说明</a:t>
            </a:r>
            <a:r>
              <a:rPr b="0" lang="zh-CN" sz="3200" spc="-1" strike="noStrike">
                <a:solidFill>
                  <a:srgbClr val="170105"/>
                </a:solidFill>
                <a:latin typeface="Tahoma"/>
              </a:rPr>
              <a:t>：语言富有文采，常以描写，比喻、拟人、引用、讲故事、对话等方式来激发读者的想象和兴趣，从而把深奥复杂的事物说得深入浅出使人容易理解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7" name="PE01561_" descr=""/>
          <p:cNvPicPr/>
          <p:nvPr/>
        </p:nvPicPr>
        <p:blipFill>
          <a:blip r:embed="rId4"/>
          <a:stretch/>
        </p:blipFill>
        <p:spPr>
          <a:xfrm>
            <a:off x="4952880" y="2209680"/>
            <a:ext cx="35816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2096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快速默读课文并记住主要内容。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3" name="PE01931_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353040" cy="2813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7621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a672a"/>
                </a:solidFill>
                <a:latin typeface="Times New Roman"/>
              </a:rPr>
              <a:t>整体感知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</a:rPr>
              <a:t>快速默读课文思考下列问题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14600" y="1904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我们可以看哪些云来识别天气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哪些云可以判断晴天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哪些云可以判断雨雪冰雹天气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云和天气到底有怎样的关系（原文回答）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7" name="BD00028_" descr=""/>
          <p:cNvPicPr/>
          <p:nvPr/>
        </p:nvPicPr>
        <p:blipFill>
          <a:blip r:embed="rId6"/>
          <a:stretch/>
        </p:blipFill>
        <p:spPr>
          <a:xfrm>
            <a:off x="0" y="3581280"/>
            <a:ext cx="2590920" cy="253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057400" y="1981080"/>
            <a:ext cx="5105520" cy="229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研读理解赏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细读课文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、自然段，在书中用笔标出不同云的形状及代表的天气情况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13372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105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雨雪冰雹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3124080"/>
          <a:ext cx="6629400" cy="121788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云名      云的形状   天气征兆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320040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20040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286000"/>
            <a:ext cx="236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晴天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5334120"/>
          <a:ext cx="6705720" cy="1217520"/>
        </p:xfrm>
        <a:graphic>
          <a:graphicData uri="http://schemas.openxmlformats.org/drawingml/2006/table">
            <a:tbl>
              <a:tblPr/>
              <a:tblGrid>
                <a:gridCol w="1524240"/>
                <a:gridCol w="2666880"/>
                <a:gridCol w="25146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云名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云的形状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天气征兆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76720" y="6858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105"/>
                </a:solidFill>
                <a:latin typeface="Times New Roman"/>
              </a:rPr>
              <a:t>晴天云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752480"/>
          <a:ext cx="7391160" cy="4648320"/>
        </p:xfrm>
        <a:graphic>
          <a:graphicData uri="http://schemas.openxmlformats.org/drawingml/2006/table">
            <a:tbl>
              <a:tblPr/>
              <a:tblGrid>
                <a:gridCol w="1676160"/>
                <a:gridCol w="3251160"/>
                <a:gridCol w="2463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名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的形状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天气征兆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卷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卷积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积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高积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438280" y="2514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羽毛，像绫纱，           晴朗       丝丝缕缕地漂浮着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581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水面的鳞波是成群       无雨雪    成行的卷云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572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棉花团上午出现傍     阳光温和晚消失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4864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草原上雪白的羊群，    天晴   球状，排列整齐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38280" y="114300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0105"/>
                </a:solidFill>
                <a:latin typeface="Times New Roman"/>
              </a:rPr>
              <a:t>雨雪冰雹云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2133720"/>
          <a:ext cx="7848720" cy="4292640"/>
        </p:xfrm>
        <a:graphic>
          <a:graphicData uri="http://schemas.openxmlformats.org/drawingml/2006/table">
            <a:tbl>
              <a:tblPr/>
              <a:tblGrid>
                <a:gridCol w="1828800"/>
                <a:gridCol w="3403800"/>
                <a:gridCol w="26161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名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的形状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天气征兆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卷层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高层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雨层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积雨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438280" y="3200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白绸幕蒙住天空。       晴转阴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962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毛玻璃遮住太阳。      将下雨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02920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暗灰色云块密布天空。  雨雪连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乌云密布天空。               雷雨冰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1:28:35Z</dcterms:created>
  <dc:creator>wutao</dc:creator>
  <dc:description/>
  <dc:language>en-US</dc:language>
  <cp:lastModifiedBy>dmp</cp:lastModifiedBy>
  <dcterms:modified xsi:type="dcterms:W3CDTF">2004-11-24T03:08:11Z</dcterms:modified>
  <cp:revision>100</cp:revision>
  <dc:subject/>
  <dc:title>PowerPoint 演示文稿</dc:title>
</cp:coreProperties>
</file>