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AD5AF-1D1B-4397-8CD6-162C5566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B439C-A5CE-437A-B648-61FEDE47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AF9DB-CDBA-4481-A700-34403154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65F55-1EA6-4187-B93B-A5B6FFCC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26132-AD98-4B2E-8955-103C03C6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229CE-EE4F-483D-A63F-1838DC7F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EC234-4C0C-4A3C-90E9-75C3C1E9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BF86A-7E72-4822-9153-9027769F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CE5E6-71BF-4414-8077-A7D1275B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A7DBE-3AFB-4BB8-BA0B-54932968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C7225-8432-45AB-B05A-558E7F73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4490A-50A5-42F7-91B2-5DFB01AA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7521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3A7B-47E4-4E12-AB57-359F6EFC03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4.png"/><Relationship Id="rId4" Type="http://schemas.openxmlformats.org/officeDocument/2006/relationships/slide" Target="slide11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14479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绿 色 蝈 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法布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43000" y="838080"/>
            <a:ext cx="6934320" cy="5221440"/>
          </a:xfrm>
          <a:prstGeom prst="rect">
            <a:avLst/>
          </a:prstGeom>
          <a:ln w="0">
            <a:noFill/>
          </a:ln>
        </p:spPr>
      </p:pic>
      <p:pic>
        <p:nvPicPr>
          <p:cNvPr id="120" name="back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72400" y="6421320"/>
            <a:ext cx="838080" cy="308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295280" y="914400"/>
            <a:ext cx="6705720" cy="4968720"/>
          </a:xfrm>
          <a:prstGeom prst="rect">
            <a:avLst/>
          </a:prstGeom>
          <a:ln w="0">
            <a:noFill/>
          </a:ln>
        </p:spPr>
      </p:pic>
      <p:pic>
        <p:nvPicPr>
          <p:cNvPr id="122" name="back" descr=""/>
          <p:cNvPicPr/>
          <p:nvPr/>
        </p:nvPicPr>
        <p:blipFill>
          <a:blip r:embed="rId4"/>
          <a:stretch/>
        </p:blipFill>
        <p:spPr>
          <a:xfrm>
            <a:off x="7772400" y="6421320"/>
            <a:ext cx="838080" cy="308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438280" y="609480"/>
            <a:ext cx="4016520" cy="5486400"/>
          </a:xfrm>
          <a:prstGeom prst="rect">
            <a:avLst/>
          </a:prstGeom>
          <a:ln w="0">
            <a:noFill/>
          </a:ln>
        </p:spPr>
      </p:pic>
      <p:pic>
        <p:nvPicPr>
          <p:cNvPr id="124" name="back" descr=""/>
          <p:cNvPicPr/>
          <p:nvPr/>
        </p:nvPicPr>
        <p:blipFill>
          <a:blip r:embed="rId3"/>
          <a:stretch/>
        </p:blipFill>
        <p:spPr>
          <a:xfrm>
            <a:off x="7543800" y="5867280"/>
            <a:ext cx="838080" cy="308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905120" y="609480"/>
            <a:ext cx="3578040" cy="5334120"/>
          </a:xfrm>
          <a:prstGeom prst="rect">
            <a:avLst/>
          </a:prstGeom>
          <a:ln w="0">
            <a:noFill/>
          </a:ln>
        </p:spPr>
      </p:pic>
      <p:pic>
        <p:nvPicPr>
          <p:cNvPr id="126" name="back" descr=""/>
          <p:cNvPicPr/>
          <p:nvPr/>
        </p:nvPicPr>
        <p:blipFill>
          <a:blip r:embed="rId3"/>
          <a:stretch/>
        </p:blipFill>
        <p:spPr>
          <a:xfrm>
            <a:off x="7315200" y="6019920"/>
            <a:ext cx="838080" cy="307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946840" y="457200"/>
            <a:ext cx="546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齐白石《蝈蝈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6781680" cy="5097240"/>
          </a:xfrm>
          <a:prstGeom prst="rect">
            <a:avLst/>
          </a:prstGeom>
          <a:ln w="0">
            <a:noFill/>
          </a:ln>
        </p:spPr>
      </p:pic>
      <p:pic>
        <p:nvPicPr>
          <p:cNvPr id="129" name="back" descr=""/>
          <p:cNvPicPr/>
          <p:nvPr/>
        </p:nvPicPr>
        <p:blipFill>
          <a:blip r:embed="rId3"/>
          <a:stretch/>
        </p:blipFill>
        <p:spPr>
          <a:xfrm>
            <a:off x="7696080" y="6400800"/>
            <a:ext cx="838440" cy="307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120" y="320040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120" y="4876920"/>
            <a:ext cx="1904760" cy="1447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1447920"/>
            <a:ext cx="1676520" cy="609480"/>
          </a:xfrm>
          <a:prstGeom prst="bevel">
            <a:avLst>
              <a:gd name="adj" fmla="val 12500"/>
            </a:avLst>
          </a:prstGeom>
          <a:solidFill>
            <a:srgbClr val="d2a0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1447920"/>
            <a:ext cx="1600200" cy="609480"/>
          </a:xfrm>
          <a:prstGeom prst="bevel">
            <a:avLst>
              <a:gd name="adj" fmla="val 12500"/>
            </a:avLst>
          </a:prstGeom>
          <a:solidFill>
            <a:srgbClr val="d2a0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1447920"/>
            <a:ext cx="1600200" cy="609480"/>
          </a:xfrm>
          <a:prstGeom prst="bevel">
            <a:avLst>
              <a:gd name="adj" fmla="val 12500"/>
            </a:avLst>
          </a:prstGeom>
          <a:solidFill>
            <a:srgbClr val="d2a0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探究思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1447920"/>
            <a:ext cx="1676520" cy="609480"/>
          </a:xfrm>
          <a:prstGeom prst="bevel">
            <a:avLst>
              <a:gd name="adj" fmla="val 12500"/>
            </a:avLst>
          </a:prstGeom>
          <a:solidFill>
            <a:srgbClr val="d2a0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拓展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6553080" y="3200400"/>
            <a:ext cx="2041560" cy="3124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3505320" y="3200400"/>
            <a:ext cx="2286000" cy="3124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3855960" cy="5257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19720" y="1828800"/>
            <a:ext cx="4267080" cy="1747440"/>
          </a:xfrm>
          <a:prstGeom prst="rect">
            <a:avLst/>
          </a:prstGeom>
          <a:noFill/>
          <a:ln cap="rnd" w="38160">
            <a:solidFill>
              <a:srgbClr val="ffdf8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亨利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法布尔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823—19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法国著名科学家、科普作家。生于农民家庭，从小生活极其穷困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考入师范学校，毕业后谋得初中数学教师的职位。一次带学生上户外几何课，忽然在石块上发现了垒筑蜂和蜂窝，从此“虫心”焕发，立志做一个为虫子写历史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著作：《昆虫记》。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838080"/>
            <a:ext cx="2438280" cy="581400"/>
          </a:xfrm>
          <a:prstGeom prst="rect">
            <a:avLst/>
          </a:prstGeom>
          <a:noFill/>
          <a:ln w="28440">
            <a:solidFill>
              <a:srgbClr val="e4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亨利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法布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昆虫记》是法布尔以毕生的时间与精力，详细观察了昆虫的生活和它们为了生活以及繁衍种族所进行的斗争，然后以其观察所得写成详细确切的笔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昆虫记》共十册，每册包含若干章，每章详细、深刻地描绘一种或几种昆虫的生活：蜘蛛、蜜蜂、螳螂、蝎子、蝉、甲虫、蟋蟀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昆虫记》不仅充满着对生命的敬畏之情，更蕴含着探求真相、追求真理的精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昆虫记》第一册于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87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问世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1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当《昆虫记》第十册问世时，法布尔已经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762120"/>
            <a:ext cx="2438640" cy="581400"/>
          </a:xfrm>
          <a:prstGeom prst="rect">
            <a:avLst/>
          </a:prstGeom>
          <a:noFill/>
          <a:ln w="28440">
            <a:solidFill>
              <a:srgbClr val="e4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昆虫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ack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21400" y="5943600"/>
            <a:ext cx="960480" cy="353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3880" y="1371600"/>
            <a:ext cx="64771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绿色蝈蝈外表有哪些</a:t>
            </a:r>
            <a:r>
              <a:rPr b="0" lang="zh-CN" sz="24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特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作者主要写了绿色蝈蝈的哪些</a:t>
            </a:r>
            <a:r>
              <a:rPr b="0" lang="zh-CN" sz="24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习性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69240" y="9144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朗读课文，感知课文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66680" y="54864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蝈蝈的习性：写了蝈蝈的叫声和食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蝈蝈的外形特征：这种昆虫非常漂亮，浑身嫩绿，侧面有两条淡白色的丝带，身材优美，苗条匀称，两片大翼轻盈如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038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观察蝈蝈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09880" y="3846600"/>
            <a:ext cx="1295640" cy="97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05120" y="2590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征：漂亮、嫩绿、苗条、匀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42670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习性：叫声—柔和，捕蝉—为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81952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绿色蝈蝈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2743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43760" y="2743200"/>
            <a:ext cx="10335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拟人，生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068480"/>
            <a:ext cx="1523880" cy="581400"/>
          </a:xfrm>
          <a:prstGeom prst="rect">
            <a:avLst/>
          </a:prstGeom>
          <a:noFill/>
          <a:ln w="28440">
            <a:solidFill>
              <a:srgbClr val="e4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板  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ack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21400" y="5943600"/>
            <a:ext cx="960480" cy="353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2120" y="9144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再读课文，对课文内容提出见解或疑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000680"/>
            <a:ext cx="76960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探究思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蝈蝈的叫声非常的优美，但是蝈蝈的发生器官与人的发生器官有何不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何看待动物中的同类相食这种现象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9360" y="1714680"/>
            <a:ext cx="433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品味语言，说一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最喜欢文章中哪个段落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什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最喜欢哪个词语或哪个句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什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back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21400" y="5943600"/>
            <a:ext cx="960480" cy="35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2743200"/>
            <a:ext cx="7391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请同学们用生动的语言说说自己喜欢的一种 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小动物。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运用拟人或比喻等方法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读法布尔的《昆虫记》节选本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068480"/>
            <a:ext cx="1905120" cy="581400"/>
          </a:xfrm>
          <a:prstGeom prst="rect">
            <a:avLst/>
          </a:prstGeom>
          <a:noFill/>
          <a:ln w="28440">
            <a:solidFill>
              <a:srgbClr val="e4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拓展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其它_封底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5257800"/>
            <a:ext cx="31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华文彩云"/>
                <a:ea typeface="华文彩云"/>
              </a:rPr>
              <a:t>谢谢您的使用</a:t>
            </a:r>
            <a:r>
              <a:rPr b="0" lang="zh-CN" sz="3200" spc="-1" strike="noStrike">
                <a:solidFill>
                  <a:srgbClr val="5f5f5f"/>
                </a:solidFill>
                <a:latin typeface="华文彩云"/>
                <a:ea typeface="华文彩云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01:43:05Z</dcterms:created>
  <dc:creator>wutao</dc:creator>
  <dc:description/>
  <dc:language>en-US</dc:language>
  <cp:lastModifiedBy>zyb</cp:lastModifiedBy>
  <dcterms:modified xsi:type="dcterms:W3CDTF">2004-11-30T05:33:32Z</dcterms:modified>
  <cp:revision>100</cp:revision>
  <dc:subject/>
  <dc:title>绿 色 蝈 蝈</dc:title>
</cp:coreProperties>
</file>