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69B-0D61-41F4-8B9F-E2131CC0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378-6FE5-41C8-AB86-7E052808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FBC-3B84-4586-9385-7CE681CB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39F-F8FF-4B5C-822B-232B9DB7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8F4-D2F2-4AB8-BB08-FA1DF7A5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33526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763-E936-4586-A188-B6FFFF54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F8B9-C063-41ED-846D-629ECBEA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AA37-8D51-4646-A917-EB67811B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F13-4931-43E7-A3D1-556C2265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CE0-D0CE-4A9C-A568-DC9BDA36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FBE1-18FB-4540-99D4-A83163F5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6C1-B431-4841-AD4E-5D3A9005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33526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3352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5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1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2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3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299E-112D-48C4-B141-5595BE174FE8}" type="slidenum"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5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835280" y="1413000"/>
            <a:ext cx="56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latin typeface="华文行楷"/>
              </a:rPr>
              <a:t>绿色蝈蝈</a:t>
            </a:r>
            <a:endParaRPr b="0" lang="en-US" sz="3200" spc="1" strike="noStrike">
              <a:ln w="25560">
                <a:solidFill>
                  <a:srgbClr val="ffff00"/>
                </a:solidFill>
                <a:miter/>
              </a:ln>
              <a:solidFill>
                <a:srgbClr val="00ff00"/>
              </a:solidFill>
              <a:latin typeface="华文行楷"/>
              <a:ea typeface="华文行楷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84720" y="299736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3240">
                  <a:solidFill>
                    <a:srgbClr val="eaeaea"/>
                  </a:solidFill>
                  <a:miter/>
                </a:ln>
                <a:solidFill>
                  <a:srgbClr val="00ff00"/>
                </a:solidFill>
                <a:latin typeface="幼圆"/>
              </a:rPr>
              <a:t>法布尔</a:t>
            </a:r>
            <a:endParaRPr b="0" lang="en-US" sz="2800" spc="1" strike="noStrike">
              <a:ln w="3240">
                <a:solidFill>
                  <a:srgbClr val="eaeaea"/>
                </a:solidFill>
                <a:miter/>
              </a:ln>
              <a:solidFill>
                <a:srgbClr val="00ff00"/>
              </a:solidFill>
              <a:latin typeface="幼圆"/>
              <a:ea typeface="幼圆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71640" y="551664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524720" y="6021360"/>
            <a:ext cx="1079640" cy="576360"/>
          </a:xfrm>
          <a:prstGeom prst="rightArrow">
            <a:avLst>
              <a:gd name="adj1" fmla="val 50000"/>
              <a:gd name="adj2" fmla="val 468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4873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7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animClr clrSpc="rgb">
                                      <p:cBhvr>
                                        <p:cTn id="16" dur="100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17" dur="100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42160" cy="65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8642160" cy="659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89308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1" dur="3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8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093080" y="508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-900000" y="0"/>
            <a:ext cx="100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067280" y="4724280"/>
            <a:ext cx="1441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蝈蝈</a:t>
            </a:r>
            <a:endParaRPr b="0" lang="en-US" sz="2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0362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362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24000" y="304920"/>
            <a:ext cx="3311280" cy="6248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708360" y="390600"/>
            <a:ext cx="543564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幼圆"/>
                <a:ea typeface="幼圆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法布尔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(JEAN-HENRI FABR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  <a:ea typeface="宋体"/>
              </a:rPr>
              <a:t>1823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  <a:ea typeface="宋体"/>
              </a:rPr>
              <a:t>年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  <a:ea typeface="宋体"/>
              </a:rPr>
              <a:t>月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  <a:ea typeface="宋体"/>
              </a:rPr>
              <a:t>21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  <a:ea typeface="宋体"/>
              </a:rPr>
              <a:t>日生于法国南部一个小山村。从孩提时代起就表现出对昆虫和自然的喜爱，具有强烈的好奇心和敏锐的观察力。通过自修，他取得数学、物理学、博物学学士学位，任博物馆馆长。他在南法塞西尼翁村买了一小块地，命名为“荒石园”，开始专心观察、研究昆虫，写成十册《昆虫记》。关于昆虫的研究受到达尔文的推崇，赞誉为“无与伦比的观察家”。 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  <a:ea typeface="宋体"/>
              </a:rPr>
              <a:t>91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  <a:ea typeface="宋体"/>
              </a:rPr>
              <a:t>岁时过世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4400" y="382680"/>
            <a:ext cx="7696080" cy="57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给下列黄色的字注音：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狩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  ）猎      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喧嚣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      ）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篡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  ）夺      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劫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）掠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窸窣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  ）       开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膛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  ）破肚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篝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 ）火       </a:t>
            </a:r>
            <a:r>
              <a:rPr b="1" lang="zh-CN" sz="2800" spc="-1" strike="noStrike">
                <a:solidFill>
                  <a:srgbClr val="ff0033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嗉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）囊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吮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  ）取      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唾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）液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喑哑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   ）      静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谧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）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螽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斯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莴苣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                    ）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        ）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喙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35280" y="105264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shò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38840" y="10526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xuān xiā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1700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cuà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52920" y="1700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jié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2349360"/>
            <a:ext cx="13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ī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sū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77000" y="23493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tá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2924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gō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29240" y="29973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s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573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shǔ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52920" y="3573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tuò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4221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yīn y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2100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mì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4854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zhō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84720" y="4925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wō j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46160" y="551664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è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92600" y="551664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huì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8443800" cy="4608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24000" y="0"/>
            <a:ext cx="806436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回答下列问题：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①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绿色蝈蝈的外表有哪些特征？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1562040"/>
            <a:ext cx="4498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浑身嫩绿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侧面有两条淡白色的丝带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身材优美    苗条匀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两片大翼轻盈如纱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58626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蝈蝈的叫声和食性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81520" y="5950080"/>
            <a:ext cx="19512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eaeaea"/>
                </a:solidFill>
                <a:latin typeface="华文仿宋"/>
              </a:rPr>
              <a:t>主要写食性。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eaeaea"/>
              </a:solidFill>
              <a:latin typeface="华文仿宋"/>
              <a:ea typeface="华文仿宋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5920" y="5229360"/>
            <a:ext cx="8362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② </a:t>
            </a:r>
            <a:r>
              <a:rPr b="1" lang="zh-CN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绿色蝈蝈有哪些习性？作者主要写了哪个方面的习性？</a:t>
            </a:r>
            <a:endParaRPr b="1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8642160" cy="6597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 rot="5400000">
            <a:off x="-743760" y="3272400"/>
            <a:ext cx="2736720" cy="601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绿色蝈蝈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3933720"/>
            <a:ext cx="216000" cy="9144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51280" y="4365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3068640"/>
            <a:ext cx="1067040" cy="914400"/>
          </a:xfrm>
          <a:prstGeom prst="bracePair">
            <a:avLst>
              <a:gd name="adj" fmla="val 8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87640" y="4437000"/>
            <a:ext cx="144360" cy="432000"/>
          </a:xfrm>
          <a:prstGeom prst="bracePair">
            <a:avLst>
              <a:gd name="adj" fmla="val 8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38606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56000" y="404640"/>
            <a:ext cx="3744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全文结构图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619280" y="1341360"/>
            <a:ext cx="5545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.“</a:t>
            </a: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我”国庆仍在观察昆虫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619280" y="1989000"/>
            <a:ext cx="4800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2.</a:t>
            </a: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用蝉的哀号引出蝈蝈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19280" y="2971800"/>
            <a:ext cx="2523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3.</a:t>
            </a: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蝈蝈的叫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30686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3280" y="26370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有时清脆响亮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3280" y="32130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有时非常柔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619280" y="3573360"/>
            <a:ext cx="358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4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619280" y="4941720"/>
            <a:ext cx="504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0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987280" y="4365720"/>
            <a:ext cx="73080" cy="57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43280" y="4267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食性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8" name=""/>
          <p:cNvSpPr/>
          <p:nvPr/>
        </p:nvSpPr>
        <p:spPr>
          <a:xfrm>
            <a:off x="6227640" y="4581360"/>
            <a:ext cx="144720" cy="863640"/>
          </a:xfrm>
          <a:custGeom>
            <a:avLst/>
            <a:gdLst>
              <a:gd name="textAreaLeft" fmla="*/ 0 w 144720"/>
              <a:gd name="textAreaRight" fmla="*/ 52200 w 14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692360" y="5661000"/>
            <a:ext cx="503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1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1628640"/>
            <a:ext cx="503280" cy="4464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116280 h 4464360"/>
              <a:gd name="textAreaBottom" fmla="*/ 4348080 h 44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1280" y="2781360"/>
            <a:ext cx="433440" cy="718920"/>
          </a:xfrm>
          <a:custGeom>
            <a:avLst/>
            <a:gdLst>
              <a:gd name="textAreaLeft" fmla="*/ 276840 w 433440"/>
              <a:gd name="textAreaRight" fmla="*/ 433800 w 43344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 rot="5400000">
            <a:off x="7677000" y="42591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生活习性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3" name=""/>
          <p:cNvSpPr txBox="1"/>
          <p:nvPr/>
        </p:nvSpPr>
        <p:spPr>
          <a:xfrm rot="5400000">
            <a:off x="647280" y="4545000"/>
            <a:ext cx="122400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法布尔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 rot="5400000">
            <a:off x="1474560" y="3575520"/>
            <a:ext cx="790560" cy="71640"/>
          </a:xfrm>
          <a:prstGeom prst="rect">
            <a:avLst/>
          </a:prstGeom>
        </p:spPr>
        <p:txBody>
          <a:bodyPr wrap="none" lIns="90000" rIns="90000" tIns="25200" bIns="252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－</a:t>
            </a:r>
            <a:endParaRPr b="0" lang="en-US" sz="1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/>
          <p:nvPr/>
        </p:nvSpPr>
        <p:spPr>
          <a:xfrm>
            <a:off x="1960560" y="3532320"/>
            <a:ext cx="5238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ffffff"/>
                </a:solidFill>
                <a:latin typeface="Times New Roman"/>
                <a:ea typeface="宋体"/>
              </a:rPr>
              <a:t>｝</a:t>
            </a:r>
            <a:endParaRPr b="0" lang="en-US" sz="1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2492280"/>
            <a:ext cx="117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imes New Roman"/>
                <a:ea typeface="宋体"/>
              </a:rPr>
              <a:t>｛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93080" y="2401920"/>
            <a:ext cx="6476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｝</a:t>
            </a:r>
            <a:endParaRPr b="0" lang="en-US" sz="25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56000" y="5634000"/>
            <a:ext cx="4537080" cy="4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和睦共居 从不争吵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411280" y="692280"/>
            <a:ext cx="46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仿宋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仿宋"/>
              </a:rPr>
              <a:t>文中有一些对蝈蝈的特殊称呼，请同学们阅读课文找出来，并品味一下有什么表达效果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04840" y="2637000"/>
            <a:ext cx="28195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eaeaea"/>
                </a:solidFill>
                <a:latin typeface="华文仿宋"/>
              </a:rPr>
              <a:t>“</a:t>
            </a:r>
            <a:r>
              <a:rPr b="0" lang="zh-CN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eaeaea"/>
                </a:solidFill>
                <a:latin typeface="华文仿宋"/>
              </a:rPr>
              <a:t>狂热的狩猎者”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eaeaea"/>
              </a:solidFill>
              <a:latin typeface="华文仿宋"/>
              <a:ea typeface="华文仿宋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116000" y="3446640"/>
            <a:ext cx="31719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eaeaea"/>
                </a:solidFill>
                <a:latin typeface="华文仿宋"/>
              </a:rPr>
              <a:t>“</a:t>
            </a:r>
            <a:r>
              <a:rPr b="0" lang="zh-CN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eaeaea"/>
                </a:solidFill>
                <a:latin typeface="华文仿宋"/>
              </a:rPr>
              <a:t>我囚笼里的囚犯”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eaeaea"/>
              </a:solidFill>
              <a:latin typeface="华文仿宋"/>
              <a:ea typeface="华文仿宋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4292640"/>
            <a:ext cx="21146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eaeaea"/>
                </a:solidFill>
                <a:latin typeface="华文仿宋"/>
              </a:rPr>
              <a:t>“</a:t>
            </a:r>
            <a:r>
              <a:rPr b="0" lang="zh-CN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eaeaea"/>
                </a:solidFill>
                <a:latin typeface="华文仿宋"/>
              </a:rPr>
              <a:t>蝉的屠夫”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eaeaea"/>
              </a:solidFill>
              <a:latin typeface="华文仿宋"/>
              <a:ea typeface="华文仿宋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508720" y="2708280"/>
            <a:ext cx="10573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华文仿宋"/>
              </a:rPr>
              <a:t>捕蝉时</a:t>
            </a:r>
            <a:endParaRPr b="1" lang="en-US" sz="2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华文仿宋"/>
              <a:ea typeface="华文仿宋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576760" y="3500280"/>
            <a:ext cx="31719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华文仿宋"/>
              </a:rPr>
              <a:t>我观察和实验的对象时</a:t>
            </a:r>
            <a:endParaRPr b="1" lang="en-US" sz="2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华文仿宋"/>
              <a:ea typeface="华文仿宋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724360" y="4292640"/>
            <a:ext cx="14097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华文仿宋"/>
              </a:rPr>
              <a:t>吃蝉肉时</a:t>
            </a:r>
            <a:endParaRPr b="1" lang="en-US" sz="2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华文仿宋"/>
              <a:ea typeface="华文仿宋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5132520"/>
            <a:ext cx="78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这些称呼表达了法布尔先生对生命的热爱，使文章更生动形象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42840" y="7621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写作特点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115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  <a:ea typeface="华文细黑"/>
              </a:rPr>
              <a:t>语言生动形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115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  <a:ea typeface="华文细黑"/>
              </a:rPr>
              <a:t>拟人，比喻贴切自然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115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  <a:ea typeface="华文细黑"/>
              </a:rPr>
              <a:t>突出特征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91440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课后作业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2133720"/>
            <a:ext cx="84358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A   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摘录文中优美的词语、句子。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B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课外阅读法布尔的《昆虫论》，并作读书笔记。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-900000" y="0"/>
            <a:ext cx="100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380360" y="5877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1763640" y="692280"/>
            <a:ext cx="5329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cc66"/>
                  </a:solidFill>
                  <a:miter/>
                </a:ln>
                <a:solidFill>
                  <a:srgbClr val="ffcc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彩云"/>
              </a:rPr>
              <a:t>谢谢大家！</a:t>
            </a:r>
            <a:endParaRPr b="0" lang="en-US" sz="1800" spc="1" strike="noStrike">
              <a:ln w="12600">
                <a:solidFill>
                  <a:srgbClr val="ffcc66"/>
                </a:solidFill>
                <a:miter/>
              </a:ln>
              <a:solidFill>
                <a:srgbClr val="ffcc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95" name=""/>
          <p:cNvSpPr/>
          <p:nvPr/>
        </p:nvSpPr>
        <p:spPr>
          <a:xfrm>
            <a:off x="2556000" y="3068640"/>
            <a:ext cx="403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脚本：周承义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课件制作：邹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2004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10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2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6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473" dur="1" fill="hold">
                                    <p:stCondLst>
                                      <p:cond evt="end">
                                        <p:tn val="467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89308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3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3080" y="260280"/>
            <a:ext cx="882000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889308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xit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06:49:21Z</dcterms:created>
  <dc:creator>wutao</dc:creator>
  <dc:description/>
  <dc:language>en-US</dc:language>
  <cp:lastModifiedBy>zyb</cp:lastModifiedBy>
  <dcterms:modified xsi:type="dcterms:W3CDTF">2004-11-30T05:36:16Z</dcterms:modified>
  <cp:revision>100</cp:revision>
  <dc:subject/>
  <dc:title>PowerPoint 演示文稿</dc:title>
</cp:coreProperties>
</file>