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6105-C343-4C1B-A995-D6D6210C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B841-DA9F-49BB-B458-6B036F58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E906-8134-4734-A15E-C14DDE06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9763-1C26-4542-9FA6-136152F3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CD8C-F76E-4978-B959-1348867C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A6E4-6E04-4E2C-BF68-D9CE8A54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FD07-5BC4-4E20-A4F3-568AE0A5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1BB4-31B7-4766-8145-E8466C43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CF54-6FD6-49B4-B41A-E3B812A1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B75D-91CE-4760-B903-AFAE8035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7E27-E235-43A9-96F4-4682471F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8184-51B0-4121-B1D8-A0658202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3BBB-8DC0-4679-85A0-7B4BE4F01E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62240" y="990720"/>
            <a:ext cx="37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28800" y="30492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66040" y="162864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6600"/>
                </a:solidFill>
                <a:latin typeface="Arial"/>
              </a:rPr>
              <a:t>绿色蝈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3320" y="357336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法布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快速阅读的技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ff"/>
                </a:solidFill>
                <a:latin typeface="Arial"/>
              </a:rPr>
              <a:t>紧抓中心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ff"/>
                </a:solidFill>
                <a:latin typeface="Arial"/>
              </a:rPr>
              <a:t>紧抓中心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788000" y="1052640"/>
            <a:ext cx="410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1" i="1" lang="zh-CN" sz="8000" spc="-1" strike="noStrike">
                <a:solidFill>
                  <a:srgbClr val="ff0066"/>
                </a:solidFill>
                <a:latin typeface="Arial"/>
                <a:ea typeface="华文彩云"/>
              </a:rPr>
              <a:t>你 最 喜欢 的 是哪几段</a:t>
            </a:r>
            <a:r>
              <a:rPr b="1" i="1" lang="zh-CN" sz="8000" spc="-1" strike="noStrike">
                <a:solidFill>
                  <a:srgbClr val="ff0066"/>
                </a:solidFill>
                <a:latin typeface="Arial"/>
                <a:ea typeface="黑体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1972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99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87640" y="54900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Arial"/>
                <a:ea typeface="黑体"/>
              </a:rPr>
              <a:t>蝈蝈的“歌声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358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             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窃窃私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像是滑轮的响声；又像是干皱的薄膜隐隐约约的作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暗哑、类锐、急促、清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比：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蝈蝈的叫声——蝉的叫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59280" cy="2708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990760" y="19368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（运用拟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5280" y="3222720"/>
            <a:ext cx="188604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（运用比喻）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64800" y="4662360"/>
            <a:ext cx="7567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（进一步加深对蝈蝈叫声的认识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8000" y="6080040"/>
            <a:ext cx="50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（作者对蝈蝈的喜爱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087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cc0000"/>
                </a:solidFill>
                <a:latin typeface="Arial"/>
                <a:ea typeface="幼圆"/>
              </a:rPr>
              <a:t>你 认为 蝈蝈 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cc0000"/>
                </a:solidFill>
                <a:latin typeface="Arial"/>
                <a:ea typeface="幼圆"/>
              </a:rPr>
              <a:t>叫声 还像 什么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feba"/>
            </a:gs>
            <a:gs pos="50000">
              <a:srgbClr val="99ff66"/>
            </a:gs>
            <a:gs pos="100000">
              <a:srgbClr val="d0fe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55640" y="1988640"/>
            <a:ext cx="5338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勇敢地纵身追捕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惊慌失措地飞起逃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蝈蝈捕蝉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鹰捕云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47628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黑体"/>
              </a:rPr>
              <a:t>狂热的狩猎者”—“蝉的屠夫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645240" y="1484280"/>
            <a:ext cx="2498760" cy="4942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26920" y="2276640"/>
            <a:ext cx="360360" cy="2665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69480 h 2665080"/>
              <a:gd name="textAreaBottom" fmla="*/ 2595600 h 26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2205000"/>
            <a:ext cx="792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黑体"/>
              </a:rPr>
              <a:t>拟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黑体"/>
              </a:rPr>
              <a:t>对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80000" y="2276640"/>
            <a:ext cx="216000" cy="2736720"/>
          </a:xfrm>
          <a:custGeom>
            <a:avLst/>
            <a:gdLst>
              <a:gd name="textAreaLeft" fmla="*/ 0 w 216000"/>
              <a:gd name="textAreaRight" fmla="*/ 78120 w 21600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6000" y="2276640"/>
            <a:ext cx="6476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勇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顽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5300640"/>
            <a:ext cx="5543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（对蝈蝈的喜爱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1474920"/>
            <a:ext cx="820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谜语一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小小诸葛亮，稳坐中军帐。布下八卦阵，捉拿飞来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谜语二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小姑娘，日夜忙，会抽丝。会织网；织出网来不捉鱼，提些小虫当口粮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51640" y="5950080"/>
            <a:ext cx="280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（蜘蛛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b0ea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谜语自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6000" y="1557360"/>
            <a:ext cx="892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34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身穿绿袍子，苗条又匀称，手持双大刀。有人不吱声，无人大声喊，弹琴黑夜间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19640" y="5229360"/>
            <a:ext cx="360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00"/>
                </a:solidFill>
                <a:latin typeface="Arial"/>
              </a:rPr>
              <a:t>（蝈蝈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观察细致，抓住事物特征，同时可以适当的运用对比、拟人、比喻等修辞手法，使文章更生动活泼，更富表现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下面是一幅兔子的图画，请仔细观察，口述它的外表特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33336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黑体"/>
              </a:rPr>
              <a:t>通过这篇文章的学习，我们知道描写事物要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fe9d"/>
            </a:gs>
            <a:gs pos="50000">
              <a:srgbClr val="99ff66"/>
            </a:gs>
            <a:gs pos="100000">
              <a:srgbClr val="bdfe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4560" cy="6284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496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ff6600"/>
                </a:solidFill>
                <a:latin typeface="Arial"/>
              </a:rPr>
              <a:t>选择自己熟悉喜爱的一种小动物，运用拟人、对比等手法写一段话，</a:t>
            </a:r>
            <a:r>
              <a:rPr b="1" lang="zh-CN" sz="6000" spc="-1" strike="noStrike">
                <a:solidFill>
                  <a:srgbClr val="ff6600"/>
                </a:solidFill>
                <a:latin typeface="Arial"/>
              </a:rPr>
              <a:t>200</a:t>
            </a:r>
            <a:r>
              <a:rPr b="1" lang="zh-CN" sz="6000" spc="-1" strike="noStrike">
                <a:solidFill>
                  <a:srgbClr val="ff6600"/>
                </a:solidFill>
                <a:latin typeface="Arial"/>
              </a:rPr>
              <a:t>字左右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d1a7d1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754440" cy="4897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58920" y="260280"/>
            <a:ext cx="71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隶书"/>
              </a:rPr>
              <a:t>               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隶书"/>
              </a:rPr>
              <a:t>法布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27640" y="1197000"/>
            <a:ext cx="44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法国著名昆虫学家，他用了几十年的时间，写了一部很有影响力的书——《昆虫的故事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《昆虫的故事》原名《昆虫记》，行文生动活泼，语言传神，内容多集中在昆虫学问题上，很受青少年的喜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afe9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57080" y="549360"/>
            <a:ext cx="4310280" cy="6048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175280" y="836640"/>
            <a:ext cx="374652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鲁迅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讲昆虫故事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讲昆虫生活”的楷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新字生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6868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火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喧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哑                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取　　             静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哀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猎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劫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            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窸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155736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gōu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08960" y="2349360"/>
            <a:ext cx="40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xuān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 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xiā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24000" y="306864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ī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80000" y="3141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uàn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393372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ǚ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24360" y="400536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ì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79640" y="4797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á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1640" y="4869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òu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0920" y="558972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lü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03280" y="5734080"/>
            <a:ext cx="275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xī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116000" y="1268280"/>
            <a:ext cx="712800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你读到了什么？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eef"/>
            </a:gs>
            <a:gs pos="50000">
              <a:srgbClr val="99ff66"/>
            </a:gs>
            <a:gs pos="100000">
              <a:srgbClr val="f4fe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蝈蝈的外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16000" y="1412640"/>
            <a:ext cx="424836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这种昆虫非常漂亮，浑身嫩绿，侧面有两条淡白色的丝带，身材优美，苗条匀称，两片大翼轻盈如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有着有力的大颚、锐利的钳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4546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e4fed7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4920" y="836640"/>
            <a:ext cx="8497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650"/>
              </a:spcBef>
              <a:buClr>
                <a:srgbClr val="ff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6600"/>
                </a:solidFill>
                <a:latin typeface="黑体"/>
                <a:ea typeface="黑体"/>
              </a:rPr>
              <a:t>讨论一：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作者主要写了绿色蝈蝈的哪些习性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65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蝈蝈的</a:t>
            </a:r>
            <a:r>
              <a:rPr b="1" lang="zh-CN" sz="6600" spc="-1" strike="noStrike">
                <a:solidFill>
                  <a:srgbClr val="ff0066"/>
                </a:solidFill>
                <a:latin typeface="黑体"/>
                <a:ea typeface="黑体"/>
              </a:rPr>
              <a:t>叫声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6600" spc="-1" strike="noStrike">
                <a:solidFill>
                  <a:srgbClr val="ff0066"/>
                </a:solidFill>
                <a:latin typeface="黑体"/>
                <a:ea typeface="黑体"/>
              </a:rPr>
              <a:t>食性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fe9d"/>
            </a:gs>
            <a:gs pos="50000">
              <a:srgbClr val="99ff66"/>
            </a:gs>
            <a:gs pos="100000">
              <a:srgbClr val="bdfe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4920" y="162000"/>
            <a:ext cx="8497800" cy="66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黑体"/>
                <a:ea typeface="黑体"/>
              </a:rPr>
              <a:t>讨论二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蝈蝈喜欢吃什么？吃东西时有什么习惯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吃蝉、水果、金龟子一类的昆虫、青草，也吃同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当拥有共同食物时，蝈蝈一个一个进食。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12:45:27Z</dcterms:created>
  <dc:creator>wutao</dc:creator>
  <dc:description/>
  <dc:language>en-US</dc:language>
  <cp:lastModifiedBy>Compaq</cp:lastModifiedBy>
  <dcterms:modified xsi:type="dcterms:W3CDTF">2003-12-05T03:07:44Z</dcterms:modified>
  <cp:revision>100</cp:revision>
  <dc:subject/>
  <dc:title>绿色蝈蝈</dc:title>
</cp:coreProperties>
</file>