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1D94-6170-4758-83EB-21D517DDC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3402-59C4-4431-AA66-7740D05E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E895-0FA9-4652-8AA3-E06024B8A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9E66-3A38-4FA9-9E14-EE77247ED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EBE2-15F7-4959-8309-0DF1C7E2C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414F-CAA8-4B55-8BC6-EAC04B5A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BAE9-901C-4ED0-A5A8-6FE41DF9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DF36-7909-47E6-8DE6-019EA646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DD4E-5119-4C29-AD52-B352D0A0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D3B7-C704-4AAE-83C4-90E37B79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20D0-B64F-4FB1-AD38-92614224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C4EA-6343-495D-9A91-88882CE6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3B80-2974-4D00-ADC4-C4E99A6C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382F-5814-412C-8146-DADB45BA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B089-19A6-4140-AB86-5A4FC1CC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84F2-6CF6-491F-B629-7B86D12E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A419-9DD5-4ED4-85FC-7861298BB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2C13-8DAE-420D-BFF2-CC63906E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DBCC-DFEC-4A0D-8C39-D0AFCF37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0EDD-EB46-4FD1-9ED8-8AB7DEF4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8768-21DE-4A9F-912A-849FA2C7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5D5D-0E43-4836-91F6-F81F11E9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4978-97CA-4D30-9893-076EB67C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CDC7-A0B0-4FDE-B06C-8D4A8023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7D6B-E6B4-4AC3-86FF-2FDE8C5AAC5F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06EA-DD9E-4DA8-AC22-BED59526F602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hyperlink" Target="file:///tmp/home/.config/libreoffice/4/user/gallery/&#34632;&#34632;2.WAV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rcRect l="0" t="9694" r="0" b="0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37" name="">
            <a:hlinkClick r:id="rId3"/>
          </p:cNvPr>
          <p:cNvSpPr/>
          <p:nvPr/>
        </p:nvSpPr>
        <p:spPr>
          <a:xfrm>
            <a:off x="7924680" y="60199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9943"/>
                </a:moveTo>
                <a:lnTo>
                  <a:pt x="8224" y="9943"/>
                </a:lnTo>
                <a:lnTo>
                  <a:pt x="12645" y="5330"/>
                </a:lnTo>
                <a:lnTo>
                  <a:pt x="12645" y="19343"/>
                </a:lnTo>
                <a:lnTo>
                  <a:pt x="8224" y="14730"/>
                </a:lnTo>
                <a:lnTo>
                  <a:pt x="3794" y="14730"/>
                </a:lnTo>
                <a:close/>
              </a:path>
              <a:path fill="darken" w="21600" h="24673">
                <a:moveTo>
                  <a:pt x="14299" y="12337"/>
                </a:moveTo>
                <a:lnTo>
                  <a:pt x="17806" y="12337"/>
                </a:lnTo>
              </a:path>
              <a:path fill="darken" w="21600" h="24673">
                <a:moveTo>
                  <a:pt x="14299" y="9943"/>
                </a:moveTo>
                <a:lnTo>
                  <a:pt x="17806" y="7175"/>
                </a:lnTo>
              </a:path>
              <a:path fill="darken" w="21600" h="24673">
                <a:moveTo>
                  <a:pt x="14299" y="14730"/>
                </a:moveTo>
                <a:lnTo>
                  <a:pt x="17806" y="17498"/>
                </a:lnTo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-575280" y="0"/>
            <a:ext cx="21913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39b1c"/>
                </a:solidFill>
                <a:latin typeface="Times New Roman"/>
                <a:ea typeface="华文新魏"/>
              </a:rPr>
              <a:t>绿色蝈蝈</a:t>
            </a:r>
            <a:endParaRPr b="0" lang="en-US" sz="6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222120"/>
            <a:ext cx="678168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Tahoma"/>
                <a:ea typeface="黑体"/>
              </a:rPr>
              <a:t>六、三次递读，探究方法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76680" y="1752480"/>
            <a:ext cx="8991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6600"/>
                </a:solidFill>
                <a:latin typeface="Times New Roman"/>
              </a:rPr>
              <a:t>、作者在介绍蝈蝈的特点时，用了些什么手法？你觉得哪些地方值得你借鉴学习？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489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请同学们进行第三次速读，并进行讨论。</a:t>
            </a: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467676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00"/>
                </a:solidFill>
                <a:latin typeface="Times New Roman"/>
              </a:rPr>
              <a:t>文章介绍事物特点时的两种手法：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拟人和对比</a:t>
            </a:r>
            <a:r>
              <a:rPr b="0" lang="zh-CN" sz="4000" spc="-1" strike="noStrike">
                <a:solidFill>
                  <a:srgbClr val="ff505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066680" y="1522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imes New Roman"/>
              </a:rPr>
              <a:t>介绍事物特点时的两种手法：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04920" y="981000"/>
            <a:ext cx="8381880" cy="2319120"/>
            <a:chOff x="304920" y="981000"/>
            <a:chExt cx="8381880" cy="2319120"/>
          </a:xfrm>
        </p:grpSpPr>
        <p:grpSp>
          <p:nvGrpSpPr>
            <p:cNvPr id="175" name=""/>
            <p:cNvGrpSpPr/>
            <p:nvPr/>
          </p:nvGrpSpPr>
          <p:grpSpPr>
            <a:xfrm>
              <a:off x="304920" y="981000"/>
              <a:ext cx="6283080" cy="2319120"/>
              <a:chOff x="304920" y="981000"/>
              <a:chExt cx="6283080" cy="2319120"/>
            </a:xfrm>
          </p:grpSpPr>
          <p:sp>
            <p:nvSpPr>
              <p:cNvPr id="176" name=""/>
              <p:cNvSpPr/>
              <p:nvPr/>
            </p:nvSpPr>
            <p:spPr>
              <a:xfrm>
                <a:off x="1752480" y="981000"/>
                <a:ext cx="4343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6600"/>
                    </a:solidFill>
                    <a:latin typeface="Times New Roman"/>
                  </a:rPr>
                  <a:t>蝈蝈——蝉（叫声）</a:t>
                </a:r>
                <a:endParaRPr b="0" lang="en-US" sz="36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752480" y="1819440"/>
                <a:ext cx="4343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6600"/>
                    </a:solidFill>
                    <a:latin typeface="Times New Roman"/>
                  </a:rPr>
                  <a:t>蝈蝈——鹰（捕食）</a:t>
                </a:r>
                <a:endParaRPr b="0" lang="en-US" sz="36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752480" y="2657520"/>
                <a:ext cx="483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6600"/>
                    </a:solidFill>
                    <a:latin typeface="Times New Roman"/>
                  </a:rPr>
                  <a:t>蝈蝈——螳螂（食性）</a:t>
                </a:r>
                <a:endParaRPr b="0" lang="en-US" sz="36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447920" y="1165320"/>
                <a:ext cx="304560" cy="1904760"/>
              </a:xfrm>
              <a:custGeom>
                <a:avLst/>
                <a:gdLst>
                  <a:gd name="textAreaLeft" fmla="*/ 194760 w 304560"/>
                  <a:gd name="textAreaRight" fmla="*/ 304920 w 30456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04920" y="1774800"/>
                <a:ext cx="114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0000"/>
                    </a:solidFill>
                    <a:latin typeface="Times New Roman"/>
                  </a:rPr>
                  <a:t>对比</a:t>
                </a:r>
                <a:endParaRPr b="0" lang="en-US" sz="36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6248520" y="1165320"/>
                <a:ext cx="304560" cy="1904760"/>
              </a:xfrm>
              <a:custGeom>
                <a:avLst/>
                <a:gdLst>
                  <a:gd name="textAreaLeft" fmla="*/ 194760 w 304560"/>
                  <a:gd name="textAreaRight" fmla="*/ 304920 w 30456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6629400" y="174312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突出特征</a:t>
              </a:r>
              <a:endParaRPr b="0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80880" y="3701880"/>
            <a:ext cx="8277480" cy="2319120"/>
            <a:chOff x="380880" y="3701880"/>
            <a:chExt cx="8277480" cy="2319120"/>
          </a:xfrm>
        </p:grpSpPr>
        <p:sp>
          <p:nvSpPr>
            <p:cNvPr id="184" name=""/>
            <p:cNvSpPr/>
            <p:nvPr/>
          </p:nvSpPr>
          <p:spPr>
            <a:xfrm>
              <a:off x="1752480" y="3701880"/>
              <a:ext cx="51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6600"/>
                  </a:solidFill>
                  <a:latin typeface="Times New Roman"/>
                </a:rPr>
                <a:t>“</a:t>
              </a:r>
              <a:r>
                <a:rPr b="0" lang="zh-CN" sz="3600" spc="-1" strike="noStrike">
                  <a:solidFill>
                    <a:srgbClr val="006600"/>
                  </a:solidFill>
                  <a:latin typeface="Times New Roman"/>
                </a:rPr>
                <a:t>窃窃私语”、“津津有味”</a:t>
              </a:r>
              <a:endParaRPr b="0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28800" y="4540320"/>
              <a:ext cx="518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6600"/>
                  </a:solidFill>
                  <a:latin typeface="Times New Roman"/>
                </a:rPr>
                <a:t>“</a:t>
              </a:r>
              <a:r>
                <a:rPr b="0" lang="zh-CN" sz="3600" spc="-1" strike="noStrike">
                  <a:solidFill>
                    <a:srgbClr val="006600"/>
                  </a:solidFill>
                  <a:latin typeface="Times New Roman"/>
                </a:rPr>
                <a:t>身材优美”、“苗条匀称”</a:t>
              </a:r>
              <a:endParaRPr b="0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28800" y="5378400"/>
              <a:ext cx="647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6600"/>
                  </a:solidFill>
                  <a:latin typeface="Times New Roman"/>
                </a:rPr>
                <a:t>“</a:t>
              </a:r>
              <a:r>
                <a:rPr b="0" lang="zh-CN" sz="3600" spc="-1" strike="noStrike">
                  <a:solidFill>
                    <a:srgbClr val="006600"/>
                  </a:solidFill>
                  <a:latin typeface="Times New Roman"/>
                </a:rPr>
                <a:t>酷爱甜食”、“宽容”、“妒忌”</a:t>
              </a:r>
              <a:endParaRPr b="0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23880" y="3886200"/>
              <a:ext cx="304920" cy="19051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0880" y="454032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拟人</a:t>
              </a:r>
              <a:endParaRPr b="0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7620120" y="3886200"/>
              <a:ext cx="304560" cy="190512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380720" y="3809880"/>
              <a:ext cx="1277640" cy="22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形象生动</a:t>
              </a:r>
              <a:endParaRPr b="0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14616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Tahoma"/>
                <a:ea typeface="黑体"/>
              </a:rPr>
              <a:t>七、迁移训练，运用方法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5960" y="990720"/>
            <a:ext cx="8915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请同学们仔细观察以下动物，结合自己平时对它们的了解，看看它们有哪些特点？并试着用拟人和对比手法口头介绍它们的某个特点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1295280" y="2590920"/>
            <a:ext cx="2514600" cy="19335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5334120" y="2514600"/>
            <a:ext cx="2590560" cy="1909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5486400" y="44956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1371600" y="4495680"/>
            <a:ext cx="243828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Tahoma"/>
                <a:ea typeface="黑体"/>
              </a:rPr>
              <a:t>八、交流归纳，小结学法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0" lang="zh-CN" sz="3000" spc="-1" strike="noStrike">
                <a:solidFill>
                  <a:srgbClr val="0000ff"/>
                </a:solidFill>
                <a:latin typeface="Tahoma"/>
              </a:rPr>
              <a:t>、通过这节课的学习，说说看，你从法布尔和同学们身上学到了的什么？</a:t>
            </a:r>
            <a:r>
              <a:rPr b="0" lang="zh-CN" sz="3000" spc="-1" strike="noStrike">
                <a:solidFill>
                  <a:srgbClr val="0066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272736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（细致的观察，抓住事物的特征，运用拟人和对比手法等）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巩固知识、能力目标；</a:t>
            </a:r>
            <a:r>
              <a:rPr b="0" lang="zh-CN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2117880"/>
            <a:ext cx="4952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0" lang="zh-CN" sz="3000" spc="-1" strike="noStrike">
                <a:solidFill>
                  <a:srgbClr val="0000ff"/>
                </a:solidFill>
                <a:latin typeface="Tahoma"/>
              </a:rPr>
              <a:t>、本文在写作上的特点？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3794040"/>
            <a:ext cx="861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ahoma"/>
              </a:rPr>
              <a:t>3</a:t>
            </a:r>
            <a:r>
              <a:rPr b="0" lang="zh-CN" sz="3000" spc="-1" strike="noStrike">
                <a:solidFill>
                  <a:srgbClr val="0000ff"/>
                </a:solidFill>
                <a:latin typeface="Tahoma"/>
              </a:rPr>
              <a:t>、感受和学习作者仔细观察、勤于探索的科学方法和科学精神，巩固本课教学的情感、态度目标；</a:t>
            </a:r>
            <a:r>
              <a:rPr b="0" lang="zh-CN" sz="30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4876920"/>
            <a:ext cx="883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ahoma"/>
              </a:rPr>
              <a:t>4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、总结在学习中得到的学习经验（快速阅读的方法，观察的方法，讨论探究等）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04920" y="76212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法布尔之所以执著而艰难 地坚持自己的研究和探索</a:t>
            </a: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是因为他有着某种精神</a:t>
            </a: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;</a:t>
            </a: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那就是求真</a:t>
            </a: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即追求真理</a:t>
            </a: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探求真相</a:t>
            </a: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.</a:t>
            </a: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如果没有这种精神</a:t>
            </a: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就没有《昆虫记》，人类的精神之树将少掉一颗智慧</a:t>
            </a:r>
            <a:r>
              <a:rPr b="1" lang="zh-CN" sz="4800" spc="-1" strike="noStrike">
                <a:solidFill>
                  <a:srgbClr val="006600"/>
                </a:solidFill>
                <a:latin typeface="Times New Roman"/>
              </a:rPr>
              <a:t>之果。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6094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ccff"/>
                </a:solidFill>
                <a:latin typeface="Times New Roman"/>
                <a:ea typeface="华文新魏"/>
              </a:rPr>
              <a:t>        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比看那些无聊的小说更有趣味，更有意义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                  ——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中国  周作人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280" y="3200400"/>
            <a:ext cx="8991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5472"/>
                </a:solidFill>
                <a:latin typeface="Times New Roman"/>
                <a:ea typeface="华文新魏"/>
              </a:rPr>
              <a:t>        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这个大科学家像哲学家一般的想，美术家一般的看，文学家一般的感受而且抒写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   ——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法国戏剧家    罗斯丹（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Rostand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）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533520" y="725400"/>
            <a:ext cx="83055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这样的作品在世界上诚属空前绝后。没有哪位昆虫学家具备如此高明的文学表达才能，没有哪位作家具备如此博大精深的昆虫学造诣；况且，那又是一个群情共振的雨果、巴尔扎克、左拉文学时代，一个势不可挡的拉马克、达尔文、魏斯曼生物学时代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            ——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王光《法布尔精神》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5622840"/>
            <a:ext cx="835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达尔文称他是“难以效法的观察家”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831960"/>
            <a:ext cx="77724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Tahoma"/>
                <a:ea typeface="黑体"/>
              </a:rPr>
              <a:t>九、布置作业，培养兴趣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Tahoma"/>
              </a:rPr>
              <a:t>1</a:t>
            </a:r>
            <a:r>
              <a:rPr b="0" lang="zh-CN" sz="3600" spc="-1" strike="noStrike">
                <a:solidFill>
                  <a:srgbClr val="006600"/>
                </a:solidFill>
                <a:latin typeface="Tahoma"/>
              </a:rPr>
              <a:t>、课外选读法布尔的《昆虫记》中的文章，做好摘录笔记，并写下自己的心得体会。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Tahoma"/>
              </a:rPr>
              <a:t>2</a:t>
            </a:r>
            <a:r>
              <a:rPr b="0" lang="zh-CN" sz="3600" spc="-1" strike="noStrike">
                <a:solidFill>
                  <a:srgbClr val="006600"/>
                </a:solidFill>
                <a:latin typeface="Times New Roman"/>
              </a:rPr>
              <a:t>、课外仔细观察一种小动物，做好它的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形、声、色、味、食</a:t>
            </a:r>
            <a:r>
              <a:rPr b="0" lang="zh-CN" sz="3600" spc="-1" strike="noStrike">
                <a:solidFill>
                  <a:srgbClr val="006600"/>
                </a:solidFill>
                <a:latin typeface="Times New Roman"/>
              </a:rPr>
              <a:t>等方面特征的观察笔记，并整理成一篇文章。</a:t>
            </a:r>
            <a:r>
              <a:rPr b="0" lang="zh-CN" sz="3600" spc="-1" strike="noStrike">
                <a:solidFill>
                  <a:srgbClr val="0066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8080" y="1371600"/>
            <a:ext cx="746784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ccffcc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谢谢</a:t>
            </a:r>
            <a:endParaRPr b="0" lang="en-US" sz="2400" spc="1" strike="noStrike">
              <a:ln w="12600">
                <a:solidFill>
                  <a:srgbClr val="ccffcc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52280" y="1219320"/>
            <a:ext cx="8610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26212"/>
                </a:solidFill>
                <a:latin typeface="宋体"/>
              </a:rPr>
              <a:t>猜谜游戏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宋体"/>
              </a:rPr>
              <a:t>谜一：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4400" spc="-1" strike="noStrike">
                <a:solidFill>
                  <a:srgbClr val="0000ff"/>
                </a:solidFill>
                <a:latin typeface="宋体"/>
              </a:rPr>
              <a:t>小小诸葛亮，稳坐中军帐。布下八卦阵，捉拿飞来将。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宋体"/>
              </a:rPr>
              <a:t>谜二：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4400" spc="-1" strike="noStrike">
                <a:solidFill>
                  <a:srgbClr val="0000ff"/>
                </a:solidFill>
                <a:latin typeface="宋体"/>
              </a:rPr>
              <a:t>小姑娘，日夜忙，会抽丝。会织网；织出网来不捉鱼，提些小虫当口粮。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0" lang="zh-CN" sz="4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609480"/>
            <a:ext cx="449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9933"/>
                </a:solidFill>
                <a:latin typeface="Tahoma"/>
                <a:ea typeface="黑体"/>
              </a:rPr>
              <a:t>一、导入新课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  <a:ea typeface="黑体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438280" y="44136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Times New Roman"/>
              </a:rPr>
              <a:t>蜘蛛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26212"/>
                </a:solidFill>
                <a:latin typeface="Times New Roman"/>
              </a:rPr>
              <a:t>大家说说，你是根据什么把谜底给猜出来的呢？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29718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5050"/>
                </a:solidFill>
                <a:latin typeface="Times New Roman"/>
              </a:rPr>
              <a:t>介绍事物，必须抓住事物特点进行说明</a:t>
            </a:r>
            <a:r>
              <a:rPr b="0" lang="zh-CN" sz="54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773280"/>
            <a:ext cx="9144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39b1c"/>
                </a:solidFill>
                <a:latin typeface="宋体"/>
              </a:rPr>
              <a:t>1823</a:t>
            </a:r>
            <a:r>
              <a:rPr b="1" lang="zh-CN" sz="2800" spc="-1" strike="noStrike">
                <a:solidFill>
                  <a:srgbClr val="039b1c"/>
                </a:solidFill>
                <a:latin typeface="宋体"/>
              </a:rPr>
              <a:t>年法布尔生于法国南部一个农民家中。童年时代就迷上了户外大自然的花草虫鸟。在他不足</a:t>
            </a:r>
            <a:r>
              <a:rPr b="1" lang="zh-CN" sz="2800" spc="-1" strike="noStrike">
                <a:solidFill>
                  <a:srgbClr val="039b1c"/>
                </a:solidFill>
                <a:latin typeface="宋体"/>
              </a:rPr>
              <a:t>19</a:t>
            </a:r>
            <a:r>
              <a:rPr b="1" lang="zh-CN" sz="2800" spc="-1" strike="noStrike">
                <a:solidFill>
                  <a:srgbClr val="039b1c"/>
                </a:solidFill>
                <a:latin typeface="宋体"/>
              </a:rPr>
              <a:t>岁时就立志研究昆虫。后来靠自学获得了自然科学硕士、博士学位。</a:t>
            </a:r>
            <a:r>
              <a:rPr b="1" lang="zh-CN" sz="2800" spc="-1" strike="noStrike">
                <a:solidFill>
                  <a:srgbClr val="039b1c"/>
                </a:solidFill>
                <a:latin typeface="宋体"/>
              </a:rPr>
              <a:t>1880</a:t>
            </a:r>
            <a:r>
              <a:rPr b="1" lang="zh-CN" sz="2800" spc="-1" strike="noStrike">
                <a:solidFill>
                  <a:srgbClr val="039b1c"/>
                </a:solidFill>
                <a:latin typeface="宋体"/>
              </a:rPr>
              <a:t>年，法布尔用积攒的一小笔钱，在小镇附近购得一处坐落在荒地上的老旧民宅，进一步研究活虫子的计划即将变成现实。他精神舒畅，用当地普罗旺斯语给这处居所取了个风趣的雅号荒石园。年复一年，荒石园主人穿着农民的粗呢子外套，吃着普通老百姓的清汤淡饭，用尖镐平铲刨挖，于是，花草争妍，灌木成丛，一座百虫乐园建好了。他守着心爱的荒石园，开足生命的马力，不知疲倦地从事独具特色的昆虫学研究，把劳动成果写进一卷又一卷的《昆虫记》。他就这样，孤独、欢欣、清苦、平静地度过了他最后的</a:t>
            </a:r>
            <a:r>
              <a:rPr b="1" lang="zh-CN" sz="2800" spc="-1" strike="noStrike">
                <a:solidFill>
                  <a:srgbClr val="039b1c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039b1c"/>
                </a:solidFill>
                <a:latin typeface="宋体"/>
              </a:rPr>
              <a:t>年。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1522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二、作者简价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66520" y="685440"/>
            <a:ext cx="3048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宋体"/>
              </a:rPr>
              <a:t>《</a:t>
            </a:r>
            <a:r>
              <a:rPr b="0" lang="zh-CN" sz="4400" spc="-1" strike="noStrike">
                <a:solidFill>
                  <a:srgbClr val="006600"/>
                </a:solidFill>
                <a:latin typeface="Tahoma"/>
              </a:rPr>
              <a:t>昆虫记</a:t>
            </a:r>
            <a:r>
              <a:rPr b="0" lang="zh-CN" sz="4400" spc="-1" strike="noStrike">
                <a:solidFill>
                  <a:srgbClr val="006600"/>
                </a:solidFill>
                <a:latin typeface="宋体"/>
              </a:rPr>
              <a:t>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他是花了近</a:t>
            </a:r>
            <a:r>
              <a:rPr b="0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20</a:t>
            </a:r>
            <a:r>
              <a:rPr b="0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年的时间（</a:t>
            </a:r>
            <a:r>
              <a:rPr b="0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1870—1889</a:t>
            </a:r>
            <a:r>
              <a:rPr b="0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）写成的，此时正是法布尔人生中年到老年的漫长二十年里，以科学严谨的态度，童真而又仔细地观察了大量昆虫的活动，用富足的第一手资料，真实而生动的向我们揭示了昆虫王国的别样景观。 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52280" y="1522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26212"/>
                </a:solidFill>
                <a:latin typeface="Times New Roman"/>
                <a:ea typeface="黑体"/>
              </a:rPr>
              <a:t>三、检查预习，积累字词</a:t>
            </a:r>
            <a:r>
              <a:rPr b="0" lang="zh-CN" sz="3600" spc="-1" strike="noStrike">
                <a:solidFill>
                  <a:srgbClr val="026212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8000" y="2438280"/>
            <a:ext cx="853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篝　火     喧　嚣      喑　哑      篡　夺    吮   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1752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gōu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44197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静　谧     哀　号      狩　猎     劫　掠     窸  窣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175248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xuān xiā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17524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yī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08720" y="1752480"/>
            <a:ext cx="10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uàn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184880" y="1706400"/>
            <a:ext cx="10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shǔn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38098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mì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38401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há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38401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shòu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00800" y="38401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lüè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91520" y="3809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x ī  s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26212"/>
                </a:solidFill>
                <a:latin typeface="Tahoma"/>
                <a:ea typeface="黑体"/>
              </a:rPr>
              <a:t>四、快速阅读，概括要点，合作讨论，探究方法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304560" y="1905120"/>
            <a:ext cx="824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Tahoma"/>
              </a:rPr>
              <a:t>、快速阅读，概括要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ahoma"/>
              </a:rPr>
              <a:t>A</a:t>
            </a:r>
            <a:r>
              <a:rPr b="0" lang="zh-CN" sz="3200" spc="-1" strike="noStrike">
                <a:solidFill>
                  <a:srgbClr val="0000ff"/>
                </a:solidFill>
                <a:latin typeface="Tahoma"/>
              </a:rPr>
              <a:t>、快速阅读全文，找找看：文章介绍了蝈蝈哪些方面的特点？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37339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、请你谈谈进行快速阅读时的经验体会，总结出快速阅读的方法和技巧；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4800600"/>
            <a:ext cx="7696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Times New Roman"/>
              </a:rPr>
              <a:t>快速阅读的方法和技巧：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Times New Roman"/>
              </a:rPr>
              <a:t>找中心句，抓关键词</a:t>
            </a: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8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15228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26212"/>
                </a:solidFill>
                <a:latin typeface="Tahoma"/>
                <a:ea typeface="黑体"/>
              </a:rPr>
              <a:t>五、再次速读，交流小结：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6108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Times New Roman"/>
              </a:rPr>
              <a:t>介绍事物要抓住事物的特征。从本文的叙述和介绍中，大家想想，介绍特征时可从哪些方面入手呢？我们如何才能抓住事物的特征呢？</a:t>
            </a:r>
            <a:r>
              <a:rPr b="0" lang="zh-CN" sz="3600" spc="-1" strike="noStrike">
                <a:solidFill>
                  <a:srgbClr val="0066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388296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Times New Roman"/>
              </a:rPr>
              <a:t>把握介绍事物特征的几个方面的内容：即</a:t>
            </a:r>
            <a:r>
              <a:rPr b="0" lang="zh-CN" sz="3600" spc="-1" strike="noStrike" u="sng">
                <a:solidFill>
                  <a:srgbClr val="ff5050"/>
                </a:solidFill>
                <a:uFillTx/>
                <a:latin typeface="Times New Roman"/>
              </a:rPr>
              <a:t>形、色、声、食、味</a:t>
            </a:r>
            <a:r>
              <a:rPr b="0" lang="zh-CN" sz="3600" spc="-1" strike="noStrike">
                <a:solidFill>
                  <a:srgbClr val="006600"/>
                </a:solidFill>
                <a:latin typeface="Times New Roman"/>
              </a:rPr>
              <a:t>等，明确观察的着眼点或方法，为下一步的观察做准备。明确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Times New Roman"/>
              </a:rPr>
              <a:t>观察、思考、探索</a:t>
            </a:r>
            <a:r>
              <a:rPr b="0" lang="zh-CN" sz="3600" spc="-1" strike="noStrike">
                <a:solidFill>
                  <a:srgbClr val="006600"/>
                </a:solidFill>
                <a:latin typeface="Times New Roman"/>
              </a:rPr>
              <a:t>的重要意义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2T10:33:35Z</dcterms:created>
  <dc:creator>wutao</dc:creator>
  <dc:description/>
  <dc:language>en-US</dc:language>
  <cp:lastModifiedBy>a</cp:lastModifiedBy>
  <dcterms:modified xsi:type="dcterms:W3CDTF">2004-12-16T05:29:12Z</dcterms:modified>
  <cp:revision>100</cp:revision>
  <dc:subject/>
  <dc:title>PowerPoint 演示文稿</dc:title>
</cp:coreProperties>
</file>