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10.jpeg" ContentType="image/jpeg"/>
  <Override PartName="/ppt/media/image8.jpeg" ContentType="image/jpeg"/>
  <Override PartName="/ppt/media/image5.png" ContentType="image/png"/>
  <Override PartName="/ppt/media/image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5551-89E3-4E22-93A7-3213B744E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3182-5FE1-49D0-A279-326A37856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2686-8761-45F4-A202-1FE58F68A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03FD-B244-4203-B0FC-EE152C8B9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2EFF3-EC65-40D3-9003-6F77538F1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51D4E-846C-425A-8BF8-B625A60D8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05CE4-B92E-44F8-A1CB-A1B104A18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F19C5-6AE7-4561-B2E0-CB2231688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C4E7B-A20C-4EA0-A23B-7C9E5C259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6427C-ADBE-4F44-B671-1D327D232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3A05C-AA5F-4CCD-9E4C-EB3E13A5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0D3D-712C-45F8-A3A3-6F89DC925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07ABE-9213-485D-A1CB-26F5BE10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0B922-BE0E-471D-946E-BF0D47DD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2D1DA-88F6-47D0-93BE-27B540A2D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8EC88-8A38-4D92-92FA-DED045BF8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E1D6B-BE6D-4539-BCB1-FF2D36F61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7044-69A0-4061-945E-C966C5888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366D-2BFE-40BE-A991-E9F68A38E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F563-52DD-406F-A36D-A55F10AA0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DAB7-D7B0-44F7-90DD-7E40F7C31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2D42-0368-47DB-8F9C-9F018C11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56FC-7F19-40EA-83D6-E8C3681D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066B-7BE7-4AC2-A0A8-56B1149E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AF42-1C1D-4F47-A93C-62040711F1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F62B0-1A08-4010-BD7A-79BF8CD573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219640" y="2421000"/>
            <a:ext cx="266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51640" y="2852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4437000"/>
            <a:ext cx="152280" cy="1526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1905120" y="1295280"/>
            <a:ext cx="4952880" cy="13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华文新魏"/>
              </a:rPr>
              <a:t>绿色蝈蝈</a:t>
            </a:r>
            <a:endParaRPr b="0" lang="en-US" sz="5400" spc="1" strike="noStrike">
              <a:ln w="12600">
                <a:solidFill>
                  <a:srgbClr val="00ff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267080" y="2819520"/>
            <a:ext cx="3657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新魏"/>
              </a:rPr>
              <a:t>作者：法布尔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新魏"/>
              <a:ea typeface="华文新魏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50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8405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86720" cy="63054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893080" cy="6292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510760" cy="63993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591400" cy="61437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528040" cy="63054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914400" y="38088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、生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00000" y="1197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900000" y="1197000"/>
            <a:ext cx="1314720" cy="969480"/>
            <a:chOff x="900000" y="1197000"/>
            <a:chExt cx="1314720" cy="969480"/>
          </a:xfrm>
        </p:grpSpPr>
        <p:sp>
          <p:nvSpPr>
            <p:cNvPr id="162" name=""/>
            <p:cNvSpPr/>
            <p:nvPr/>
          </p:nvSpPr>
          <p:spPr>
            <a:xfrm>
              <a:off x="990720" y="152388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篝火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900000" y="1197000"/>
              <a:ext cx="8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gō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990720" y="1219320"/>
            <a:ext cx="79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133720" y="1197000"/>
            <a:ext cx="1655640" cy="969480"/>
            <a:chOff x="2133720" y="1197000"/>
            <a:chExt cx="1655640" cy="969480"/>
          </a:xfrm>
        </p:grpSpPr>
        <p:sp>
          <p:nvSpPr>
            <p:cNvPr id="166" name=""/>
            <p:cNvSpPr/>
            <p:nvPr/>
          </p:nvSpPr>
          <p:spPr>
            <a:xfrm>
              <a:off x="2133720" y="1523880"/>
              <a:ext cx="165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哀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鸣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95640" y="119700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ā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200400" y="1197000"/>
            <a:ext cx="1752480" cy="969480"/>
            <a:chOff x="3200400" y="1197000"/>
            <a:chExt cx="1752480" cy="969480"/>
          </a:xfrm>
        </p:grpSpPr>
        <p:sp>
          <p:nvSpPr>
            <p:cNvPr id="169" name=""/>
            <p:cNvSpPr/>
            <p:nvPr/>
          </p:nvSpPr>
          <p:spPr>
            <a:xfrm>
              <a:off x="3352680" y="1523880"/>
              <a:ext cx="15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喧  嚣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200400" y="119700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uān  xiā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6705720" y="1219320"/>
            <a:ext cx="1224000" cy="885960"/>
            <a:chOff x="6705720" y="1219320"/>
            <a:chExt cx="1224000" cy="885960"/>
          </a:xfrm>
        </p:grpSpPr>
        <p:sp>
          <p:nvSpPr>
            <p:cNvPr id="172" name=""/>
            <p:cNvSpPr/>
            <p:nvPr/>
          </p:nvSpPr>
          <p:spPr>
            <a:xfrm>
              <a:off x="6705720" y="1523880"/>
              <a:ext cx="122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静谧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12160" y="12193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mì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5105520" y="1219320"/>
            <a:ext cx="1155600" cy="947160"/>
            <a:chOff x="5105520" y="1219320"/>
            <a:chExt cx="1155600" cy="947160"/>
          </a:xfrm>
        </p:grpSpPr>
        <p:sp>
          <p:nvSpPr>
            <p:cNvPr id="175" name=""/>
            <p:cNvSpPr/>
            <p:nvPr/>
          </p:nvSpPr>
          <p:spPr>
            <a:xfrm>
              <a:off x="5105520" y="152388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喑哑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105520" y="1219320"/>
              <a:ext cx="115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yīn  yǎ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914400" y="2438280"/>
            <a:ext cx="1300320" cy="1099800"/>
            <a:chOff x="914400" y="2438280"/>
            <a:chExt cx="1300320" cy="1099800"/>
          </a:xfrm>
        </p:grpSpPr>
        <p:sp>
          <p:nvSpPr>
            <p:cNvPr id="178" name=""/>
            <p:cNvSpPr/>
            <p:nvPr/>
          </p:nvSpPr>
          <p:spPr>
            <a:xfrm>
              <a:off x="914400" y="2438280"/>
              <a:ext cx="8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uà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289548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篡夺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2209680" y="2438280"/>
            <a:ext cx="1376640" cy="1099800"/>
            <a:chOff x="2209680" y="2438280"/>
            <a:chExt cx="1376640" cy="1099800"/>
          </a:xfrm>
        </p:grpSpPr>
        <p:sp>
          <p:nvSpPr>
            <p:cNvPr id="181" name=""/>
            <p:cNvSpPr/>
            <p:nvPr/>
          </p:nvSpPr>
          <p:spPr>
            <a:xfrm>
              <a:off x="2209680" y="24382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zhō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62320" y="289548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螽斯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3657600" y="2438280"/>
            <a:ext cx="1295280" cy="1099800"/>
            <a:chOff x="3657600" y="2438280"/>
            <a:chExt cx="1295280" cy="1099800"/>
          </a:xfrm>
        </p:grpSpPr>
        <p:sp>
          <p:nvSpPr>
            <p:cNvPr id="184" name=""/>
            <p:cNvSpPr/>
            <p:nvPr/>
          </p:nvSpPr>
          <p:spPr>
            <a:xfrm>
              <a:off x="3657600" y="289548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莴苣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657600" y="243828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wō  j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5105520" y="2514600"/>
            <a:ext cx="1224000" cy="1023480"/>
            <a:chOff x="5105520" y="2514600"/>
            <a:chExt cx="1224000" cy="1023480"/>
          </a:xfrm>
        </p:grpSpPr>
        <p:sp>
          <p:nvSpPr>
            <p:cNvPr id="187" name=""/>
            <p:cNvSpPr/>
            <p:nvPr/>
          </p:nvSpPr>
          <p:spPr>
            <a:xfrm>
              <a:off x="5638680" y="25146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li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105520" y="289548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低劣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6553080" y="2514600"/>
            <a:ext cx="1224000" cy="1023480"/>
            <a:chOff x="6553080" y="2514600"/>
            <a:chExt cx="1224000" cy="1023480"/>
          </a:xfrm>
        </p:grpSpPr>
        <p:sp>
          <p:nvSpPr>
            <p:cNvPr id="190" name=""/>
            <p:cNvSpPr/>
            <p:nvPr/>
          </p:nvSpPr>
          <p:spPr>
            <a:xfrm>
              <a:off x="6553080" y="289548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大颚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086600" y="2514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914400" y="3657600"/>
            <a:ext cx="1224000" cy="1099800"/>
            <a:chOff x="914400" y="3657600"/>
            <a:chExt cx="1224000" cy="1099800"/>
          </a:xfrm>
        </p:grpSpPr>
        <p:sp>
          <p:nvSpPr>
            <p:cNvPr id="193" name=""/>
            <p:cNvSpPr/>
            <p:nvPr/>
          </p:nvSpPr>
          <p:spPr>
            <a:xfrm>
              <a:off x="914400" y="3657600"/>
              <a:ext cx="8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qiá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914400" y="411480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钳子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2324160" y="3695760"/>
            <a:ext cx="1224000" cy="1085400"/>
            <a:chOff x="2324160" y="3695760"/>
            <a:chExt cx="1224000" cy="1085400"/>
          </a:xfrm>
        </p:grpSpPr>
        <p:sp>
          <p:nvSpPr>
            <p:cNvPr id="196" name=""/>
            <p:cNvSpPr/>
            <p:nvPr/>
          </p:nvSpPr>
          <p:spPr>
            <a:xfrm>
              <a:off x="2603520" y="3695760"/>
              <a:ext cx="8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nǎ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324160" y="413856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素囊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3657600" y="3733920"/>
            <a:ext cx="2286000" cy="1099800"/>
            <a:chOff x="3657600" y="3733920"/>
            <a:chExt cx="2286000" cy="1099800"/>
          </a:xfrm>
        </p:grpSpPr>
        <p:sp>
          <p:nvSpPr>
            <p:cNvPr id="199" name=""/>
            <p:cNvSpPr/>
            <p:nvPr/>
          </p:nvSpPr>
          <p:spPr>
            <a:xfrm>
              <a:off x="5029200" y="3733920"/>
              <a:ext cx="8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huì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657600" y="4191120"/>
              <a:ext cx="228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无庸置喙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5943600" y="3733920"/>
            <a:ext cx="1224000" cy="1099800"/>
            <a:chOff x="5943600" y="3733920"/>
            <a:chExt cx="1224000" cy="1099800"/>
          </a:xfrm>
        </p:grpSpPr>
        <p:sp>
          <p:nvSpPr>
            <p:cNvPr id="202" name=""/>
            <p:cNvSpPr/>
            <p:nvPr/>
          </p:nvSpPr>
          <p:spPr>
            <a:xfrm>
              <a:off x="5943600" y="3733920"/>
              <a:ext cx="8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hǔ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3600" y="419112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吮吸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7086600" y="3733920"/>
            <a:ext cx="1224000" cy="1099800"/>
            <a:chOff x="7086600" y="3733920"/>
            <a:chExt cx="1224000" cy="1099800"/>
          </a:xfrm>
        </p:grpSpPr>
        <p:sp>
          <p:nvSpPr>
            <p:cNvPr id="205" name=""/>
            <p:cNvSpPr/>
            <p:nvPr/>
          </p:nvSpPr>
          <p:spPr>
            <a:xfrm>
              <a:off x="7162920" y="3733920"/>
              <a:ext cx="8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i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86600" y="419112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撇开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914400" y="4876920"/>
            <a:ext cx="1224000" cy="1099800"/>
            <a:chOff x="914400" y="4876920"/>
            <a:chExt cx="1224000" cy="1099800"/>
          </a:xfrm>
        </p:grpSpPr>
        <p:sp>
          <p:nvSpPr>
            <p:cNvPr id="208" name=""/>
            <p:cNvSpPr/>
            <p:nvPr/>
          </p:nvSpPr>
          <p:spPr>
            <a:xfrm>
              <a:off x="914400" y="4876920"/>
              <a:ext cx="8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tu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914400" y="533412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唾液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2209680" y="4876920"/>
            <a:ext cx="1224000" cy="1099800"/>
            <a:chOff x="2209680" y="4876920"/>
            <a:chExt cx="1224000" cy="1099800"/>
          </a:xfrm>
        </p:grpSpPr>
        <p:sp>
          <p:nvSpPr>
            <p:cNvPr id="211" name=""/>
            <p:cNvSpPr/>
            <p:nvPr/>
          </p:nvSpPr>
          <p:spPr>
            <a:xfrm>
              <a:off x="2286000" y="4876920"/>
              <a:ext cx="8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rǎ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209680" y="533412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扰乱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3581280" y="4876920"/>
            <a:ext cx="1224000" cy="1099800"/>
            <a:chOff x="3581280" y="4876920"/>
            <a:chExt cx="1224000" cy="1099800"/>
          </a:xfrm>
        </p:grpSpPr>
        <p:sp>
          <p:nvSpPr>
            <p:cNvPr id="214" name=""/>
            <p:cNvSpPr/>
            <p:nvPr/>
          </p:nvSpPr>
          <p:spPr>
            <a:xfrm>
              <a:off x="3733920" y="4876920"/>
              <a:ext cx="8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w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581280" y="533412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梧桐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4800600" y="4876920"/>
            <a:ext cx="1219320" cy="1099800"/>
            <a:chOff x="4800600" y="4876920"/>
            <a:chExt cx="1219320" cy="1099800"/>
          </a:xfrm>
        </p:grpSpPr>
        <p:sp>
          <p:nvSpPr>
            <p:cNvPr id="217" name=""/>
            <p:cNvSpPr/>
            <p:nvPr/>
          </p:nvSpPr>
          <p:spPr>
            <a:xfrm>
              <a:off x="4800600" y="48769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ī  s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800600" y="533412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窸窣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6248520" y="4876920"/>
            <a:ext cx="1224000" cy="1099800"/>
            <a:chOff x="6248520" y="4876920"/>
            <a:chExt cx="1224000" cy="1099800"/>
          </a:xfrm>
        </p:grpSpPr>
        <p:sp>
          <p:nvSpPr>
            <p:cNvPr id="220" name=""/>
            <p:cNvSpPr/>
            <p:nvPr/>
          </p:nvSpPr>
          <p:spPr>
            <a:xfrm>
              <a:off x="6248520" y="4876920"/>
              <a:ext cx="8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hò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248520" y="533412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狩猎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7543800" y="4876920"/>
            <a:ext cx="1224000" cy="1099800"/>
            <a:chOff x="7543800" y="4876920"/>
            <a:chExt cx="1224000" cy="1099800"/>
          </a:xfrm>
        </p:grpSpPr>
        <p:sp>
          <p:nvSpPr>
            <p:cNvPr id="223" name=""/>
            <p:cNvSpPr/>
            <p:nvPr/>
          </p:nvSpPr>
          <p:spPr>
            <a:xfrm>
              <a:off x="7620120" y="4876920"/>
              <a:ext cx="8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z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543800" y="533412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姊妹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7772400" y="2438280"/>
            <a:ext cx="1224000" cy="1099800"/>
            <a:chOff x="7772400" y="2438280"/>
            <a:chExt cx="1224000" cy="1099800"/>
          </a:xfrm>
        </p:grpSpPr>
        <p:sp>
          <p:nvSpPr>
            <p:cNvPr id="226" name=""/>
            <p:cNvSpPr/>
            <p:nvPr/>
          </p:nvSpPr>
          <p:spPr>
            <a:xfrm>
              <a:off x="8291520" y="2438280"/>
              <a:ext cx="6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lá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772400" y="289548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贪婪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900000" y="1268280"/>
            <a:ext cx="770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似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{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撇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{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作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92360" y="126828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似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84560" y="3938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19280" y="191628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h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似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4360" y="476280"/>
            <a:ext cx="172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14400" y="38088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二、多音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427640" y="1268280"/>
            <a:ext cx="166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iě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撇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27640" y="1916280"/>
            <a:ext cx="166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i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撇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236000" y="1268280"/>
            <a:ext cx="175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zuō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作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308720" y="1916280"/>
            <a:ext cx="18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zu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作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4360" y="299736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喧嚣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835280" y="299736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声音杂乱，不清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4360" y="35733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喑哑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92360" y="3716280"/>
            <a:ext cx="31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763640" y="3573360"/>
            <a:ext cx="59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嗓子干涩发不出声音或发音低而不清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4360" y="450864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精谧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835280" y="450864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安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4360" y="515772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螽斯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835280" y="5157720"/>
            <a:ext cx="59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昆虫，身体绿色或褐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539640" y="476280"/>
            <a:ext cx="806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90720" y="457200"/>
            <a:ext cx="75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窃窃私语” “津津有味” “酷爱甜食” “毫不犹豫地接受” 是拟人。这样写亲切自然，形象生动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43828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22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、随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066680" y="335268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去户外静听虫鸣鸟啼，辨别这些声音，并用一段话形象地描写出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6983280" y="5129280"/>
            <a:ext cx="2160720" cy="17287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838080" y="1600200"/>
            <a:ext cx="8001000" cy="28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你最喜欢哪个段落？为什么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90720" y="4419720"/>
            <a:ext cx="77724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你最喜欢哪个词语或句子？为什么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0" y="210960"/>
            <a:ext cx="3352680" cy="131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畅所欲言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505800" y="1066680"/>
            <a:ext cx="13993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绿色蝈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14600" y="1066680"/>
            <a:ext cx="76320" cy="5029200"/>
          </a:xfrm>
          <a:custGeom>
            <a:avLst/>
            <a:gdLst>
              <a:gd name="textAreaLeft" fmla="*/ 48960 w 76320"/>
              <a:gd name="textAreaRight" fmla="*/ 76320 w 76320"/>
              <a:gd name="textAreaTop" fmla="*/ 131040 h 5029200"/>
              <a:gd name="textAreaBottom" fmla="*/ 4898160 h 5029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762120"/>
            <a:ext cx="312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特征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971800" y="19051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漂亮、嫩绿、苗条、匀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048120" y="365760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习性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200400" y="4572000"/>
            <a:ext cx="2819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叫声——柔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捕蝉——为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53080" y="914400"/>
            <a:ext cx="152640" cy="5181480"/>
          </a:xfrm>
          <a:custGeom>
            <a:avLst/>
            <a:gdLst>
              <a:gd name="textAreaLeft" fmla="*/ 0 w 152640"/>
              <a:gd name="textAreaRight" fmla="*/ 55080 w 152640"/>
              <a:gd name="textAreaTop" fmla="*/ 135000 h 5181480"/>
              <a:gd name="textAreaBottom" fmla="*/ 5046480 h 518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934320" y="28954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拟人生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0880" y="0"/>
            <a:ext cx="861084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法布尔简介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  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（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1823-1915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）法国著名科学家，科普作家。出生于农民家庭，从小生活极其穷困，作过中学教师，靠业余自学，花十二年的时间，先后取得自然科学学士和博士学位，著名著作有：《昆虫记》，该书文体基本为散文，主要探讨昆虫学问题。鲁迅曾把《昆虫记》称为“讲昆虫的故事”，“讲昆虫生活”的楷模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143000" y="533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四、写作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219320" y="152388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3399"/>
                </a:solidFill>
                <a:latin typeface="Times New Roman"/>
              </a:rPr>
              <a:t>、文艺笔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19320" y="22860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3399"/>
                </a:solidFill>
                <a:latin typeface="Times New Roman"/>
              </a:rPr>
              <a:t>、生动传神的语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19320" y="30481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3399"/>
                </a:solidFill>
                <a:latin typeface="Times New Roman"/>
              </a:rPr>
              <a:t>、拟人手法的运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219320" y="3809880"/>
            <a:ext cx="464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3399"/>
                </a:solidFill>
                <a:latin typeface="Times New Roman"/>
              </a:rPr>
              <a:t>、通过比较来写蝈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24000" y="476280"/>
            <a:ext cx="47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四    作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03280" y="2133720"/>
            <a:ext cx="66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描写一篇自己喜欢的的动物，语言生动形象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219320" y="190512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1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、你知道它的外表有哪些特点么？蝈蝈有哪些习性？蝈蝈的“耳朵”长在哪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848720" y="152280"/>
            <a:ext cx="1066680" cy="14479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79280" y="6750000"/>
            <a:ext cx="108000" cy="10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1523880" y="304920"/>
            <a:ext cx="2286000" cy="12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5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华文新魏"/>
              </a:rPr>
              <a:t>思考？</a:t>
            </a:r>
            <a:endParaRPr b="0" lang="en-US" sz="6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37" name=""/>
          <p:cNvSpPr/>
          <p:nvPr/>
        </p:nvSpPr>
        <p:spPr>
          <a:xfrm>
            <a:off x="1219320" y="419112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2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、作者对蝈蝈的称呼有哪些？作者在什么情况下用什么称呼，有什么好处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93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219320" y="609480"/>
            <a:ext cx="1676160" cy="9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76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分析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39" name=""/>
          <p:cNvSpPr/>
          <p:nvPr/>
        </p:nvSpPr>
        <p:spPr>
          <a:xfrm>
            <a:off x="838080" y="198108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蝈蝈的外表特征：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“这种昆虫非常漂亮，浑身嫩绿，侧面有两条淡白色的丝带，身材优美，苗条匀称，两片大翼轻盈如纱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4724280"/>
            <a:ext cx="830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8080" y="4800600"/>
            <a:ext cx="815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蝈蝈的习性：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写了蝈蝈的叫声和食性，主要写的是食物习性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219320" y="228600"/>
            <a:ext cx="1676160" cy="9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76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分析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1752480"/>
            <a:ext cx="830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当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蝈蝈捕杀蝉时称：</a:t>
            </a:r>
            <a:r>
              <a:rPr b="1" lang="zh-CN" sz="3600" spc="-1" strike="noStrike">
                <a:solidFill>
                  <a:srgbClr val="003399"/>
                </a:solidFill>
                <a:latin typeface="Tahoma"/>
              </a:rPr>
              <a:t>狂热的狩猎者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当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蝈蝈成为作者笼中观察和实验的对象时称：</a:t>
            </a:r>
            <a:r>
              <a:rPr b="1" lang="zh-CN" sz="3600" spc="-1" strike="noStrike">
                <a:solidFill>
                  <a:srgbClr val="003399"/>
                </a:solidFill>
                <a:latin typeface="Tahoma"/>
              </a:rPr>
              <a:t>我笼里的囚犯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当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蝈蝈吃蝉肉时称：</a:t>
            </a:r>
            <a:r>
              <a:rPr b="1" lang="zh-CN" sz="3600" spc="-1" strike="noStrike">
                <a:solidFill>
                  <a:srgbClr val="003399"/>
                </a:solidFill>
                <a:latin typeface="Tahoma"/>
              </a:rPr>
              <a:t>蝉的屠夫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4343400"/>
            <a:ext cx="815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作者这样称呼蝈蝈的原因：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不断变换称呼，使行文更生动，描写更形象，给人更深刻的印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726080" y="22392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课文一共可分为几段，小组互相讨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50292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课文中多处运用拟人的手法，找出几个例子，说说这样写的好处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38080" y="114300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第一段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(1—2)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：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我”在观察昆虫，用蝉的休息引出本文的主人公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蝈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4360" y="2133720"/>
            <a:ext cx="640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4400" y="23623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第二段（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）：描写户外听到的蝈蝈的叫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35053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第三段（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4—11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）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“我”对金属笼中的蝈蝈的观察，着重介绍蝈蝈的食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39120" cy="5991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686800" cy="64771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588160" cy="62881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6T12:48:21Z</dcterms:created>
  <dc:creator>wutao</dc:creator>
  <dc:description/>
  <dc:language>en-US</dc:language>
  <cp:lastModifiedBy>a</cp:lastModifiedBy>
  <dcterms:modified xsi:type="dcterms:W3CDTF">2004-12-16T05:29:48Z</dcterms:modified>
  <cp:revision>100</cp:revision>
  <dc:subject/>
  <dc:title>绿色蝈蝈                                 法布尔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