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AF76-250E-4A3E-824C-F7528C66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308-1E00-4EC5-B7D3-3E3532BC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072-7BBB-467F-907A-C645E199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7E9-0917-43F2-8914-1009CCA3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F936-E6CA-4DC4-8C59-339C9F99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0427-D2B4-4313-BCA9-27B7C68B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A162-0676-4F9D-A982-77C1AA56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6D7-B2C9-4CA0-88FF-47D6C859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1A51-B685-4A41-AB1B-45C61354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16CE-5A4B-4E21-A0E0-62303439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81C1-1CAB-4F9C-A6A1-3AAD3566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71F-19E1-4F0A-84F1-428FF8E5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FE99-32C6-4B94-B491-C44312680E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37160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天清晨，还是小学教师的法布尔在一条路上他发现了一个蚂蚁窝，于是他就蹲在蚂蚁窝旁观察蚂蚁的活动。路过这里的农民、学生家长，向他问候，他竟然充耳不闻，继续全神贯注地观察蚂蚁。太阳快落山了，农民收工回家，竟看到法布尔还趴在小路边，两眼盯着蚂蚁窝发愣。大家私下议论说，法布尔老师是不是中了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一天夜里，他提着灯笼，蹲在田野里，观看蜈蚣怎样产卵，一连看了好几个小时，他忽然感到周围越来越亮，抬头一看，原来太阳已经从东方升起。还有一次，法布尔爬到一棵树上，聚精会神地观看蜣螂的活动。突然他听到大树下有人大喊“抓住他，抓住这个小偷！”这才使他大吃一惊——原来人们竟把他当做小偷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38088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法布尔的故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2286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作者用什么方法引出蝈蝈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066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蝉的哀号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7524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绿色蝈蝈外表有哪些特征？请在文中找到这句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048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这种昆虫非常漂亮，浑身嫩绿，侧面有两条淡白色的丝带，身材优美，苗条匀称，两片大翼轻盈如纱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作者主要写了绿色蝈蝈的哪些习性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4800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叫声：低而柔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608796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556272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食性：捕蝉——有肉又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_x000b__x000c_"/>
              </a:rPr>
              <a:t>你们是把昆虫开膛破肚，而我是在它们活蹦乱跳的情况下进行研究；你们把昆虫变成一堆既可怖又可怜的东西，而我则使得人们喜欢它们；你们在酷刑室和碎尸场里工作，而我是在蔚蓝的天空下，在鸣蝉的歌声中观察；你们用试剂测试蜂房和原生质，而我却是研究本能的最高表现；你们探究死亡，而我却是探究生命。———法布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法布尔2" descr=""/>
          <p:cNvPicPr/>
          <p:nvPr/>
        </p:nvPicPr>
        <p:blipFill>
          <a:blip r:embed="rId1"/>
          <a:stretch/>
        </p:blipFill>
        <p:spPr>
          <a:xfrm>
            <a:off x="0" y="2525760"/>
            <a:ext cx="5715000" cy="4332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img123073_1" descr="image/img123073_1.jpg"/>
          <p:cNvPicPr/>
          <p:nvPr/>
        </p:nvPicPr>
        <p:blipFill>
          <a:blip r:embed="rId2"/>
          <a:stretch/>
        </p:blipFill>
        <p:spPr>
          <a:xfrm>
            <a:off x="5715000" y="2495520"/>
            <a:ext cx="34290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685800"/>
            <a:ext cx="800100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仿写某一种自己喜欢的小动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课外阅读《昆虫记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72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22"/>
                </a:solidFill>
                <a:latin typeface="Times New Roman"/>
              </a:rPr>
              <a:t>蜘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22"/>
                </a:solidFill>
                <a:latin typeface="Times New Roman"/>
              </a:rPr>
              <a:t>儒勒</a:t>
            </a:r>
            <a:r>
              <a:rPr b="1" lang="zh-CN" sz="3200" spc="-1" strike="noStrike">
                <a:solidFill>
                  <a:srgbClr val="222222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222222"/>
                </a:solidFill>
                <a:latin typeface="Times New Roman"/>
              </a:rPr>
              <a:t>米什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22"/>
                </a:solidFill>
                <a:latin typeface="Times New Roman"/>
              </a:rPr>
              <a:t>　　在肥沃的非洲土地上，猎物十分丰富，因此蜘蛛能在这里过着群居生活。她们围绕大树张起一面公用的巨网，共同把守着每条通路。由于时常跟强大的昆虫打交道（有时甚至要对付某些小鸟），她们在危难中总是努力协作，互相支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22"/>
                </a:solidFill>
                <a:latin typeface="Times New Roman"/>
              </a:rPr>
              <a:t>　　不过这种集体生活只是个例外，仅限于某些品种如此，而且，也只是在最优越的自然条件下才会发生。这种动物具有猎手的犷野性格，在一般情况下，出于其机体本能和生活需要，她得靠形形色色的猎物生活，因此她总是处于一种嫉妒、好挑衅、排斥异己的孤独状态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22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222222"/>
                </a:solidFill>
                <a:latin typeface="Times New Roman"/>
              </a:rPr>
              <a:t>疏忽而轻率的观察者可能只看到她的饕餮吧。嘿！恰恰相反，这肚子可是她的工作车间，她的仓库，这是制绳工人摇纱时擎在身边盛棉纱的一只口袋；不过，她这只口袋可只是专门装养料的，她拼命樽节，这样才能使自己变得肥硕。你看看她的全身吧，其他部分瘦削得像个柴枝似的，但总是腆着个肚子，鼓鼓的像个宝贝，这里是她劳动的必需资料，她经营的工业的希望所在，也是她未来的惟一保证。真是个典型的工业家。“假如我今天忍饥挨饿，”她说，“兴许我明天可以饱餐，但万一我的工厂关了门，那就一切都完了蛋，所以我的肚子必须停止活动，永远节食。”</a:t>
            </a:r>
            <a:r>
              <a:rPr b="0" lang="zh-CN" sz="3200" spc="-1" strike="noStrike">
                <a:solidFill>
                  <a:srgbClr val="22222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2222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22"/>
                </a:solidFill>
                <a:latin typeface="Times New Roman"/>
              </a:rPr>
              <a:t>还要补充说明，她并不像通常猎手们那样，在行猎中只是损失掉一些精力和频繁活动；对她来说，她每次出击花费的代价非常巨大，而且要求一笔经常的重要投资。她的一生中，每天，每个时辰都得抽出新丝去纺织那张为她提供食物和更新养料的大网。因此，为了取得营养她甘心挨饿，为了恢复体力她情愿累得精疲力竭，她把自己搞得精瘦，然而心里却时刻巴望着身体壮大肥硕起来。蜘蛛的生活是一种命运的赌博，她把自己交付给千万次无法预卜的偶然性。这样当然使她变成了一种急躁不安的生物，对同类没有丝毫同情心，她在交往中只看别人是敌手；一句话，这完全是一种自私自利的动物，要不这样，她就得被消灭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2222"/>
                </a:solidFill>
                <a:latin typeface="Times New Roman"/>
              </a:rPr>
              <a:t>　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222222"/>
                </a:solidFill>
                <a:latin typeface="Times New Roman"/>
              </a:rPr>
              <a:t>最差劲的就是这可怜的动物长相丑得出奇。她不像有些动物只是肉眼看上去很丑陋，但若是放到显微镜下面去仔细观察一番，就会觉得迥然不同。基于某种强烈的职业特性，我们常常用人的眼光去评价她，某个肢体萎缩了，另外某个地方又过分夸张，以致失去了总体的和谐；铁匠常常总是个驼背。同样，蜘蛛总是大腹便便。在她身上，大自然为了她的专业行当，为了需要，为了满足这种需要而产生某些重要器官，于是把其余的一切都牺牲了。她是个工人，一个制作绳索的工匠，一个纺纱工和一个织工。你别老瞅着她那副尊容，要看她的艺术成品。她不仅是个纺织工，而且她本身就是一个纺织厂。那紧缩的、圆滚滚的胴体，外加八只脚爪，头顶上长着八只高度警惕的眼睛，她那偏过一侧的隆起的大肚子可真叫人吃惊。那份极其难看的怪模样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222222"/>
                </a:solidFill>
                <a:latin typeface="Times New Roman"/>
              </a:rPr>
              <a:t>我头一回跟蜘蛛打交道可一点也不是什么愉快的事。在我生活拮据的童年时代，我独自一个在我父亲开的那家小印刷所里干活（我在《人民》一书里谈过），当时印刷所已濒于倒闭。临时车间设在一个“地窖”之类的房子里，光线还可以，在我们居住的大马路这一边是地窖，而在巴斯街那边却是间门面房子。到了中午，才有一小道阳光从带栅栏的大气窗里斜斜地透进来，映照在我排字用的那个小小的铅字盘上。这时，我总是清楚地看见墙角上一个怯生生的蜘蛛向字盘爬去，可能她认为阳光会给她带来某些晕乎乎的蠓虫作午餐吧。尽管我心里感觉有些嫌恶，我还是仔细观察着那份腼腆、舒缓而乖巧的细微动作，她似乎在察访她准备委托甚至自己生命的这个人的性格。她用八只眼睛着看着实实地打量着我，仿佛在思揣着：“这是还不是一个敌人呢？</a:t>
            </a:r>
            <a:r>
              <a:rPr b="1" lang="zh-CN" sz="2400" spc="-1" strike="noStrike">
                <a:solidFill>
                  <a:srgbClr val="222222"/>
                </a:solidFill>
                <a:latin typeface="Times New Roman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蝈蝈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大清叶蝉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螳螂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螽斯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法布尔1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亨利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法布尔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(1823—191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著名科学家、科普作家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。生于农民家庭，从小生活极其穷困，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岁考入师范学校，毕业后谋得初中数学教师的职位。一次带学生上户外几何课，忽然在石块上发现了垒筑蜂和蜂窝，从此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虫心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”焕发。他花了一个月的工资，买了一本昆虫学著作，立志做一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虫子写历史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的人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第一位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然环境中研究昆虫的科学家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，他穷毕生之力深入昆虫世界，在自然环境中对昆虫进行观察与实验，真实地记录下昆虫的本能与习性，写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昆虫记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这部昆虫学巨著。法布尔的心中充满了对生命的关爱之情和对自然万物的赞美之情，他以人性观察昆虫的本能、习性、劳动、婚恋、繁衍和死亡，并以虫性反观社会人生，睿智的哲思跃然纸上。在其朴素的笔下，一部严肃的学术著作如优美的散文，人们不仅能从中获得知识和思想，阅读本身就是一次独特的审美过程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371600" y="685800"/>
            <a:ext cx="6248520" cy="24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宋体"/>
              </a:rPr>
              <a:t>蚂蚁和蝈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宋体"/>
              <a:ea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1927080"/>
            <a:ext cx="53337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9900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蝈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106596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106596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蟋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228528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22852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喑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22852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窸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9900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狩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2852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35046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螽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34282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篡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3428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更胜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58056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51048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吮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51807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52570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嗉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1048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莴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042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guō·gu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38016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xīshuà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042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ō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3042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shò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6758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á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175176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xīs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16758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yīny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5994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m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9710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fē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28947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hó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29710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cu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289476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zhō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49496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wō·j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449496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sùná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45712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hu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44190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shǔ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8080" y="22860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语言品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676520"/>
            <a:ext cx="7848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文艺笔调：形象描写、情感流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传神生动：拟人手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突出特征：比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贴切自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1:51:05Z</dcterms:created>
  <dc:creator>wutao</dc:creator>
  <dc:description/>
  <dc:language>en-US</dc:language>
  <cp:lastModifiedBy>yao</cp:lastModifiedBy>
  <dcterms:modified xsi:type="dcterms:W3CDTF">2003-11-17T00:09:00Z</dcterms:modified>
  <cp:revision>100</cp:revision>
  <dc:subject/>
  <dc:title>PowerPoint 演示文稿</dc:title>
</cp:coreProperties>
</file>