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49FD6-4554-4B6C-889A-8ADDF8FE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B5ED4-EBAB-4CD8-A659-4217662A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1909A-FF3F-4762-8650-567E7038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A0B40-0809-448D-8611-1ABD6700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C9B86-2EB0-405B-85CE-7EEB1C8D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AE886-7AD0-42EC-9853-E8D42ABB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00880-3D44-4DF5-A555-6CEE876A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4F443-ADD3-4F61-B7BE-566FB837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81E69-57EE-4522-ABB2-92EF8BA4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78136-6901-4B73-81E3-12776F03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D0B19-C2C9-4E4C-A702-0D9C57EE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EBE08-4D11-4867-AE7F-19CC8D28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6757-6813-47D1-8CD1-FDB83A1463C8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6.png"/><Relationship Id="rId4" Type="http://schemas.openxmlformats.org/officeDocument/2006/relationships/slide" Target="slide2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5.png"/><Relationship Id="rId4" Type="http://schemas.openxmlformats.org/officeDocument/2006/relationships/slide" Target="slide10.xml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5715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隶书"/>
                <a:ea typeface="隶书"/>
              </a:rPr>
              <a:t>绿色蝈蝈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法布尔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39840"/>
            <a:ext cx="8153280" cy="6041880"/>
          </a:xfrm>
          <a:prstGeom prst="rect">
            <a:avLst/>
          </a:prstGeom>
          <a:ln w="0">
            <a:noFill/>
          </a:ln>
        </p:spPr>
      </p:pic>
      <p:pic>
        <p:nvPicPr>
          <p:cNvPr id="120" name="back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6421320"/>
            <a:ext cx="838080" cy="308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22440" y="380880"/>
            <a:ext cx="4573440" cy="6248520"/>
          </a:xfrm>
          <a:prstGeom prst="rect">
            <a:avLst/>
          </a:prstGeom>
          <a:ln w="0">
            <a:noFill/>
          </a:ln>
        </p:spPr>
      </p:pic>
      <p:pic>
        <p:nvPicPr>
          <p:cNvPr id="122" name="back" descr=""/>
          <p:cNvPicPr/>
          <p:nvPr/>
        </p:nvPicPr>
        <p:blipFill>
          <a:blip r:embed="rId3"/>
          <a:stretch/>
        </p:blipFill>
        <p:spPr>
          <a:xfrm>
            <a:off x="7543800" y="5867280"/>
            <a:ext cx="838080" cy="308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1600" y="380880"/>
            <a:ext cx="4191120" cy="6248520"/>
          </a:xfrm>
          <a:prstGeom prst="rect">
            <a:avLst/>
          </a:prstGeom>
          <a:ln w="0">
            <a:noFill/>
          </a:ln>
        </p:spPr>
      </p:pic>
      <p:pic>
        <p:nvPicPr>
          <p:cNvPr id="124" name="back" descr=""/>
          <p:cNvPicPr/>
          <p:nvPr/>
        </p:nvPicPr>
        <p:blipFill>
          <a:blip r:embed="rId3"/>
          <a:stretch/>
        </p:blipFill>
        <p:spPr>
          <a:xfrm>
            <a:off x="7315200" y="6019920"/>
            <a:ext cx="838080" cy="307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946840" y="457200"/>
            <a:ext cx="546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齐白石《蝈蝈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076960" cy="6070320"/>
          </a:xfrm>
          <a:prstGeom prst="rect">
            <a:avLst/>
          </a:prstGeom>
          <a:ln w="0">
            <a:noFill/>
          </a:ln>
        </p:spPr>
      </p:pic>
      <p:pic>
        <p:nvPicPr>
          <p:cNvPr id="127" name="back" descr=""/>
          <p:cNvPicPr/>
          <p:nvPr/>
        </p:nvPicPr>
        <p:blipFill>
          <a:blip r:embed="rId3"/>
          <a:stretch/>
        </p:blipFill>
        <p:spPr>
          <a:xfrm>
            <a:off x="7696080" y="6400800"/>
            <a:ext cx="838440" cy="30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120" y="320040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120" y="4876920"/>
            <a:ext cx="1904760" cy="1447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990720"/>
            <a:ext cx="1676520" cy="609480"/>
          </a:xfrm>
          <a:prstGeom prst="bevel">
            <a:avLst>
              <a:gd name="adj" fmla="val 12500"/>
            </a:avLst>
          </a:prstGeom>
          <a:solidFill>
            <a:srgbClr val="d2a0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作者简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990720"/>
            <a:ext cx="1600200" cy="609480"/>
          </a:xfrm>
          <a:prstGeom prst="bevel">
            <a:avLst>
              <a:gd name="adj" fmla="val 12500"/>
            </a:avLst>
          </a:prstGeom>
          <a:solidFill>
            <a:srgbClr val="d2a0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整体感知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990720"/>
            <a:ext cx="1600200" cy="609480"/>
          </a:xfrm>
          <a:prstGeom prst="bevel">
            <a:avLst>
              <a:gd name="adj" fmla="val 12500"/>
            </a:avLst>
          </a:prstGeom>
          <a:solidFill>
            <a:srgbClr val="d2a0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探究思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990720"/>
            <a:ext cx="1676520" cy="609480"/>
          </a:xfrm>
          <a:prstGeom prst="bevel">
            <a:avLst>
              <a:gd name="adj" fmla="val 12500"/>
            </a:avLst>
          </a:prstGeom>
          <a:solidFill>
            <a:srgbClr val="d2a0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拓展练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041560" cy="3124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3505320" y="320040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3855960" cy="5257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19720" y="1828800"/>
            <a:ext cx="4267080" cy="1747440"/>
          </a:xfrm>
          <a:prstGeom prst="rect">
            <a:avLst/>
          </a:prstGeom>
          <a:noFill/>
          <a:ln cap="rnd" w="38160">
            <a:solidFill>
              <a:srgbClr val="ffdf8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亨利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法布尔（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823—1915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），法国著名科学家、科普作家。生于农民家庭，从小生活极其穷困，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岁考入师范学校，毕业后谋得初中数学教师的职位。一次带学生上户外几何课，忽然在石块上发现了垒筑蜂和蜂窝，从此“虫心”焕发，立志做一个为虫子写历史的人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著作：《昆虫记》。　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838080"/>
            <a:ext cx="2438280" cy="581400"/>
          </a:xfrm>
          <a:prstGeom prst="rect">
            <a:avLst/>
          </a:prstGeom>
          <a:noFill/>
          <a:ln w="28440">
            <a:solidFill>
              <a:srgbClr val="e4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a800"/>
                </a:solidFill>
                <a:latin typeface="黑体"/>
                <a:ea typeface="黑体"/>
              </a:rPr>
              <a:t>亨利</a:t>
            </a:r>
            <a:r>
              <a:rPr b="0" lang="zh-CN" sz="3200" spc="-1" strike="noStrike">
                <a:solidFill>
                  <a:srgbClr val="e4a800"/>
                </a:solidFill>
                <a:latin typeface="黑体"/>
                <a:ea typeface="黑体"/>
              </a:rPr>
              <a:t>·</a:t>
            </a:r>
            <a:r>
              <a:rPr b="0" lang="zh-CN" sz="3200" spc="-1" strike="noStrike">
                <a:solidFill>
                  <a:srgbClr val="e4a800"/>
                </a:solidFill>
                <a:latin typeface="黑体"/>
                <a:ea typeface="黑体"/>
              </a:rPr>
              <a:t>法布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《昆虫记》是法布尔以毕生的时间与精力，详细观察了昆虫的生活和它们为了生活以及繁衍种族所进行的斗争，然后以其观察所得写成详细确切的笔记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《昆虫记》共十册，每册包含若干章，每章详细、深刻地描绘一种或几种昆虫的生活：蜘蛛、蜜蜂、螳螂、蝎子、蝉、甲虫、蟋蟀等等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《昆虫记》不仅充满着对生命的敬畏之情，更蕴含着探求真相、追求真理的精神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《昆虫记》第一册于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879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年问世。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910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年，当《昆虫记》第十册问世时，法布尔已经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86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岁了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762120"/>
            <a:ext cx="2438640" cy="581400"/>
          </a:xfrm>
          <a:prstGeom prst="rect">
            <a:avLst/>
          </a:prstGeom>
          <a:noFill/>
          <a:ln w="28440">
            <a:solidFill>
              <a:srgbClr val="e4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a800"/>
                </a:solidFill>
                <a:latin typeface="黑体"/>
                <a:ea typeface="黑体"/>
              </a:rPr>
              <a:t>《昆虫记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back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21400" y="5943600"/>
            <a:ext cx="960480" cy="35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3880" y="1371600"/>
            <a:ext cx="64771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绿色蝈蝈外表有哪些</a:t>
            </a:r>
            <a:r>
              <a:rPr b="0" lang="zh-CN" sz="24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特征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? 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作者主要写了绿色蝈蝈的哪些</a:t>
            </a:r>
            <a:r>
              <a:rPr b="0" lang="zh-CN" sz="24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习性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?  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69240" y="9144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9b113"/>
                </a:solidFill>
                <a:latin typeface="黑体"/>
                <a:ea typeface="黑体"/>
              </a:rPr>
              <a:t>朗读课文，感知课文内容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66680" y="54864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蝈蝈的习性：写了蝈蝈的叫声和食性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蝈蝈的外形特征：这种昆虫非常漂亮，浑身嫩绿，侧面有两条淡白色的丝带，身材优美，苗条匀称，两片大翼轻盈如纱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观察蝈蝈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9880" y="3846600"/>
            <a:ext cx="1295640" cy="97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05120" y="2590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特征：漂亮、嫩绿、苗条、匀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42670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习性：叫声—柔和，捕蝉—为食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81952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绿色蝈蝈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2743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43760" y="2743200"/>
            <a:ext cx="1033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拟人，生动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068480"/>
            <a:ext cx="1523880" cy="581400"/>
          </a:xfrm>
          <a:prstGeom prst="rect">
            <a:avLst/>
          </a:prstGeom>
          <a:noFill/>
          <a:ln w="28440">
            <a:solidFill>
              <a:srgbClr val="e4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a800"/>
                </a:solidFill>
                <a:latin typeface="黑体"/>
                <a:ea typeface="黑体"/>
              </a:rPr>
              <a:t>板  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back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21400" y="5943600"/>
            <a:ext cx="960480" cy="353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9144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9b113"/>
                </a:solidFill>
                <a:latin typeface="宋体"/>
                <a:ea typeface="黑体"/>
              </a:rPr>
              <a:t>1.</a:t>
            </a:r>
            <a:r>
              <a:rPr b="0" lang="zh-CN" sz="3200" spc="-1" strike="noStrike">
                <a:solidFill>
                  <a:srgbClr val="e9b113"/>
                </a:solidFill>
                <a:latin typeface="宋体"/>
                <a:ea typeface="黑体"/>
              </a:rPr>
              <a:t>再读课文，对课文内容提出见解或疑问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000680"/>
            <a:ext cx="7696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9b113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e9b113"/>
                </a:solidFill>
                <a:latin typeface="黑体"/>
                <a:ea typeface="黑体"/>
              </a:rPr>
              <a:t>探究思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(1)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蝈蝈的叫声非常的优美，但是蝈蝈的发生器官与人的发生器官有何不同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(2)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如何看待动物中的同类相食这种现象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9360" y="1714680"/>
            <a:ext cx="433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9b113"/>
                </a:solidFill>
                <a:latin typeface="宋体"/>
                <a:ea typeface="黑体"/>
              </a:rPr>
              <a:t>2.</a:t>
            </a:r>
            <a:r>
              <a:rPr b="0" lang="zh-CN" sz="3200" spc="-1" strike="noStrike">
                <a:solidFill>
                  <a:srgbClr val="e9b113"/>
                </a:solidFill>
                <a:latin typeface="宋体"/>
                <a:ea typeface="黑体"/>
              </a:rPr>
              <a:t>品味语言，说一说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你最喜欢文章中哪个段落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为什么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?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你最喜欢哪个词语或哪个句子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为什么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?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back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21400" y="5943600"/>
            <a:ext cx="960480" cy="35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743200"/>
            <a:ext cx="7391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请同学们用生动的语言说说自己喜欢的一种  </a:t>
            </a:r>
            <a:br>
              <a:rPr sz="2800"/>
            </a:b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小动物。 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可运用拟人或比喻等方法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) </a:t>
            </a:r>
            <a:br>
              <a:rPr sz="2800"/>
            </a:b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读读法布尔的《昆虫记》节选本。 </a:t>
            </a:r>
            <a:br>
              <a:rPr sz="2800"/>
            </a:b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068480"/>
            <a:ext cx="1905120" cy="581400"/>
          </a:xfrm>
          <a:prstGeom prst="rect">
            <a:avLst/>
          </a:prstGeom>
          <a:noFill/>
          <a:ln w="28440">
            <a:solidFill>
              <a:srgbClr val="e4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a800"/>
                </a:solidFill>
                <a:latin typeface="黑体"/>
                <a:ea typeface="黑体"/>
              </a:rPr>
              <a:t>拓展练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09480" y="376200"/>
            <a:ext cx="8001000" cy="6024600"/>
          </a:xfrm>
          <a:prstGeom prst="rect">
            <a:avLst/>
          </a:prstGeom>
          <a:ln w="0">
            <a:noFill/>
          </a:ln>
        </p:spPr>
      </p:pic>
      <p:pic>
        <p:nvPicPr>
          <p:cNvPr id="118" name="back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72400" y="6421320"/>
            <a:ext cx="838080" cy="30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01:43:05Z</dcterms:created>
  <dc:creator>wutao</dc:creator>
  <dc:description/>
  <dc:language>en-US</dc:language>
  <cp:lastModifiedBy>a</cp:lastModifiedBy>
  <dcterms:modified xsi:type="dcterms:W3CDTF">2004-12-16T05:31:51Z</dcterms:modified>
  <cp:revision>100</cp:revision>
  <dc:subject/>
  <dc:title>绿 色 蝈 蝈</dc:title>
</cp:coreProperties>
</file>