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9.jpeg" ContentType="image/jpeg"/>
  <Override PartName="/ppt/media/image8.png" ContentType="image/png"/>
  <Override PartName="/ppt/media/image6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1.jpeg" ContentType="image/jpeg"/>
  <Override PartName="/ppt/media/image19.png" ContentType="image/png"/>
  <Override PartName="/ppt/media/image16.gif" ContentType="image/gif"/>
  <Override PartName="/ppt/media/image4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9A5-F88C-40EC-84F6-57B40751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7E6-018B-43BB-B112-1F0F6CA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589-FEC8-4EF5-B308-28D9F847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61A-ECE8-4153-B50D-BE8785EA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2E8-367C-4891-B296-5D693E98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632-7E71-41A6-806C-67B69897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2E5-9019-4DD5-A95C-7723099E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5BD-FC59-481B-8218-FD97705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608-7F12-4290-8EB6-B0E7043A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DD4-532B-4922-8728-F10AFC7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9B7-8530-48C4-B074-13F6DF5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05B-29AD-444F-AD20-DF60CEB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BAC-1C56-48D8-A067-610E211ECC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914400"/>
            <a:ext cx="5257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绿色蝈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2" name="00001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218124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这种昆虫非常漂亮，浑身嫩绿，侧面有两条淡白色的丝带，身材优美，苗条匀称，两片大翼轻盈如纱。</a:t>
            </a:r>
            <a:br>
              <a:rPr sz="4400"/>
            </a:b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讲讲你最喜爱的小动物，看谁抓住特点讲得又具体又生动，富有吸引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yts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41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33920" y="45720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联系生活，自主表达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果然，一大群口干舌燥的家伙在东张西望地转悠着。它们发现了这口井，井边渗出来的汁液把它暴露了。这群家伙一拥而上，开始还有一点儿小心翼翼，只是舔舔渗出来的汁液。我看到匆忙赶到甜蜜的井口边，有胡蜂、苍蝇、球螋、泥蜂、蛛蜂、金匠花金龟，最多的是蚂蚁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那些个子小的为了走近清泉，便钻到蝉的肚子下，蝉宽厚地抬起爪子，让这些不速之客自由通过；那些大一点儿的昆虫，不耐烦地跺着脚，迅速地吸一口就退开，到旁边的树枝上去兜一圈，然后更大胆地回来。它们越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贪婪了，刚才还有所收敛，现在已经变成一群乱哄哄的侵略者，一心要把开源引水的凿井人从泉水边赶走。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   在这群强盗中，最不罢休的是蚂蚁。我曾看见过它们一点一点儿地乱咬蝉的爪尖，逮着正被它们拉扯的蝉的翅尖儿，爬到蝉背上，挠着蝉的触角。一只大胆的蚂蚁就在我的眼皮下，竟然抓住蝉的吸管，拼命想把它拔出来。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这个巨人给这些小矮子烦得没了耐心，终于放弃了水井。它朝这群拦路抢劫的家伙撒了一泡尿逃走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5400000">
            <a:off x="-990360" y="19810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积累掌握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12952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火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gōu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喧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嚣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xiāo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静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谧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篡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夺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cuàn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贪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lán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睦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br>
              <a:rPr sz="4400"/>
            </a:br>
            <a:br>
              <a:rPr sz="4400"/>
            </a:b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妒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忌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d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劫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掠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jié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蝈蝈_4~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8080" y="46483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知道吗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用你自己喜欢的方式读课文，看看通过阅读你都知道了关于蝈蝈的哪些内容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994p63-5" descr=""/>
          <p:cNvPicPr/>
          <p:nvPr/>
        </p:nvPicPr>
        <p:blipFill>
          <a:blip r:embed="rId2"/>
          <a:stretch/>
        </p:blipFill>
        <p:spPr>
          <a:xfrm>
            <a:off x="5410080" y="4146480"/>
            <a:ext cx="3124440" cy="252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蝈蝈：体长在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4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毫米左右，触角丝状，通常超过体长。覆翅膜质，较脆弱，前缘向下方倾斜，一般以左翅覆于右翅之上。栖息于树上的种类为绿色，无翅的地栖种类通常色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2520" y="44956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小小资料库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838080" y="5105520"/>
            <a:ext cx="175284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114800" y="137160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合作交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2743200"/>
            <a:ext cx="5410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再读课文，看看文中的哪些语句最吸引你？并谈谈你喜欢这些语句的原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1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1067040" cy="87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23880" y="53352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合作交流，共同探究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品味语言：用——在文中画出拟人句，说一说它抓住了蝈蝈的什么特征？这样写有什么好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q4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0:51:34Z</dcterms:created>
  <dc:creator>wutao</dc:creator>
  <dc:description/>
  <dc:language>en-US</dc:language>
  <cp:lastModifiedBy>a</cp:lastModifiedBy>
  <dcterms:modified xsi:type="dcterms:W3CDTF">2004-12-16T05:34:16Z</dcterms:modified>
  <cp:revision>100</cp:revision>
  <dc:subject/>
  <dc:title>PowerPoint 演示文稿</dc:title>
</cp:coreProperties>
</file>