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7FB-D03B-47E2-91E7-A69E799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705-1593-4458-976F-77F556E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5D5-9075-459C-B891-912D4ED1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C02-AFDA-487C-AFB7-D55445F2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2DA-A14D-4E3A-A0C7-98F84757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9362-CCDD-4388-AAEA-591D2B2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4B54-EF67-425C-BCD7-7B0C6C34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4A04-6C7B-47BF-BF33-F8AC4E65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B7BC-C85C-46F1-8C96-88B5452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40B5-8F05-4FB8-B12A-BCB834A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8D3-C6CB-4EC2-A7A8-BF8D47A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263-1816-41D9-B1AA-20D158E2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0179-CCCB-46C7-8F1A-72A22DA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84D6-69EF-43CC-ACBE-BBDA66B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AF45-AE4E-42A2-8682-DEEDDE93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5949-72E6-48E5-8210-4EEEDB8C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F17-CFF0-4AF6-9850-B97AD86F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D61-486A-4D44-A2CE-B9C6831A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229-DAA2-4DAC-844F-31B2D8B4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68E-5765-4CFE-B39C-40BCA50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0B9-C430-4F70-A3EE-10AC3893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979-0231-4B4B-8819-CCD275F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C9D-A05E-4321-BABB-D36168D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3FB-709D-48A6-B2E0-79B6DD3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ECF-7C2C-4ABB-B138-DB08E5F5066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078-1BDF-4BFE-9238-AD8116738A43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3371" t="0" r="9051" b="124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2895480"/>
            <a:ext cx="4343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8 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绿色蝈蝈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280" y="152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[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国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]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布尔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95640" y="1989000"/>
            <a:ext cx="576108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rnd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再见</a:t>
            </a:r>
            <a:endParaRPr b="0" lang="en-US" sz="4400" spc="1" strike="noStrike">
              <a:ln cap="rnd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昆虫记" descr=""/>
          <p:cNvPicPr/>
          <p:nvPr/>
        </p:nvPicPr>
        <p:blipFill>
          <a:blip r:embed="rId1"/>
          <a:srcRect l="0" t="0" r="0" b="33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304920"/>
            <a:ext cx="86868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一、法布尔与《昆虫记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823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日，法布尔生于法国南部一农民家中。童年时代就迷上了户外大自然中的花草虫鸟。在他不足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岁时就立志研究昆虫。后来靠自学获得了自然科学硕士、博士学位。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他用积攒的一小笔钱，在乡间小镇塞里尼昂附近购得一处坐落在荒地上的老旧民宅，进一步研究活虫子的计划即变成了现实。他精神舒畅，用当地普罗斯旺语给这处居所取了个风趣的雅号——荒石园。年复一年，他守着心爱的荒园，开足生命的马力，不知疲倦地从事独具特色的昆虫学研究，把劳动成果写进一卷又一卷的《昆虫记》。他就是这样，孤独、欢欣、清苦、平静地度过了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35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余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《昆虫记》主体内容集中在昆虫学问题上，同时收入一些讲述经历、回忆往事的传记性文章，若干解决理论问题的议论，以及少量带科普知识性的文字。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法布尔在全十卷精装本《昆虫记》的出版序言中说：“非常遗憾，如今我被迫中断了这些研究。要知道从事这些研究是我一生得到的惟一仅有的安慰。阅尽大千世界，自知虫类是其最多姿多彩者中之一群。即使能让我再获得些许气力，甚至有可能再获得几次长寿人生，我也做不到彻底认清虫类的益趣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915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ff99"/>
                </a:solidFill>
                <a:latin typeface="Times New Roman"/>
              </a:rPr>
              <a:t>月的一天，这位以昆虫为琴拨响人类命运颤音的巨人逝世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蝈蝈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09480"/>
            <a:ext cx="7696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、快速阅读课文，理解课文内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二、快速阅读课文，理解课文内容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蝈蝈图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819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表特征：这种昆虫非常漂亮，浑身嫩绿，侧面有两条淡白色的丝带，身材优美、苗条、匀称，两片大翼轻盈如纱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习性：作者写了蝈蝈的叫声和食性。主要写的是食物习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蝗虫2" descr=""/>
          <p:cNvPicPr/>
          <p:nvPr/>
        </p:nvPicPr>
        <p:blipFill>
          <a:blip r:embed="rId1"/>
          <a:srcRect l="12150" t="0" r="2051" b="14193"/>
          <a:stretch/>
        </p:blipFill>
        <p:spPr>
          <a:xfrm>
            <a:off x="457200" y="14479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不断变换称呼，使行文更生动，描写更形象，给人更深刻的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对蝈蝈的称呼有：狂热的狩猎者、我笼里的囚犯、蝉的屠夫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666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当蝈蝈捕杀蝉时作者用“狂热的狩猎者”；当蝈蝈成为作者笼中观察和实验的对象时，作者就用“笼里的囚犯”；当蝈蝈吃蝉肉时作者称之为“蝉的屠夫”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蝗虫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窃窃自语”“津津有味”“酷爱甜食”“毫不犹豫地都接受”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362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这样写亲切自然，形象生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蝈蝈" descr=""/>
          <p:cNvPicPr/>
          <p:nvPr/>
        </p:nvPicPr>
        <p:blipFill>
          <a:blip r:embed="rId1"/>
          <a:srcRect l="7890" t="0" r="12576" b="204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、找到以下语句，说说表达了作者怎样的情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762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绿色的蝈蝈啊，如果你拉的琴再响亮一点儿，那你就是比蝉更胜一筹的歌手了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44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拟人手法写蝈蝈，流露出浓厚炽热的喜爱之情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768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这种昆虫非常漂亮，浑身嫩绿，侧面有两条淡白色的丝带，身材优美，苗条匀称，两片大翼轻盈如纱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575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优美的语言刻画出蝈蝈可爱的样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关于食物，我遇到了喂养螽斯时同样的麻烦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3368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麻烦”一词表现出作者对蝈蝈悉心照料不怕麻烦的态度。带有明显的感情色彩，亲切自然，富有文学笔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它用喙尖抓抓脚底，用沾着唾液的爪擦擦脸和眼睛，然后闭着双眼或者躺在沙上消化食物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我用蝉来喂养它们。它们对这道菜吃得津津有味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7150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语言使用生动传神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蝈蝈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、合作研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43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用什么方法引出蝈蝈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是如何知道蝈蝈喜欢吃什么食物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1213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研读课文第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段，归纳这段文字说明了蝈蝈的什么生活习性，说明蝈蝈属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杂食）性昆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660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课文第一段并没有写蝈蝈，是写在别人欢度国庆的日子里，自己还没有忘记去观察昆虫。“我独自一人”说明作者对他热爱的事业的执著。第二段写蝉在夜晚不再鸣叫，它要休息了。突然，蝉的一声哀号引出了本文的“主人翁”——蝈蝈。这是多么富有匠心的写作思路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8098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作者是通过实验和观察知道蝈蝈喜欢吃蝉肚子的。清晨，作者散步时看到的一幕揭开了蝈蝈食物之谜——捕蝉为食。又通过变换食物的花样，揭开了蝈蝈首先吃蝉肚子的秘密，因为肚子既有肉，又有甜食。这反映了作者严谨的科学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470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杂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7890" t="0" r="5559" b="13430"/>
          <a:stretch/>
        </p:blipFill>
        <p:spPr>
          <a:xfrm>
            <a:off x="685800" y="914400"/>
            <a:ext cx="3352680" cy="275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22596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9079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五、写一篇观察昆虫的日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22:51Z</dcterms:created>
  <dc:creator>wutao</dc:creator>
  <dc:description/>
  <dc:language>en-US</dc:language>
  <cp:lastModifiedBy>a</cp:lastModifiedBy>
  <dcterms:modified xsi:type="dcterms:W3CDTF">2004-12-16T05:35:30Z</dcterms:modified>
  <cp:revision>100</cp:revision>
  <dc:subject/>
  <dc:title>PowerPoint 演示文稿</dc:title>
</cp:coreProperties>
</file>