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BC5-AC33-49BB-ACFE-7987E95C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CFD-3882-4CA0-A28B-E8918044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389-DAD1-4930-AB65-29448BF0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A27-3004-4059-B284-B2D0CDC2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88F-8EA9-406E-AC5E-AA8EE168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025-22C5-43FE-BB08-5236989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881-04F4-42E7-B531-A3D1B97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503-5422-4D3F-8ECA-33DF5E06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DDF-8D4A-4D2F-856E-20C1783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A42-A260-434A-8073-900C897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741-36E3-4B16-8C24-F37A12B6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96F-2457-4462-A56E-4FA3038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688-E5D3-4E00-A8A3-32969AD14D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0880"/>
            <a:ext cx="449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 Black"/>
                <a:ea typeface="隶书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8142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用快速阅读，理解课文内容并简洁概括要点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抓住事物特点去观察、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体会生动传神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566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“读一读，写一写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“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“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598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752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40" name="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 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 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——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9720" y="1739880"/>
            <a:ext cx="1707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《辞海》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“哥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594360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65452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75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《昆虫记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7920"/>
            <a:ext cx="86868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《昆虫记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昆虫记》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《昆虫记》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wutao</dc:creator>
  <dc:description/>
  <dc:language>en-US</dc:language>
  <cp:lastModifiedBy>a</cp:lastModifiedBy>
  <dcterms:modified xsi:type="dcterms:W3CDTF">2004-12-16T05:36:40Z</dcterms:modified>
  <cp:revision>100</cp:revision>
  <dc:subject/>
  <dc:title>幻灯片 1</dc:title>
</cp:coreProperties>
</file>