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D63-00AE-4C9C-A172-6E18049C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CB2-733E-46DC-8EFD-24A72B7D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AFC-9C69-4B05-AD7E-29B439C8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6BE-2E9B-4E59-9656-DB25A683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5C48-2A7D-4697-8940-F6C1922A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0558-C1D9-47C5-9AEA-3A1D7320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B95C-3CAD-4EA8-A4BB-88CA3FAC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D6D5-B2B7-4EEC-BFE1-5022CE8D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7EDD-8E75-4746-92D5-221CD43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0524-B2DA-4155-9951-E0240B7E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385B-3347-4C23-BF6D-57198372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61F-64B3-4C1D-818A-3FDB8F14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7466-C320-45A6-B974-FAF265B8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68C7-61F1-4102-B1F6-3777D610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B084-7AA0-4138-94C8-DCC0CE3D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A001-DEFA-4B64-BBE5-538D0C7E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4372-85C8-4AEB-90C3-651E6798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7BD-9AAE-4D7E-969E-3D7A42CD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A93-1D82-4548-950B-A1C65933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7DD-CEFA-44C4-B60E-CCC4C870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5CF-5BD3-4C2E-B886-9C168096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C79-6F71-4AF1-A3BB-7FDBB0CC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EF1-9CEB-4837-8EA8-80EB79EC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9A3-7942-481C-8372-4F1A49D6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EF5B-F8D3-4877-A841-E96391636861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31D9-F61A-4FCE-9FA3-3386D7C3EFA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72640" y="4762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绿色蝈蝈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86360" y="1998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法布尔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454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17160" y="170028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朗读，并找出自己认为最精彩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句子或段落做简要分析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620640"/>
            <a:ext cx="841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速阅读课文，筛选关键信息，理解课文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１）绿色蝈蝈的外表有什么特征？绿色蝈蝈有哪些习性？作者主要写了哪个方面的习性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２）作者不断变换对绿色蝈蝈的称呼，找出这些称呼，说说作者在什么情况下用什么称呼，这样写有什么效果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25840" y="-57240"/>
            <a:ext cx="57081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师生合作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１）作者用什么方法引出蝈蝈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２）作者是如何知道蝈蝈喜欢吃什么事物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３）文中多处运用拟人手法，试结合具体例子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这样写的好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４）研读课文第９段，归纳这段文字说明了蝈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哪方面的习性，说明蝈蝈属于（Ａ食肉　Ｂ食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Ｃ杂食）性昆虫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５）第９段运用了什么说明方法，有何好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６）《辞海》中有关蝈蝈的条目是这样的：“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蝈，昆虫。螽斯发一种。短翅，腹大，雄的前翅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部可摩擦发声。吃植物的嫩叶和花，危害农作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有称之为”哥哥“。就这段文字与课文比较，你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本文的笔法有何特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280" y="26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猜猜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31840" y="192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93400" y="98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小飞贼，武器是针，抽别人血，养自己身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66640" y="8380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蚊子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6120" y="1773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小诸葛亮，独坐军中帐，摆成八卦阵，专抓飞来将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66640" y="17017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蜘蛛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77400" y="2565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他是条牛，无法拉车走，说他力气小，却能背屋跑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65920" y="240192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蜗牛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51320" y="321300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条小小虫，自己做灯笼，躲在灯笼里，变个飞仙女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94640" y="3049560"/>
            <a:ext cx="4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蚕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7400" y="4149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天草里住，晚上空中游，金光闪闪动，见尾不见头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37200" y="398628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萤火虫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02160" y="508464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长身体两排脚，阴湿暗地是家窝，剧毒咬人难忍痛，治病倒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中药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66640" y="559116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蜈蚣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476280"/>
            <a:ext cx="87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法布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823—19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国近代杰出的昆虫学家，著名科普读物作家。早年家境贫困，曾给人家打短工放鸭子；以后又先后卖过柠檬，当过小学教员，研究过数学，但他的兴趣始终在生物学方面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，他在埃维诺中学当教师时，几乎把休息日的时间，完全用在对生物的研究上。当时的法国教育部长曾邀他到巴黎，授予他“荣誉勋章”，还引他去见法国皇帝。他过不惯那种生活，又回到乡村，继续研究工作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法布尔定居塞利诺，悉心研究昆虫学。由于宗教势力的影响，他的著作一直不被人重视。直到晚年，名声才大起来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他的朋友为他开了庆祝会，各国贺电贺信也纷至沓来。不久，法国学士院把最大的奖金送给他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法布尔逝世，享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。他用大半生的时间和精力写成十大卷《昆虫记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作《昆虫的故事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这是一部介绍昆虫生活情态的书。在书中，作者以诗一般的语言，向人们展示了昆虫世界的秘密。因此，他被人们誉为“昆虫世界的荷马”，赞美“他的额上理应戴上一顶双层灿烂的皇冠”。现在，他的故居和实验室已建成法布尔纪念馆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19640" y="3645000"/>
            <a:ext cx="2665440" cy="321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55440"/>
            <a:ext cx="9144000" cy="6253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8520" y="620388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蝈　　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99040" y="627840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蝈　　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967120" y="617076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螽　　　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出下列词语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8520" y="79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喧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80820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xuān  xiāo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96560" y="76500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劫        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836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jié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4240" y="808200"/>
            <a:ext cx="20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9080" y="73512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mì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08520" y="151776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酷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1484280"/>
            <a:ext cx="144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k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13600" y="1517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吮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227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5920" y="152712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hǔn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07680" y="1503360"/>
            <a:ext cx="7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152712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ēn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3040" y="202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满载而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8720" y="2031840"/>
            <a:ext cx="8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zài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喑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30200" y="1989000"/>
            <a:ext cx="1594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yīn  yǎ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58000" y="2997360"/>
            <a:ext cx="32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拼音写出相应的汉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0560" y="3789360"/>
            <a:ext cx="790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shòu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猎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cuà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夺            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rǎo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更胜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chóu)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gōu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zhōng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斯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wō) (jù)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xī)(s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240" y="386064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386064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47160" y="3751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47880" y="425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6440" y="429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4080" y="4759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13600" y="47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莴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37240" y="522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窸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73440" y="663480"/>
            <a:ext cx="5582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将化线出的文字表述换成成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耳朵灵敏 的人，能听到动物中弱者被强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吃掉出四周的绿叶丛中，蝈蝈在窃窃私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蝉则惊慌、害怕得不知如何是好地飞起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窜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３）它们对这道菜吃得特别有兴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77760" y="2309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弱肉强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22120" y="422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惊慌失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5040" y="5838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津津有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3:44:04Z</dcterms:created>
  <dc:creator>wutao</dc:creator>
  <dc:description/>
  <dc:language>en-US</dc:language>
  <cp:lastModifiedBy>a</cp:lastModifiedBy>
  <dcterms:modified xsi:type="dcterms:W3CDTF">2004-12-16T05:38:20Z</dcterms:modified>
  <cp:revision>100</cp:revision>
  <dc:subject/>
  <dc:title>幻灯片 1</dc:title>
</cp:coreProperties>
</file>