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D44-7A72-40AA-80C1-9EC62126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B82-D59F-45E2-A3F3-09DB136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661-65C8-43CF-8008-35EFCC15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1F5-7A2F-414B-A57A-8964B8E4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0EDC-7D1F-4380-8E68-78D224FC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C8BA-430C-4095-8C1D-40B0E895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C8FB-D5EE-43A3-8646-050A7573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C244-3516-4247-9163-9AF9094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505-24EC-46ED-A40D-E6C857C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F3D-6F0D-4DFB-909B-EA70349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FE8-13DA-4D4A-9D65-19BA9AA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A8E-A1B6-46FB-A293-7F0416D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BA4-1A35-4710-95F7-E1DF9B7B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0996-D790-4CC3-8983-86F6717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F34-4FFE-4760-8662-567C6304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DAA8-BE78-44F7-B1ED-BC63D300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CEBD-3331-4C34-BB11-ECE07AB4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B6E-C43E-435A-9BF0-163A97B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3A5-1220-45C9-8C6F-0056F28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9CC-EB88-47E3-9C79-876FD4F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11E-90C5-42B6-B1BF-646A0CF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7AA-2A37-4CF4-B45A-FDAD50F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C39-6A55-40D8-990E-05E5EE1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BAB-FBE3-4F2E-98B2-A5F6760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FAE-5976-432B-9079-2A424F92EA7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724D-A6C1-484C-9706-4D8B1DB29CAE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304920"/>
            <a:ext cx="8229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绿色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71800" y="3276720"/>
            <a:ext cx="3809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（法）法布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49528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昆虫学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5165640" y="2459160"/>
            <a:ext cx="344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22840" y="23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419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5" name="法布儿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教学目标</a:t>
            </a: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速读课文，能用简洁的语言概述文章内容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能体味文中的美词佳句，并说出其作用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、培养学生的阅读能力，激发学生探索科学奥秘的兴趣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教学重点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培养学生阅读文章、概述内容的能力，体会文章的语言特色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宋体"/>
              </a:rPr>
              <a:t>初读课文，感知内容，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这是一篇妙趣横生的小品文。作者采用生动活泼的笔法，把蝈蝈写得活灵活现，具有很强的可读性。这也是法布尔《昆虫记》整部书的特色。鲁迅曾把《昆虫记》称为“讲昆虫故事”“讲昆虫生活”的楷模。周作人说：“比看那些无聊的小说戏剧更有趣味，更有意义。”的确如此，法布尔笔下的蝈蝈是鲜活的，字里行间洋溢着作者本人对生命的尊重与热爱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认真地把课文读一遍，画出生字词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给下列红字注音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篝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火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狩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猎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喧嚣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弱肉强食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颚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、钳子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喑哑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静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谧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寂（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更胜一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筹（  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螽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斯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莴苣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悬殊、踢蹬、津津有味、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嗉囊（     ）喙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吮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取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酷（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爱、螳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螂（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贪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婪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（   ）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唾（    ）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液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对蝈蝈的称呼有：狂热的狩猎者、我笼里的囚犯、蝉的屠夫等。当蝈蝈捕杀蝉时作者用“狂热的狩猎者”；当蝈蝈成为作者笼中观察和实验的对象时，作者就用“笼里的囚犯”；当蝈蝈吃蝉肉时作者称之为“蝉的屠夫”。作者不断变换称呼，使行文更生动，描写更形象，给人更深刻的印象。 </a:t>
            </a:r>
            <a:br>
              <a:rPr sz="3200"/>
            </a:b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“窃窃自语”“津津有味”“酷爱甜食”“毫不犹豫地都接受”是拟人。这样写亲切自然，形象生动。 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762120"/>
            <a:ext cx="815328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第二遍，画出自己认为最精彩的段落或句子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作者用什么方法引出蝈蝈呢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（第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段并没有写蝈蝈，是写在别人欢度国庆的日子里，自己还没有忘记去观察昆虫。“我独自一人”说明作者对他所热爱的事业是多么执著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搞科学研究需要这样的精神。第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段写蝉在夜晚不再鸣叫，它要休息了。突然，蝉的一声哀号引出了本文的“主人公”蝈蝈。这是多么富有匠心的写作思路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）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．绿色蝈蝈外表有哪些特征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．作者主要写了绿色蝈蝈的哪些习性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作者不断变换对绿色蝈蝈的称呼，找出这些称呼，说说作者在什么情况下用什么称呼，这样写有什么效果。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545472"/>
                </a:solidFill>
                <a:latin typeface="宋体"/>
              </a:rPr>
              <a:t>、课文多处运用拟人手法，找出几个例子，说说这样写的好处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545472"/>
                </a:solidFill>
                <a:latin typeface="宋体"/>
              </a:rPr>
              <a:t>外表特征，“这种昆虫非常漂亮，浑身嫩绿，侧面有两条淡白色的丝带，身材优美，苗条匀称，两片大翼轻盈如纱。”作者写了蝈蝈的叫声和食性。主要写的是食物习性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</a:rPr>
              <a:t>外表特征，“这种昆虫非常漂亮，浑身嫩绿，侧面有两条淡白色的丝带，身材优美，苗条匀称，两片大翼轻盈如纱。”作者写了蝈蝈的叫声和食性。主要写的是食物习性</a:t>
            </a: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去户外静听虫鸣鸟啼，辨别这些声音，并用一段话形象地描写出来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找法布尔的《昆虫记》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节选本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进行课外阅读，并做读书笔记。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、同学之间互相介绍自己最熟悉的一种动物。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9:29:41Z</dcterms:created>
  <dc:creator>wutao</dc:creator>
  <dc:description/>
  <dc:language>en-US</dc:language>
  <cp:lastModifiedBy>Legend User</cp:lastModifiedBy>
  <dcterms:modified xsi:type="dcterms:W3CDTF">2003-11-10T02:10:39Z</dcterms:modified>
  <cp:revision>100</cp:revision>
  <dc:subject/>
  <dc:title>PowerPoint 演示文稿</dc:title>
</cp:coreProperties>
</file>