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37C253-8213-42B4-A74A-10FF5419C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9992FA-4386-4487-AD5C-D9124AD7C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22DFAE-DFB2-442E-8D45-9C30C76A4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B5BC4A-6397-411D-A331-01283287C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3A086F-E075-4CF0-A6ED-7C5824659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440" y="228600"/>
            <a:ext cx="7086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3DD829-A549-4A1F-9E9C-0389792F6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092309-95D7-434C-84E2-24D083CE1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364825-1977-44A5-9EC5-5288C5827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4828C6-8B70-4AF2-A0CD-6440FE346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AF2716-7207-473F-8B60-3AA49AA3C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C67525-5610-4686-96A1-E297CE670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3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4144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5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3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4144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B2F7B1-E04E-4A2B-8918-A4DC50A09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440" y="228600"/>
            <a:ext cx="7086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23880" y="1752120"/>
            <a:ext cx="69343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5F921-93BA-40D6-B702-F42D21DB1CE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" Target="slide2.xml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1.xml"/><Relationship Id="rId3" Type="http://schemas.openxmlformats.org/officeDocument/2006/relationships/image" Target="../media/image5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0.xml"/><Relationship Id="rId3" Type="http://schemas.openxmlformats.org/officeDocument/2006/relationships/image" Target="../media/image4.png"/><Relationship Id="rId4" Type="http://schemas.openxmlformats.org/officeDocument/2006/relationships/slide" Target="slide11.xml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43000" y="1447920"/>
            <a:ext cx="69343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隶书"/>
                <a:ea typeface="隶书"/>
              </a:rPr>
              <a:t>绿 色 蝈 蝈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2286000" y="3352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法布尔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1143000" y="838080"/>
            <a:ext cx="6934320" cy="5221440"/>
          </a:xfrm>
          <a:prstGeom prst="rect">
            <a:avLst/>
          </a:prstGeom>
          <a:ln w="0">
            <a:noFill/>
          </a:ln>
        </p:spPr>
      </p:pic>
      <p:pic>
        <p:nvPicPr>
          <p:cNvPr id="120" name="back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772400" y="6421320"/>
            <a:ext cx="838080" cy="3081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1295280" y="914400"/>
            <a:ext cx="6705720" cy="4968720"/>
          </a:xfrm>
          <a:prstGeom prst="rect">
            <a:avLst/>
          </a:prstGeom>
          <a:ln w="0">
            <a:noFill/>
          </a:ln>
        </p:spPr>
      </p:pic>
      <p:pic>
        <p:nvPicPr>
          <p:cNvPr id="122" name="back" descr=""/>
          <p:cNvPicPr/>
          <p:nvPr/>
        </p:nvPicPr>
        <p:blipFill>
          <a:blip r:embed="rId4"/>
          <a:stretch/>
        </p:blipFill>
        <p:spPr>
          <a:xfrm>
            <a:off x="7772400" y="6421320"/>
            <a:ext cx="838080" cy="30816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2438280" y="609480"/>
            <a:ext cx="4016520" cy="5486400"/>
          </a:xfrm>
          <a:prstGeom prst="rect">
            <a:avLst/>
          </a:prstGeom>
          <a:ln w="0">
            <a:noFill/>
          </a:ln>
        </p:spPr>
      </p:pic>
      <p:pic>
        <p:nvPicPr>
          <p:cNvPr id="124" name="back" descr=""/>
          <p:cNvPicPr/>
          <p:nvPr/>
        </p:nvPicPr>
        <p:blipFill>
          <a:blip r:embed="rId3"/>
          <a:stretch/>
        </p:blipFill>
        <p:spPr>
          <a:xfrm>
            <a:off x="7543800" y="5867280"/>
            <a:ext cx="838080" cy="30816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905120" y="609480"/>
            <a:ext cx="3578040" cy="5334120"/>
          </a:xfrm>
          <a:prstGeom prst="rect">
            <a:avLst/>
          </a:prstGeom>
          <a:ln w="0">
            <a:noFill/>
          </a:ln>
        </p:spPr>
      </p:pic>
      <p:pic>
        <p:nvPicPr>
          <p:cNvPr id="126" name="back" descr=""/>
          <p:cNvPicPr/>
          <p:nvPr/>
        </p:nvPicPr>
        <p:blipFill>
          <a:blip r:embed="rId3"/>
          <a:stretch/>
        </p:blipFill>
        <p:spPr>
          <a:xfrm>
            <a:off x="7315200" y="6019920"/>
            <a:ext cx="838080" cy="3078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5946840" y="457200"/>
            <a:ext cx="54612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齐白石《蝈蝈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1219320" y="990720"/>
            <a:ext cx="6781680" cy="5097240"/>
          </a:xfrm>
          <a:prstGeom prst="rect">
            <a:avLst/>
          </a:prstGeom>
          <a:ln w="0">
            <a:noFill/>
          </a:ln>
        </p:spPr>
      </p:pic>
      <p:pic>
        <p:nvPicPr>
          <p:cNvPr id="129" name="back" descr=""/>
          <p:cNvPicPr/>
          <p:nvPr/>
        </p:nvPicPr>
        <p:blipFill>
          <a:blip r:embed="rId3"/>
          <a:stretch/>
        </p:blipFill>
        <p:spPr>
          <a:xfrm>
            <a:off x="7696080" y="6400800"/>
            <a:ext cx="838440" cy="3078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62120" y="3200400"/>
            <a:ext cx="1904760" cy="14479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762120" y="4876920"/>
            <a:ext cx="1904760" cy="14475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685800" y="1447920"/>
            <a:ext cx="1676520" cy="609480"/>
          </a:xfrm>
          <a:prstGeom prst="bevel">
            <a:avLst>
              <a:gd name="adj" fmla="val 12500"/>
            </a:avLst>
          </a:prstGeom>
          <a:solidFill>
            <a:srgbClr val="d2a01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作者简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819520" y="1447920"/>
            <a:ext cx="1600200" cy="609480"/>
          </a:xfrm>
          <a:prstGeom prst="bevel">
            <a:avLst>
              <a:gd name="adj" fmla="val 12500"/>
            </a:avLst>
          </a:prstGeom>
          <a:solidFill>
            <a:srgbClr val="d2a01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整体感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800600" y="1447920"/>
            <a:ext cx="1600200" cy="609480"/>
          </a:xfrm>
          <a:prstGeom prst="bevel">
            <a:avLst>
              <a:gd name="adj" fmla="val 12500"/>
            </a:avLst>
          </a:prstGeom>
          <a:solidFill>
            <a:srgbClr val="d2a01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探究思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781680" y="1447920"/>
            <a:ext cx="1676520" cy="609480"/>
          </a:xfrm>
          <a:prstGeom prst="bevel">
            <a:avLst>
              <a:gd name="adj" fmla="val 12500"/>
            </a:avLst>
          </a:prstGeom>
          <a:solidFill>
            <a:srgbClr val="d2a01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拓展练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6"/>
          <a:stretch/>
        </p:blipFill>
        <p:spPr>
          <a:xfrm>
            <a:off x="6553080" y="3200400"/>
            <a:ext cx="2041560" cy="31240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7"/>
          <a:stretch/>
        </p:blipFill>
        <p:spPr>
          <a:xfrm>
            <a:off x="3505320" y="3200400"/>
            <a:ext cx="2286000" cy="31240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228600" y="914400"/>
            <a:ext cx="3855960" cy="52578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4419720" y="1828800"/>
            <a:ext cx="4267080" cy="1747440"/>
          </a:xfrm>
          <a:prstGeom prst="rect">
            <a:avLst/>
          </a:prstGeom>
          <a:noFill/>
          <a:ln cap="rnd" w="38160">
            <a:solidFill>
              <a:srgbClr val="ffdf83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亨利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·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法布尔（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1823—1915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，法国著名科学家、科普作家。生于农民家庭，从小生活极其穷困，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15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岁考入师范学校，毕业后谋得初中数学教师的职位。一次带学生上户外几何课，忽然在石块上发现了垒筑蜂和蜂窝，从此“虫心”焕发，立志做一个为虫子写历史的人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著作：《昆虫记》。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572000" y="838080"/>
            <a:ext cx="2438280" cy="581400"/>
          </a:xfrm>
          <a:prstGeom prst="rect">
            <a:avLst/>
          </a:prstGeom>
          <a:noFill/>
          <a:ln w="28440">
            <a:solidFill>
              <a:srgbClr val="e4a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亨利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·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法布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609480" y="1904760"/>
            <a:ext cx="7925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《昆虫记》是法布尔以毕生的时间与精力，详细观察了昆虫的生活和它们为了生活以及繁衍种族所进行的斗争，然后以其观察所得写成详细确切的笔记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《昆虫记》共十册，每册包含若干章，每章详细、深刻地描绘一种或几种昆虫的生活：蜘蛛、蜜蜂、螳螂、蝎子、蝉、甲虫、蟋蟀等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《昆虫记》不仅充满着对生命的敬畏之情，更蕴含着探求真相、追求真理的精神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《昆虫记》第一册于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1879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年问世。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1910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年，当《昆虫记》第十册问世时，法布尔已经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86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岁了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9480" y="762120"/>
            <a:ext cx="2438640" cy="581400"/>
          </a:xfrm>
          <a:prstGeom prst="rect">
            <a:avLst/>
          </a:prstGeom>
          <a:noFill/>
          <a:ln w="28440">
            <a:solidFill>
              <a:srgbClr val="e4a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《昆虫记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back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421400" y="5943600"/>
            <a:ext cx="960480" cy="3538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523880" y="1371600"/>
            <a:ext cx="6477120" cy="45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绿色蝈蝈外表有哪些</a:t>
            </a:r>
            <a:r>
              <a:rPr b="0" lang="zh-CN" sz="2400" spc="-1" strike="noStrike" u="sng">
                <a:solidFill>
                  <a:srgbClr val="cc3300"/>
                </a:solidFill>
                <a:uFillTx/>
                <a:latin typeface="黑体"/>
                <a:ea typeface="黑体"/>
              </a:rPr>
              <a:t>特征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?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作者主要写了绿色蝈蝈的哪些</a:t>
            </a:r>
            <a:r>
              <a:rPr b="0" lang="zh-CN" sz="2400" spc="-1" strike="noStrike" u="sng">
                <a:solidFill>
                  <a:srgbClr val="cc3300"/>
                </a:solidFill>
                <a:uFillTx/>
                <a:latin typeface="黑体"/>
                <a:ea typeface="黑体"/>
              </a:rPr>
              <a:t>习性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? 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469240" y="914400"/>
            <a:ext cx="310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朗读课文，感知课文内容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866680" y="548640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蝈蝈的习性：写了蝈蝈的叫声和食性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828800" y="2514600"/>
            <a:ext cx="617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蝈蝈的外形特征：这种昆虫非常漂亮，浑身嫩绿，侧面有两条淡白色的丝带，身材优美，苗条匀称，两片大翼轻盈如纱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828800" y="403848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观察蝈蝈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3809880" y="3846600"/>
            <a:ext cx="1295640" cy="9730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905120" y="2590920"/>
            <a:ext cx="541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特征：漂亮、嫩绿、苗条、匀称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828800" y="4267080"/>
            <a:ext cx="54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习性：叫声—柔和，捕蝉—为食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838080" y="2819520"/>
            <a:ext cx="533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绿色蝈蝈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162920" y="2743200"/>
            <a:ext cx="152280" cy="1905120"/>
          </a:xfrm>
          <a:custGeom>
            <a:avLst/>
            <a:gdLst>
              <a:gd name="textAreaLeft" fmla="*/ 0 w 152280"/>
              <a:gd name="textAreaRight" fmla="*/ 55080 w 152280"/>
              <a:gd name="textAreaTop" fmla="*/ 49680 h 1905120"/>
              <a:gd name="textAreaBottom" fmla="*/ 1855440 h 1905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600200" y="2743200"/>
            <a:ext cx="152280" cy="1905120"/>
          </a:xfrm>
          <a:custGeom>
            <a:avLst/>
            <a:gdLst>
              <a:gd name="textAreaLeft" fmla="*/ 97200 w 152280"/>
              <a:gd name="textAreaRight" fmla="*/ 152640 w 152280"/>
              <a:gd name="textAreaTop" fmla="*/ 49680 h 1905120"/>
              <a:gd name="textAreaBottom" fmla="*/ 1855440 h 1905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43760" y="2743200"/>
            <a:ext cx="103356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拟人，生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914400" y="1068480"/>
            <a:ext cx="1523880" cy="581400"/>
          </a:xfrm>
          <a:prstGeom prst="rect">
            <a:avLst/>
          </a:prstGeom>
          <a:noFill/>
          <a:ln w="28440">
            <a:solidFill>
              <a:srgbClr val="e4a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板  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back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421400" y="5943600"/>
            <a:ext cx="960480" cy="35388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762120" y="914400"/>
            <a:ext cx="792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黑体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黑体"/>
              </a:rPr>
              <a:t>再读课文，对课文内容提出见解或疑问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62120" y="4000680"/>
            <a:ext cx="7696080" cy="16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探究思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(1)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蝈蝈的叫声非常的优美，但是蝈蝈的发生器官与人的发生器官有何不同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(2)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如何看待动物中的同类相食这种现象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809360" y="1714680"/>
            <a:ext cx="433764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黑体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黑体"/>
              </a:rPr>
              <a:t>品味语言，说一说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(1)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你最喜欢文章中哪个段落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?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为什么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(2)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你最喜欢哪个词语或哪个句子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?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为什么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back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421400" y="5943600"/>
            <a:ext cx="960480" cy="3538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914400" y="2743200"/>
            <a:ext cx="739152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请同学们用生动的语言说说自己喜欢的一种  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小动物。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可运用拟人或比喻等方法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)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读读法布尔的《昆虫记》节选本。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914400" y="1068480"/>
            <a:ext cx="1905120" cy="581400"/>
          </a:xfrm>
          <a:prstGeom prst="rect">
            <a:avLst/>
          </a:prstGeom>
          <a:noFill/>
          <a:ln w="28440">
            <a:solidFill>
              <a:srgbClr val="e4a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拓展练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其它_封底" descr="">
            <a:hlinkClick r:id="" action="ppaction://hlinkshowjump?jump=endshow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762120" y="5257800"/>
            <a:ext cx="31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f5f5f"/>
                </a:solidFill>
                <a:latin typeface="华文彩云"/>
                <a:ea typeface="华文彩云"/>
              </a:rPr>
              <a:t>谢谢您的使用</a:t>
            </a:r>
            <a:r>
              <a:rPr b="0" lang="zh-CN" sz="3200" spc="-1" strike="noStrike">
                <a:solidFill>
                  <a:srgbClr val="5f5f5f"/>
                </a:solidFill>
                <a:latin typeface="华文彩云"/>
                <a:ea typeface="华文彩云"/>
              </a:rPr>
              <a:t>!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9T01:43:05Z</dcterms:created>
  <dc:creator>wutao</dc:creator>
  <dc:description/>
  <dc:language>en-US</dc:language>
  <cp:lastModifiedBy>ymr</cp:lastModifiedBy>
  <dcterms:modified xsi:type="dcterms:W3CDTF">2006-09-06T01:21:43Z</dcterms:modified>
  <cp:revision>101</cp:revision>
  <dc:subject/>
  <dc:title>绿 色 蝈 蝈</dc:title>
</cp:coreProperties>
</file>