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53B-B6A8-436A-A5FE-9DB0D0BB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955-5AF7-422D-9FAD-289DC60B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D61-3120-4E8D-BA44-387D255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06D-B6E6-4A10-ADE9-54B75F9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B22-DEE6-40AE-A333-25969B4C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3352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FE0-B31D-438F-8DD1-AB2CE49D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E49-7175-4D01-9AE9-372ADCB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9D6-4339-4CC4-B3EA-F5E166E4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BC-978F-4002-B1F2-D09CE7E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BC7-4C74-4C26-A185-AEFA022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C4C-3894-47F9-86B2-04411670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8C7-822A-438E-8FAA-696DFC77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3352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3352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5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0B5F-4C97-447D-A69F-223BFEDA46AA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5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835280" y="1413000"/>
            <a:ext cx="56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华文行楷"/>
              </a:rPr>
              <a:t>绿色蝈蝈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720" y="29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latin typeface="幼圆"/>
              </a:rPr>
              <a:t>法布尔</a:t>
            </a:r>
            <a:endParaRPr b="0" lang="en-US" sz="2800" spc="1" strike="noStrike">
              <a:ln w="3240">
                <a:solidFill>
                  <a:srgbClr val="eaeaea"/>
                </a:solidFill>
                <a:miter/>
              </a:ln>
              <a:solidFill>
                <a:srgbClr val="00ff00"/>
              </a:solidFill>
              <a:latin typeface="幼圆"/>
              <a:ea typeface="幼圆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71640" y="551664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24720" y="602136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87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893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1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42840" y="295560"/>
            <a:ext cx="3352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9308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067280" y="4724280"/>
            <a:ext cx="144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蝈蝈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036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362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3311280" cy="6248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08360" y="390600"/>
            <a:ext cx="54356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法布尔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JEAN-HENRI FABR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182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日生于法国南部一个小山村。从孩提时代起就表现出对昆虫和自然的喜爱，具有强烈的好奇心和敏锐的观察力。通过自修，他取得数学、物理学、博物学学士学位，任博物馆馆长。他在南法塞西尼翁村买了一小块地，命名为“荒石园”，开始专心观察、研究昆虫，写成十册《昆虫记》。关于昆虫的研究受到达尔文的推崇，赞誉为“无与伦比的观察家”。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9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  <a:ea typeface="宋体"/>
              </a:rPr>
              <a:t>岁时过世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382680"/>
            <a:ext cx="769608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给下列黄色的字注音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狩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猎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喧嚣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    ）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篡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夺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掠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窸窣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       开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膛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破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）火       </a:t>
            </a:r>
            <a:r>
              <a:rPr b="1" lang="zh-CN" sz="2800" spc="-1" strike="noStrike">
                <a:solidFill>
                  <a:srgbClr val="ff0033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囊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吮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）取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唾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液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喑哑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 ）      静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谧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螽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斯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莴苣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                    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        ）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喙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（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1052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shò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38840" y="1052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xuān xiā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cuà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2920" y="1700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jié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34936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s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77000" y="2349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tá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gō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29240" y="2997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s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573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shǔ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52920" y="3573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tu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yīn y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210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m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485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zhō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925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wō j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46160" y="55166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2600" y="55166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hu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443800" cy="4608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0"/>
            <a:ext cx="806436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回答下列问题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绿色蝈蝈的外表有哪些特征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562040"/>
            <a:ext cx="4498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浑身嫩绿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侧面有两条淡白色的丝带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身材优美    苗条匀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两片大翼轻盈如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58626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蝈蝈的叫声和食性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81520" y="5950080"/>
            <a:ext cx="19512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主要写食性。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920" y="5229360"/>
            <a:ext cx="8362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② </a:t>
            </a:r>
            <a:r>
              <a:rPr b="1" lang="zh-C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绿色蝈蝈有哪些习性？作者主要写了哪个方面的习性？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59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 rot="5400000">
            <a:off x="-743760" y="3272400"/>
            <a:ext cx="2736720" cy="601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绿色蝈蝈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3933720"/>
            <a:ext cx="216000" cy="9144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4365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3068640"/>
            <a:ext cx="1067040" cy="9144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4437000"/>
            <a:ext cx="144360" cy="4320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8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56000" y="404640"/>
            <a:ext cx="374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全文结构图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19280" y="1341360"/>
            <a:ext cx="554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.“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”国庆仍在观察昆虫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19280" y="19890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用蝉的哀号引出蝈蝈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19280" y="2971800"/>
            <a:ext cx="252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蝈蝈的叫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306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3280" y="2637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有时清脆响亮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3280" y="3213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有时非常柔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357336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494172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87280" y="4365720"/>
            <a:ext cx="73080" cy="57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43280" y="4267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食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4581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92360" y="566100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1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628640"/>
            <a:ext cx="503280" cy="4464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2781360"/>
            <a:ext cx="433440" cy="718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 rot="5400000">
            <a:off x="7677000" y="4259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生活习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 rot="5400000">
            <a:off x="647280" y="454500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法布尔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 rot="5400000">
            <a:off x="1474560" y="3575520"/>
            <a:ext cx="790560" cy="71640"/>
          </a:xfrm>
          <a:prstGeom prst="rect">
            <a:avLst/>
          </a:prstGeom>
        </p:spPr>
        <p:txBody>
          <a:bodyPr wrap="none" lIns="90000" rIns="90000" tIns="25200" bIns="252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－</a:t>
            </a:r>
            <a:endParaRPr b="0" lang="en-US" sz="1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1960560" y="3532320"/>
            <a:ext cx="52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Times New Roman"/>
                <a:ea typeface="宋体"/>
              </a:rPr>
              <a:t>｝</a:t>
            </a:r>
            <a:endParaRPr b="0" lang="en-US" sz="1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2492280"/>
            <a:ext cx="117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宋体"/>
              </a:rPr>
              <a:t>｛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2401920"/>
            <a:ext cx="647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｝</a:t>
            </a:r>
            <a:endParaRPr b="0" lang="en-US" sz="2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56000" y="5634000"/>
            <a:ext cx="4537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和睦共居 从不争吵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69228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文中有一些对蝈蝈的特殊称呼，请同学们阅读课文找出来，并品味一下有什么表达效果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04840" y="2637000"/>
            <a:ext cx="2819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狂热的狩猎者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16000" y="3446640"/>
            <a:ext cx="31719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我囚笼里的囚犯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4292640"/>
            <a:ext cx="2114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“</a:t>
            </a:r>
            <a:r>
              <a:rPr b="0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华文仿宋"/>
              </a:rPr>
              <a:t>蝉的屠夫”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华文仿宋"/>
              <a:ea typeface="华文仿宋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08720" y="2708280"/>
            <a:ext cx="1057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捕蝉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76760" y="3500280"/>
            <a:ext cx="3171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我观察和实验的对象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24360" y="4292640"/>
            <a:ext cx="1409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华文仿宋"/>
              </a:rPr>
              <a:t>吃蝉肉时</a:t>
            </a:r>
            <a:endParaRPr b="1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华文仿宋"/>
              <a:ea typeface="华文仿宋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13252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些称呼表达了法布尔先生对生命的热爱，使文章更生动形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作特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语言生动形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拟人，比喻贴切自然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细黑"/>
              </a:rPr>
              <a:t>突出特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9144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课后作业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133720"/>
            <a:ext cx="84358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A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摘录文中优美的词语、句子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B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课外阅读法布尔的《昆虫论》，并作读书笔记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63640" y="692280"/>
            <a:ext cx="53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彩云"/>
              </a:rPr>
              <a:t>谢谢大家！</a:t>
            </a:r>
            <a:endParaRPr b="0" lang="en-US" sz="1800" spc="1" strike="noStrike">
              <a:ln w="12600">
                <a:solidFill>
                  <a:srgbClr val="ffcc66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3068640"/>
            <a:ext cx="403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脚本：周承义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课件制作：邹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10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08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889308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xit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6:49:21Z</dcterms:created>
  <dc:creator>wutao</dc:creator>
  <dc:description/>
  <dc:language>en-US</dc:language>
  <cp:lastModifiedBy>zyb</cp:lastModifiedBy>
  <dcterms:modified xsi:type="dcterms:W3CDTF">2004-11-30T05:36:16Z</dcterms:modified>
  <cp:revision>100</cp:revision>
  <dc:subject/>
  <dc:title>PowerPoint 演示文稿</dc:title>
</cp:coreProperties>
</file>