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80E-15E7-4D18-9728-9D4F27E1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9D9-A968-4123-8146-3B1B2876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283-0473-4D2B-9E72-D1CA8577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FC8-52AB-499C-927D-EDBBBB9C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DB4-F846-44A6-8A6E-781FA73D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A4E-26E4-47EE-BB9F-00584841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45F-5386-4897-B738-0DF565F9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3CE-3C81-4DA2-B370-1F49AD16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377-0E3D-4F1F-A065-AB719304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F72-9676-456F-8287-DF132C5F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893-80A5-408E-9A6F-8C7AD9CC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5DB-A8FD-4A15-8C39-9094694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BD36-C838-45E3-8894-66897B53E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2240" y="99072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304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66040" y="16286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6600"/>
                </a:solidFill>
                <a:latin typeface="Arial"/>
              </a:rPr>
              <a:t>绿色蝈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3320" y="35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法布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快速阅读的技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Arial"/>
              </a:rPr>
              <a:t>紧抓中心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Arial"/>
              </a:rPr>
              <a:t>紧抓中心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88000" y="1052640"/>
            <a:ext cx="410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i="1" lang="zh-CN" sz="8000" spc="-1" strike="noStrike">
                <a:solidFill>
                  <a:srgbClr val="ff0066"/>
                </a:solidFill>
                <a:latin typeface="Arial"/>
                <a:ea typeface="华文彩云"/>
              </a:rPr>
              <a:t>你 最 喜欢 的 是哪几段</a:t>
            </a:r>
            <a:r>
              <a:rPr b="1" i="1" lang="zh-CN" sz="8000" spc="-1" strike="noStrike">
                <a:solidFill>
                  <a:srgbClr val="ff0066"/>
                </a:solidFill>
                <a:latin typeface="Arial"/>
                <a:ea typeface="黑体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97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99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87640" y="54900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黑体"/>
              </a:rPr>
              <a:t>蝈蝈的“歌声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窃窃私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像是滑轮的响声；又像是干皱的薄膜隐隐约约的作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暗哑、类锐、急促、清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比：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蝈蝈的叫声——蝉的叫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990760" y="1936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运用拟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5280" y="3222720"/>
            <a:ext cx="1886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运用比喻）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64800" y="4662360"/>
            <a:ext cx="756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进一步加深对蝈蝈叫声的认识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608004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作者对蝈蝈的喜爱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08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00"/>
                </a:solidFill>
                <a:latin typeface="Arial"/>
                <a:ea typeface="幼圆"/>
              </a:rPr>
              <a:t>你 认为 蝈蝈 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00"/>
                </a:solidFill>
                <a:latin typeface="Arial"/>
                <a:ea typeface="幼圆"/>
              </a:rPr>
              <a:t>叫声 还像 什么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eba"/>
            </a:gs>
            <a:gs pos="50000">
              <a:srgbClr val="99ff66"/>
            </a:gs>
            <a:gs pos="100000">
              <a:srgbClr val="d0fe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5338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勇敢地纵身追捕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惊慌失措地飞起逃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蝈蝈捕蝉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鹰捕云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4762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狂热的狩猎者”—“蝉的屠夫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45240" y="1484280"/>
            <a:ext cx="2498760" cy="4942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2276640"/>
            <a:ext cx="360360" cy="2665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69480 h 2665080"/>
              <a:gd name="textAreaBottom" fmla="*/ 2595600 h 26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205000"/>
            <a:ext cx="79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拟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2276640"/>
            <a:ext cx="216000" cy="2736720"/>
          </a:xfrm>
          <a:custGeom>
            <a:avLst/>
            <a:gdLst>
              <a:gd name="textAreaLeft" fmla="*/ 0 w 216000"/>
              <a:gd name="textAreaRight" fmla="*/ 78120 w 216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2276640"/>
            <a:ext cx="647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勇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顽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5300640"/>
            <a:ext cx="554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对蝈蝈的喜爱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147492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谜语一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小小诸葛亮，稳坐中军帐。布下八卦阵，捉拿飞来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谜语二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姑娘，日夜忙，会抽丝。会织网；织出网来不捉鱼，提些小虫当口粮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5950080"/>
            <a:ext cx="280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（蜘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b0ea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谜语自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6000" y="1557360"/>
            <a:ext cx="89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身穿绿袍子，苗条又匀称，手持双大刀。有人不吱声，无人大声喊，弹琴黑夜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5229360"/>
            <a:ext cx="36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Arial"/>
              </a:rPr>
              <a:t>（蝈蝈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观察细致，抓住事物特征，同时可以适当的运用对比、拟人、比喻等修辞手法，使文章更生动活泼，更富表现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下面是一幅兔子的图画，请仔细观察，口述它的外表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3336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通过这篇文章的学习，我们知道描写事物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e9d"/>
            </a:gs>
            <a:gs pos="50000">
              <a:srgbClr val="99ff66"/>
            </a:gs>
            <a:gs pos="100000">
              <a:srgbClr val="bdfe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4560" cy="6284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选择自己熟悉喜爱的一种小动物，运用拟人、对比等手法写一段话，</a:t>
            </a: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200</a:t>
            </a: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字左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d1a7d1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54440" cy="4897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26028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         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法布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119700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国著名昆虫学家，他用了几十年的时间，写了一部很有影响力的书——《昆虫的故事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昆虫的故事》原名《昆虫记》，行文生动活泼，语言传神，内容多集中在昆虫学问题上，很受青少年的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afe9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7080" y="549360"/>
            <a:ext cx="4310280" cy="604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5280" y="836640"/>
            <a:ext cx="374652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鲁迅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讲昆虫故事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讲昆虫生活”的楷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新字生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6868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喧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哑             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　　             静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猎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劫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       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窸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55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ōu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8960" y="2349360"/>
            <a:ext cx="40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uān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iā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30686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ī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3141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uàn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933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ǚ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40053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ì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7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á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486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ò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558972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ü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03280" y="5734080"/>
            <a:ext cx="27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ī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116000" y="1268280"/>
            <a:ext cx="7128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读到了什么？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eef"/>
            </a:gs>
            <a:gs pos="50000">
              <a:srgbClr val="99ff66"/>
            </a:gs>
            <a:gs pos="100000">
              <a:srgbClr val="f4fe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蝈蝈的外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24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种昆虫非常漂亮，浑身嫩绿，侧面有两条淡白色的丝带，身材优美，苗条匀称，两片大翼轻盈如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着有力的大颚、锐利的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546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e4fed7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497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ff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黑体"/>
                <a:ea typeface="黑体"/>
              </a:rPr>
              <a:t>讨论一：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作者主要写了绿色蝈蝈的哪些习性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蝈蝈的</a:t>
            </a:r>
            <a:r>
              <a:rPr b="1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叫声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食性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e9d"/>
            </a:gs>
            <a:gs pos="50000">
              <a:srgbClr val="99ff66"/>
            </a:gs>
            <a:gs pos="100000">
              <a:srgbClr val="bdfe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162000"/>
            <a:ext cx="849780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讨论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蝈蝈喜欢吃什么？吃东西时有什么习惯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吃蝉、水果、金龟子一类的昆虫、青草，也吃同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当拥有共同食物时，蝈蝈一个一个进食。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2:45:27Z</dcterms:created>
  <dc:creator>wutao</dc:creator>
  <dc:description/>
  <dc:language>en-US</dc:language>
  <cp:lastModifiedBy>Compaq</cp:lastModifiedBy>
  <dcterms:modified xsi:type="dcterms:W3CDTF">2003-12-05T03:07:44Z</dcterms:modified>
  <cp:revision>100</cp:revision>
  <dc:subject/>
  <dc:title>绿色蝈蝈</dc:title>
</cp:coreProperties>
</file>