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C78-3FE7-4008-B38A-D08B07BE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66B-15CB-4751-92FC-79B1B4D0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01D-1D66-44DF-9CC1-8384E07A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46B-893D-401E-967C-18ECFB6D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65F8-163E-4947-957F-76B46092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3619-C5D5-416D-8A6F-832FF0B7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7CA8-E59A-42BC-9A97-F3E6435A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FBCE-15A2-4FA8-8489-54124D3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AAD5-6811-42BB-BA9B-9266FA4F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A748-A161-4F2C-BB8C-31B51019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BD92-93E2-4430-9E48-78E562AC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38D-42A7-461D-8192-A7797291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2D70-97FC-48D5-94D7-44CE110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ED57-C80E-4903-9EAF-B1F87615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A407-AC71-44BF-92A2-7D956F99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643F-9B81-433E-9FDD-18E921DC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0130-DB9A-47D6-9024-76958ADB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7C4-4D04-40FA-9462-570737B7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7B8-DD87-46FA-989B-77A49D35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03A-4A53-4401-A8BA-D8BADBBE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A90-5C3B-4635-A9D5-73963FB4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B86-EDD8-45D1-A65D-1F882C9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294-20B8-43CE-BE26-B956420A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7B3-92C7-4129-AF0B-02A40A7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FBD3-9E39-4CBA-8181-7A0D14CF5731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9E2F-F17B-4365-BF1D-22BD541EF850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file:///tmp/home/.config/libreoffice/4/user/gallery/&#34632;&#34632;2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rcRect l="0" t="9694" r="0" b="0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3"/>
          </p:cNvPr>
          <p:cNvSpPr/>
          <p:nvPr/>
        </p:nvSpPr>
        <p:spPr>
          <a:xfrm>
            <a:off x="79246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943"/>
                </a:moveTo>
                <a:lnTo>
                  <a:pt x="8224" y="9943"/>
                </a:lnTo>
                <a:lnTo>
                  <a:pt x="12645" y="5330"/>
                </a:lnTo>
                <a:lnTo>
                  <a:pt x="12645" y="19343"/>
                </a:lnTo>
                <a:lnTo>
                  <a:pt x="8224" y="14730"/>
                </a:lnTo>
                <a:lnTo>
                  <a:pt x="3794" y="14730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17806" y="12337"/>
                </a:lnTo>
              </a:path>
              <a:path fill="darken" w="21600" h="24673">
                <a:moveTo>
                  <a:pt x="14299" y="9943"/>
                </a:moveTo>
                <a:lnTo>
                  <a:pt x="17806" y="7175"/>
                </a:lnTo>
              </a:path>
              <a:path fill="darken" w="21600" h="24673">
                <a:moveTo>
                  <a:pt x="14299" y="14730"/>
                </a:moveTo>
                <a:lnTo>
                  <a:pt x="17806" y="17498"/>
                </a:lnTo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575280" y="0"/>
            <a:ext cx="2191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39b1c"/>
                </a:solidFill>
                <a:latin typeface="Times New Roman"/>
                <a:ea typeface="华文新魏"/>
              </a:rPr>
              <a:t>绿色蝈蝈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2120"/>
            <a:ext cx="678168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ahoma"/>
                <a:ea typeface="黑体"/>
              </a:rPr>
              <a:t>六、三次递读，探究方法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76680" y="17524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、作者在介绍蝈蝈的特点时，用了些什么手法？你觉得哪些地方值得你借鉴学习？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48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请同学们进行第三次速读，并进行讨论。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67676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</a:rPr>
              <a:t>文章介绍事物特点时的两种手法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拟人和对比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1522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</a:rPr>
              <a:t>介绍事物特点时的两种手法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981000"/>
            <a:ext cx="8381880" cy="2319120"/>
            <a:chOff x="304920" y="981000"/>
            <a:chExt cx="8381880" cy="23191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981000"/>
              <a:ext cx="6283080" cy="2319120"/>
              <a:chOff x="304920" y="981000"/>
              <a:chExt cx="6283080" cy="2319120"/>
            </a:xfrm>
          </p:grpSpPr>
          <p:sp>
            <p:nvSpPr>
              <p:cNvPr id="176" name=""/>
              <p:cNvSpPr/>
              <p:nvPr/>
            </p:nvSpPr>
            <p:spPr>
              <a:xfrm>
                <a:off x="1752480" y="981000"/>
                <a:ext cx="4343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Times New Roman"/>
                  </a:rPr>
                  <a:t>蝈蝈——蝉（叫声）</a:t>
                </a:r>
                <a:endParaRPr b="0" lang="en-US" sz="3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52480" y="1819440"/>
                <a:ext cx="4343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Times New Roman"/>
                  </a:rPr>
                  <a:t>蝈蝈——鹰（捕食）</a:t>
                </a:r>
                <a:endParaRPr b="0" lang="en-US" sz="3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52480" y="2657520"/>
                <a:ext cx="483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Times New Roman"/>
                  </a:rPr>
                  <a:t>蝈蝈——螳螂（食性）</a:t>
                </a:r>
                <a:endParaRPr b="0" lang="en-US" sz="3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47920" y="1165320"/>
                <a:ext cx="304560" cy="190476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4920" y="17748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对比</a:t>
                </a:r>
                <a:endParaRPr b="0" lang="en-US" sz="3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6248520" y="1165320"/>
                <a:ext cx="304560" cy="190476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629400" y="17431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突出特征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80880" y="3701880"/>
            <a:ext cx="8277480" cy="2319120"/>
            <a:chOff x="380880" y="3701880"/>
            <a:chExt cx="8277480" cy="2319120"/>
          </a:xfrm>
        </p:grpSpPr>
        <p:sp>
          <p:nvSpPr>
            <p:cNvPr id="184" name=""/>
            <p:cNvSpPr/>
            <p:nvPr/>
          </p:nvSpPr>
          <p:spPr>
            <a:xfrm>
              <a:off x="1752480" y="370188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“</a:t>
              </a: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窃窃私语”、“津津有味”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4540320"/>
              <a:ext cx="518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“</a:t>
              </a: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身材优美”、“苗条匀称”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28800" y="5378400"/>
              <a:ext cx="647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“</a:t>
              </a: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酷爱甜食”、“宽容”、“妒忌”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886200"/>
              <a:ext cx="304920" cy="19051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45403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拟人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620120" y="3886200"/>
              <a:ext cx="304560" cy="19051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80720" y="3809880"/>
              <a:ext cx="1277640" cy="22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形象生动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461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ahoma"/>
                <a:ea typeface="黑体"/>
              </a:rPr>
              <a:t>七、迁移训练，运用方法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960" y="9907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请同学们仔细观察以下动物，结合自己平时对它们的了解，看看它们有哪些特点？并试着用拟人和对比手法口头介绍它们的某个特点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95280" y="2590920"/>
            <a:ext cx="2514600" cy="1933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334120" y="2514600"/>
            <a:ext cx="2590560" cy="1909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48640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1371600" y="44956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ahoma"/>
                <a:ea typeface="黑体"/>
              </a:rPr>
              <a:t>八、交流归纳，小结学法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、通过这节课的学习，说说看，你从法布尔和同学们身上学到了的什么？</a:t>
            </a:r>
            <a:r>
              <a:rPr b="0" lang="zh-CN" sz="30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727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（细致的观察，抓住事物的特征，运用拟人和对比手法等）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巩固知识、能力目标；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117880"/>
            <a:ext cx="495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、本文在写作上的特点？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79404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、感受和学习作者仔细观察、勤于探索的科学方法和科学精神，巩固本课教学的情感、态度目标；</a:t>
            </a:r>
            <a:r>
              <a:rPr b="0" lang="zh-CN" sz="3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487692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、总结在学习中得到的学习经验（快速阅读的方法，观察的方法，讨论探究等）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7621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法布尔之所以执著而艰难 地坚持自己的研究和探索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是因为他有着某种精神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;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那就是求真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即追求真理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探求真相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如果没有这种精神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就没有《昆虫记》，人类的精神之树将少掉一颗智慧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之果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609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ff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比看那些无聊的小说更有趣味，更有意义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                  ——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中国  周作人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3200400"/>
            <a:ext cx="8991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这个大科学家像哲学家一般的想，美术家一般的看，文学家一般的感受而且抒写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   ——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法国戏剧家    罗斯丹（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Rostand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3520" y="725400"/>
            <a:ext cx="8305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这样的作品在世界上诚属空前绝后。没有哪位昆虫学家具备如此高明的文学表达才能，没有哪位作家具备如此博大精深的昆虫学造诣；况且，那又是一个群情共振的雨果、巴尔扎克、左拉文学时代，一个势不可挡的拉马克、达尔文、魏斯曼生物学时代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       ——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王光《法布尔精神》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5622840"/>
            <a:ext cx="835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达尔文称他是“难以效法的观察家”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8319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ahoma"/>
                <a:ea typeface="黑体"/>
              </a:rPr>
              <a:t>九、布置作业，培养兴趣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、课外选读法布尔的《昆虫记》中的文章，做好摘录笔记，并写下自己的心得体会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、课外仔细观察一种小动物，做好它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形、声、色、味、食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等方面特征的观察笔记，并整理成一篇文章。</a:t>
            </a: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8080" y="1371600"/>
            <a:ext cx="7467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0" lang="en-US" sz="2400" spc="1" strike="noStrike">
              <a:ln w="1260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1219320"/>
            <a:ext cx="861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26212"/>
                </a:solidFill>
                <a:latin typeface="宋体"/>
              </a:rPr>
              <a:t>猜谜游戏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谜一：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小小诸葛亮，稳坐中军帐。布下八卦阵，捉拿飞来将。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谜二：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小姑娘，日夜忙，会抽丝。会织网；织出网来不捉鱼，提些小虫当口粮。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60948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33"/>
                </a:solidFill>
                <a:latin typeface="Tahoma"/>
                <a:ea typeface="黑体"/>
              </a:rPr>
              <a:t>一、导入新课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38280" y="441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蜘蛛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26212"/>
                </a:solidFill>
                <a:latin typeface="Times New Roman"/>
              </a:rPr>
              <a:t>大家说说，你是根据什么把谜底给猜出来的呢？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9718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Times New Roman"/>
              </a:rPr>
              <a:t>介绍事物，必须抓住事物特点进行说明</a:t>
            </a:r>
            <a:r>
              <a:rPr b="0" lang="zh-CN" sz="54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7328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1823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年法布尔生于法国南部一个农民家中。童年时代就迷上了户外大自然的花草虫鸟。在他不足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岁时就立志研究昆虫。后来靠自学获得了自然科学硕士、博士学位。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1880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年，法布尔用积攒的一小笔钱，在小镇附近购得一处坐落在荒地上的老旧民宅，进一步研究活虫子的计划即将变成现实。他精神舒畅，用当地普罗旺斯语给这处居所取了个风趣的雅号荒石园。年复一年，荒石园主人穿着农民的粗呢子外套，吃着普通老百姓的清汤淡饭，用尖镐平铲刨挖，于是，花草争妍，灌木成丛，一座百虫乐园建好了。他守着心爱的荒石园，开足生命的马力，不知疲倦地从事独具特色的昆虫学研究，把劳动成果写进一卷又一卷的《昆虫记》。他就这样，孤独、欢欣、清苦、平静地度过了他最后的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年。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522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、作者简价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006600"/>
                </a:solidFill>
                <a:latin typeface="Tahoma"/>
              </a:rPr>
              <a:t>昆虫记</a:t>
            </a:r>
            <a:r>
              <a:rPr b="0" lang="zh-CN" sz="4400" spc="-1" strike="noStrike">
                <a:solidFill>
                  <a:srgbClr val="006600"/>
                </a:solidFill>
                <a:latin typeface="宋体"/>
              </a:rPr>
              <a:t>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他是花了近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0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年的时间（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870—1889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写成的，此时正是法布尔人生中年到老年的漫长二十年里，以科学严谨的态度，童真而又仔细地观察了大量昆虫的活动，用富足的第一手资料，真实而生动的向我们揭示了昆虫王国的别样景观。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6212"/>
                </a:solidFill>
                <a:latin typeface="Times New Roman"/>
                <a:ea typeface="黑体"/>
              </a:rPr>
              <a:t>三、检查预习，积累字词</a:t>
            </a:r>
            <a:r>
              <a:rPr b="0" lang="zh-CN" sz="3600" spc="-1" strike="noStrike">
                <a:solidFill>
                  <a:srgbClr val="02621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" y="2438280"/>
            <a:ext cx="85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篝　火     喧　嚣      喑　哑      篡　夺    吮   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752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gō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4197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静　谧     哀　号      狩　猎     劫　掠     窸  窣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17524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xuān xiā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1752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yī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1752480"/>
            <a:ext cx="10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àn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84880" y="170640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shǔ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3809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mì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840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há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840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shò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3840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lüè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91520" y="3809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x ī  s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26212"/>
                </a:solidFill>
                <a:latin typeface="Tahoma"/>
                <a:ea typeface="黑体"/>
              </a:rPr>
              <a:t>四、快速阅读，概括要点，合作讨论，探究方法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2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、快速阅读，概括要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、快速阅读全文，找找看：文章介绍了蝈蝈哪些方面的特点？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3733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请你谈谈进行快速阅读时的经验体会，总结出快速阅读的方法和技巧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80060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快速阅读的方法和技巧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找中心句，抓关键词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5228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26212"/>
                </a:solidFill>
                <a:latin typeface="Tahoma"/>
                <a:ea typeface="黑体"/>
              </a:rPr>
              <a:t>五、再次速读，交流小结：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6108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介绍事物要抓住事物的特征。从本文的叙述和介绍中，大家想想，介绍特征时可从哪些方面入手呢？我们如何才能抓住事物的特征呢？</a:t>
            </a: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88296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把握介绍事物特征的几个方面的内容：即</a:t>
            </a:r>
            <a:r>
              <a:rPr b="0" lang="zh-CN" sz="3600" spc="-1" strike="noStrike" u="sng">
                <a:solidFill>
                  <a:srgbClr val="ff5050"/>
                </a:solidFill>
                <a:uFillTx/>
                <a:latin typeface="Times New Roman"/>
              </a:rPr>
              <a:t>形、色、声、食、味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等，明确观察的着眼点或方法，为下一步的观察做准备。明确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观察、思考、探索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的重要意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0:33:35Z</dcterms:created>
  <dc:creator>wutao</dc:creator>
  <dc:description/>
  <dc:language>en-US</dc:language>
  <cp:lastModifiedBy>a</cp:lastModifiedBy>
  <dcterms:modified xsi:type="dcterms:W3CDTF">2004-12-16T05:29:12Z</dcterms:modified>
  <cp:revision>100</cp:revision>
  <dc:subject/>
  <dc:title>PowerPoint 演示文稿</dc:title>
</cp:coreProperties>
</file>