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B75-B6D2-4AC9-8273-4DCE0386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EAC-C18B-4D89-AFC6-1B60F13E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A9D-B4FC-4EDF-B742-D65CD73D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94B-EF46-4D47-9618-6CFC5F5B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DD1C-C171-4B4C-8912-268A8C2B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11CC-1580-4A45-BC95-F5AF0CC5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5496-1171-40F4-B945-A93D91B2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558D-EB43-45EC-8D99-ADFC995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EA89-AF73-40C6-9ECC-B0B1CEA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CFAD-1880-4708-8A99-9C2AA272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30DF-EFDD-434A-ACB1-A7FBAF00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D44-8B0B-46BF-BDE2-C718289C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018B-462E-4D4B-A6C1-4677192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70D-EFB6-438D-B1A4-E8782541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F3E-51AA-461C-9597-7865464E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BFFD-C103-44C9-8042-C7CB6F22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6EF1-E95B-49E4-B829-49B650B2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EBC-3B4D-4CC8-B86D-33F09092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BCD-4627-4CC9-A0C5-A80C5993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F1D-F11C-4638-8EC3-089A3FF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9FD-4120-4404-9AB7-90D3A9E8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FDE-F785-46D8-A55F-20AD079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F42-565F-4326-A4A3-BA5970C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734-F797-46EC-BD17-C5125C1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4A31-732E-4286-B319-98CB4322ED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4965-0B78-44B4-A3B2-D62475B11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219640" y="242100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905120" y="1295280"/>
            <a:ext cx="49528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绿色蝈蝈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67080" y="281952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作者：法布尔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40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8672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29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10760" cy="639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91400" cy="6143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2804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4400" y="3808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生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00000" y="1197000"/>
            <a:ext cx="1314720" cy="969480"/>
            <a:chOff x="900000" y="1197000"/>
            <a:chExt cx="1314720" cy="969480"/>
          </a:xfrm>
        </p:grpSpPr>
        <p:sp>
          <p:nvSpPr>
            <p:cNvPr id="162" name=""/>
            <p:cNvSpPr/>
            <p:nvPr/>
          </p:nvSpPr>
          <p:spPr>
            <a:xfrm>
              <a:off x="990720" y="15238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篝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0000" y="119700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ō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90720" y="121932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33720" y="1197000"/>
            <a:ext cx="1655640" cy="969480"/>
            <a:chOff x="2133720" y="1197000"/>
            <a:chExt cx="1655640" cy="969480"/>
          </a:xfrm>
        </p:grpSpPr>
        <p:sp>
          <p:nvSpPr>
            <p:cNvPr id="166" name=""/>
            <p:cNvSpPr/>
            <p:nvPr/>
          </p:nvSpPr>
          <p:spPr>
            <a:xfrm>
              <a:off x="2133720" y="15238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哀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95640" y="1197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ā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200400" y="1197000"/>
            <a:ext cx="1752480" cy="969480"/>
            <a:chOff x="3200400" y="1197000"/>
            <a:chExt cx="1752480" cy="969480"/>
          </a:xfrm>
        </p:grpSpPr>
        <p:sp>
          <p:nvSpPr>
            <p:cNvPr id="169" name=""/>
            <p:cNvSpPr/>
            <p:nvPr/>
          </p:nvSpPr>
          <p:spPr>
            <a:xfrm>
              <a:off x="3352680" y="15238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喧  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0400" y="1197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uān  xiā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705720" y="1219320"/>
            <a:ext cx="1224000" cy="885960"/>
            <a:chOff x="6705720" y="1219320"/>
            <a:chExt cx="1224000" cy="885960"/>
          </a:xfrm>
        </p:grpSpPr>
        <p:sp>
          <p:nvSpPr>
            <p:cNvPr id="172" name=""/>
            <p:cNvSpPr/>
            <p:nvPr/>
          </p:nvSpPr>
          <p:spPr>
            <a:xfrm>
              <a:off x="6705720" y="15238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静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12160" y="1219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05520" y="1219320"/>
            <a:ext cx="1155600" cy="947160"/>
            <a:chOff x="5105520" y="1219320"/>
            <a:chExt cx="1155600" cy="947160"/>
          </a:xfrm>
        </p:grpSpPr>
        <p:sp>
          <p:nvSpPr>
            <p:cNvPr id="175" name=""/>
            <p:cNvSpPr/>
            <p:nvPr/>
          </p:nvSpPr>
          <p:spPr>
            <a:xfrm>
              <a:off x="5105520" y="15238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喑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121932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īn  yǎ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914400" y="2438280"/>
            <a:ext cx="1300320" cy="1099800"/>
            <a:chOff x="914400" y="2438280"/>
            <a:chExt cx="1300320" cy="1099800"/>
          </a:xfrm>
        </p:grpSpPr>
        <p:sp>
          <p:nvSpPr>
            <p:cNvPr id="178" name=""/>
            <p:cNvSpPr/>
            <p:nvPr/>
          </p:nvSpPr>
          <p:spPr>
            <a:xfrm>
              <a:off x="914400" y="243828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à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篡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09680" y="2438280"/>
            <a:ext cx="1376640" cy="1099800"/>
            <a:chOff x="2209680" y="2438280"/>
            <a:chExt cx="1376640" cy="1099800"/>
          </a:xfrm>
        </p:grpSpPr>
        <p:sp>
          <p:nvSpPr>
            <p:cNvPr id="181" name=""/>
            <p:cNvSpPr/>
            <p:nvPr/>
          </p:nvSpPr>
          <p:spPr>
            <a:xfrm>
              <a:off x="2209680" y="24382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zhō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螽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657600" y="2438280"/>
            <a:ext cx="1295280" cy="1099800"/>
            <a:chOff x="3657600" y="2438280"/>
            <a:chExt cx="1295280" cy="1099800"/>
          </a:xfrm>
        </p:grpSpPr>
        <p:sp>
          <p:nvSpPr>
            <p:cNvPr id="184" name=""/>
            <p:cNvSpPr/>
            <p:nvPr/>
          </p:nvSpPr>
          <p:spPr>
            <a:xfrm>
              <a:off x="365760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莴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2438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ō  j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105520" y="2514600"/>
            <a:ext cx="1224000" cy="1023480"/>
            <a:chOff x="5105520" y="2514600"/>
            <a:chExt cx="1224000" cy="1023480"/>
          </a:xfrm>
        </p:grpSpPr>
        <p:sp>
          <p:nvSpPr>
            <p:cNvPr id="187" name=""/>
            <p:cNvSpPr/>
            <p:nvPr/>
          </p:nvSpPr>
          <p:spPr>
            <a:xfrm>
              <a:off x="5638680" y="2514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i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低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553080" y="2514600"/>
            <a:ext cx="1224000" cy="1023480"/>
            <a:chOff x="6553080" y="2514600"/>
            <a:chExt cx="1224000" cy="1023480"/>
          </a:xfrm>
        </p:grpSpPr>
        <p:sp>
          <p:nvSpPr>
            <p:cNvPr id="190" name=""/>
            <p:cNvSpPr/>
            <p:nvPr/>
          </p:nvSpPr>
          <p:spPr>
            <a:xfrm>
              <a:off x="655308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大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66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914400" y="3657600"/>
            <a:ext cx="1224000" cy="1099800"/>
            <a:chOff x="914400" y="3657600"/>
            <a:chExt cx="1224000" cy="1099800"/>
          </a:xfrm>
        </p:grpSpPr>
        <p:sp>
          <p:nvSpPr>
            <p:cNvPr id="193" name=""/>
            <p:cNvSpPr/>
            <p:nvPr/>
          </p:nvSpPr>
          <p:spPr>
            <a:xfrm>
              <a:off x="914400" y="365760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i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4400" y="41148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钳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24160" y="3695760"/>
            <a:ext cx="1224000" cy="1085400"/>
            <a:chOff x="2324160" y="3695760"/>
            <a:chExt cx="1224000" cy="1085400"/>
          </a:xfrm>
        </p:grpSpPr>
        <p:sp>
          <p:nvSpPr>
            <p:cNvPr id="196" name=""/>
            <p:cNvSpPr/>
            <p:nvPr/>
          </p:nvSpPr>
          <p:spPr>
            <a:xfrm>
              <a:off x="2603520" y="369576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ǎ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24160" y="41385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素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57600" y="3733920"/>
            <a:ext cx="2286000" cy="1099800"/>
            <a:chOff x="3657600" y="3733920"/>
            <a:chExt cx="2286000" cy="1099800"/>
          </a:xfrm>
        </p:grpSpPr>
        <p:sp>
          <p:nvSpPr>
            <p:cNvPr id="199" name=""/>
            <p:cNvSpPr/>
            <p:nvPr/>
          </p:nvSpPr>
          <p:spPr>
            <a:xfrm>
              <a:off x="5029200" y="3733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hu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576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无庸置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943600" y="3733920"/>
            <a:ext cx="1224000" cy="1099800"/>
            <a:chOff x="5943600" y="3733920"/>
            <a:chExt cx="1224000" cy="1099800"/>
          </a:xfrm>
        </p:grpSpPr>
        <p:sp>
          <p:nvSpPr>
            <p:cNvPr id="202" name=""/>
            <p:cNvSpPr/>
            <p:nvPr/>
          </p:nvSpPr>
          <p:spPr>
            <a:xfrm>
              <a:off x="5943600" y="3733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ǔ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3600" y="4191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吮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086600" y="3733920"/>
            <a:ext cx="1224000" cy="1099800"/>
            <a:chOff x="7086600" y="3733920"/>
            <a:chExt cx="1224000" cy="1099800"/>
          </a:xfrm>
        </p:grpSpPr>
        <p:sp>
          <p:nvSpPr>
            <p:cNvPr id="205" name=""/>
            <p:cNvSpPr/>
            <p:nvPr/>
          </p:nvSpPr>
          <p:spPr>
            <a:xfrm>
              <a:off x="7162920" y="3733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i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86600" y="4191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撇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14400" y="4876920"/>
            <a:ext cx="1224000" cy="1099800"/>
            <a:chOff x="914400" y="4876920"/>
            <a:chExt cx="1224000" cy="1099800"/>
          </a:xfrm>
        </p:grpSpPr>
        <p:sp>
          <p:nvSpPr>
            <p:cNvPr id="208" name=""/>
            <p:cNvSpPr/>
            <p:nvPr/>
          </p:nvSpPr>
          <p:spPr>
            <a:xfrm>
              <a:off x="91440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u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唾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209680" y="4876920"/>
            <a:ext cx="1224000" cy="1099800"/>
            <a:chOff x="2209680" y="4876920"/>
            <a:chExt cx="1224000" cy="1099800"/>
          </a:xfrm>
        </p:grpSpPr>
        <p:sp>
          <p:nvSpPr>
            <p:cNvPr id="211" name=""/>
            <p:cNvSpPr/>
            <p:nvPr/>
          </p:nvSpPr>
          <p:spPr>
            <a:xfrm>
              <a:off x="228600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ǎ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0968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扰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581280" y="4876920"/>
            <a:ext cx="1224000" cy="1099800"/>
            <a:chOff x="3581280" y="4876920"/>
            <a:chExt cx="1224000" cy="1099800"/>
          </a:xfrm>
        </p:grpSpPr>
        <p:sp>
          <p:nvSpPr>
            <p:cNvPr id="214" name=""/>
            <p:cNvSpPr/>
            <p:nvPr/>
          </p:nvSpPr>
          <p:spPr>
            <a:xfrm>
              <a:off x="373392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梧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00600" y="4876920"/>
            <a:ext cx="1219320" cy="1099800"/>
            <a:chOff x="4800600" y="4876920"/>
            <a:chExt cx="1219320" cy="1099800"/>
          </a:xfrm>
        </p:grpSpPr>
        <p:sp>
          <p:nvSpPr>
            <p:cNvPr id="217" name=""/>
            <p:cNvSpPr/>
            <p:nvPr/>
          </p:nvSpPr>
          <p:spPr>
            <a:xfrm>
              <a:off x="480060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ī  s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53341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窸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248520" y="4876920"/>
            <a:ext cx="1224000" cy="1099800"/>
            <a:chOff x="6248520" y="4876920"/>
            <a:chExt cx="1224000" cy="1099800"/>
          </a:xfrm>
        </p:grpSpPr>
        <p:sp>
          <p:nvSpPr>
            <p:cNvPr id="220" name=""/>
            <p:cNvSpPr/>
            <p:nvPr/>
          </p:nvSpPr>
          <p:spPr>
            <a:xfrm>
              <a:off x="624852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ò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4852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狩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543800" y="4876920"/>
            <a:ext cx="1224000" cy="1099800"/>
            <a:chOff x="7543800" y="4876920"/>
            <a:chExt cx="1224000" cy="1099800"/>
          </a:xfrm>
        </p:grpSpPr>
        <p:sp>
          <p:nvSpPr>
            <p:cNvPr id="223" name=""/>
            <p:cNvSpPr/>
            <p:nvPr/>
          </p:nvSpPr>
          <p:spPr>
            <a:xfrm>
              <a:off x="7620120" y="4876920"/>
              <a:ext cx="8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z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43800" y="53341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姊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772400" y="2438280"/>
            <a:ext cx="1224000" cy="1099800"/>
            <a:chOff x="7772400" y="2438280"/>
            <a:chExt cx="1224000" cy="1099800"/>
          </a:xfrm>
        </p:grpSpPr>
        <p:sp>
          <p:nvSpPr>
            <p:cNvPr id="226" name=""/>
            <p:cNvSpPr/>
            <p:nvPr/>
          </p:nvSpPr>
          <p:spPr>
            <a:xfrm>
              <a:off x="8291520" y="243828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72400" y="2895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贪婪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0000" y="1268280"/>
            <a:ext cx="77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似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{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{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2682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似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8456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191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47628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3808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、多音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126828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撇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191628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撇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6000" y="126828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u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19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u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29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喧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2997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声音杂乱，不清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喑哑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92360" y="37162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357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嗓子干涩发不出声音或发音低而不清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450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精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35280" y="450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安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5157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螽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35280" y="51577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昆虫，身体绿色或褐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9640" y="476280"/>
            <a:ext cx="80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572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窃窃私语” “津津有味” “酷爱甜食” “毫不犹豫地接受” 是拟人。这样写亲切自然，形象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438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、随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33526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去户外静听虫鸣鸟啼，辨别这些声音，并用一段话形象地描写出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983280" y="5129280"/>
            <a:ext cx="2160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38080" y="1600200"/>
            <a:ext cx="8001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你最喜欢哪个段落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4419720"/>
            <a:ext cx="7772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你最喜欢哪个词语或句子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210960"/>
            <a:ext cx="335268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畅所欲言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05800" y="1066680"/>
            <a:ext cx="1399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绿色蝈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1066680"/>
            <a:ext cx="76320" cy="5029200"/>
          </a:xfrm>
          <a:custGeom>
            <a:avLst/>
            <a:gdLst>
              <a:gd name="textAreaLeft" fmla="*/ 48960 w 76320"/>
              <a:gd name="textAreaRight" fmla="*/ 76320 w 7632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7621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特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905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漂亮、嫩绿、苗条、匀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36576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习性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572000"/>
            <a:ext cx="2819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叫声——柔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捕蝉——为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53080" y="914400"/>
            <a:ext cx="152640" cy="5181480"/>
          </a:xfrm>
          <a:custGeom>
            <a:avLst/>
            <a:gdLst>
              <a:gd name="textAreaLeft" fmla="*/ 0 w 152640"/>
              <a:gd name="textAreaRight" fmla="*/ 55080 w 15264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拟人生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0"/>
            <a:ext cx="86108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法布尔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823-1915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）法国著名科学家，科普作家。出生于农民家庭，从小生活极其穷困，作过中学教师，靠业余自学，花十二年的时间，先后取得自然科学学士和博士学位，著名著作有：《昆虫记》，该书文体基本为散文，主要探讨昆虫学问题。鲁迅曾把《昆虫记》称为“讲昆虫的故事”，“讲昆虫生活”的楷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533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四、写作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1523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、文艺笔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286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、生动传神的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、拟人手法的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38098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、通过比较来写蝈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000" y="4762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四    作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21337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描写一篇自己喜欢的的动物，语言生动形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1905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、你知道它的外表有哪些特点么？蝈蝈有哪些习性？蝈蝈的“耳朵”长在哪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6750000"/>
            <a:ext cx="108000" cy="10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523880" y="304920"/>
            <a:ext cx="22860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思考？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191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、作者对蝈蝈的称呼有哪些？作者在什么情况下用什么称呼，有什么好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3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9320" y="609480"/>
            <a:ext cx="16761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810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蝈蝈的外表特征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“这种昆虫非常漂亮，浑身嫩绿，侧面有两条淡白色的丝带，身材优美，苗条匀称，两片大翼轻盈如纱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7242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8006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蝈蝈的习性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写了蝈蝈的叫声和食性，主要写的是食物习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19320" y="228600"/>
            <a:ext cx="16761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7524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当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蝈蝈捕杀蝉时称：</a:t>
            </a:r>
            <a:r>
              <a:rPr b="1" lang="zh-CN" sz="3600" spc="-1" strike="noStrike">
                <a:solidFill>
                  <a:srgbClr val="003399"/>
                </a:solidFill>
                <a:latin typeface="Tahoma"/>
              </a:rPr>
              <a:t>狂热的狩猎者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当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蝈蝈成为作者笼中观察和实验的对象时称：</a:t>
            </a:r>
            <a:r>
              <a:rPr b="1" lang="zh-CN" sz="3600" spc="-1" strike="noStrike">
                <a:solidFill>
                  <a:srgbClr val="003399"/>
                </a:solidFill>
                <a:latin typeface="Tahoma"/>
              </a:rPr>
              <a:t>我笼里的囚犯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当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蝈蝈吃蝉肉时称：</a:t>
            </a:r>
            <a:r>
              <a:rPr b="1" lang="zh-CN" sz="3600" spc="-1" strike="noStrike">
                <a:solidFill>
                  <a:srgbClr val="003399"/>
                </a:solidFill>
                <a:latin typeface="Tahoma"/>
              </a:rPr>
              <a:t>蝉的屠夫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434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作者这样称呼蝈蝈的原因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不断变换称呼，使行文更生动，描写更形象，给人更深刻的印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726080" y="223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一共可分为几段，小组互相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中多处运用拟人的手法，找出几个例子，说说这样写的好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143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第一段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(1—2)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”在观察昆虫，用蝉的休息引出本文的主人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蝈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133720"/>
            <a:ext cx="64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362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段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：描写户外听到的蝈蝈的叫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3505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第三段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—1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）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我”对金属笼中的蝈蝈的观察，着重介绍蝈蝈的食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39120" cy="599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88160" cy="6288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2:48:21Z</dcterms:created>
  <dc:creator>wutao</dc:creator>
  <dc:description/>
  <dc:language>en-US</dc:language>
  <cp:lastModifiedBy>a</cp:lastModifiedBy>
  <dcterms:modified xsi:type="dcterms:W3CDTF">2004-12-16T05:29:48Z</dcterms:modified>
  <cp:revision>100</cp:revision>
  <dc:subject/>
  <dc:title>绿色蝈蝈                                 法布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